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C0EF-A949-4EEF-9962-467594C5D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BC9D-86A8-43CF-BDE0-29600019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FA39-DD39-45AE-835B-388570DEA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F49B-F70A-4FD2-902A-8C3B9A282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6E30-4AE4-460E-8D40-C4DED8AFF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D8AE-8E7A-4A3C-8B10-6CF834AC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24FC-8CCB-41FE-8C4F-1A69CD3F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84CA-5EC9-4341-8497-1A3E984F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ACA2-E6BA-4648-8F1A-705AC784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6757-592C-481A-A0D5-4B705D63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31E0-610A-4209-B46F-CF8D35C7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92FB-AFE6-49E9-8102-9585082C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AB44-2EC7-4778-B167-5A07CA63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7214-DDEF-4102-A521-C47619E4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7250-5575-4C5D-80A0-BDF518F5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04E1-0928-4DE9-AE06-6243CC4C4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10429-BB4D-424F-864B-66A266B3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052F-A384-4191-AD59-D17AB9B8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9B54-B613-4F09-AEF5-5554A89F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C7A4-5BF1-40E9-AEA1-860BA2FD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0634-FB20-44A2-8F8B-CA5BD7D4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D216-2E4A-4AA4-A1B1-31C7AB25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FB3F-4729-4B6E-8534-5D1D66E6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A503-99A9-43E7-A4D7-5BB6D5A4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0444-475B-4493-8901-849AFAA8DE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BD8C-87AE-4BBD-B529-B00D8789BD9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v1qUj3MuEc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ji-nPrbigxA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vTFdNk7JIoo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nsorimotor Syste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pter 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ondary Motor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pon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upplementary Motor Are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motor Corte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ingulate Motor Are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se areas are involved in planning and programming specific patterns of movement (prob’ly get instructions from DLPC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1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rror Neur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Neurons that fire when an individual performs a particular goal-directed hand movement or when watching the same goal-directed movement performed by another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Found in macaque ventral premotor neurons and inferior PPAC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Possible mechanism for social cognition (knowledge of perceptions, ideas, and intentions of others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Also found in PPAC that seem to respond to purpose of action rather than action itself (e.g. food that was to be eaten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Likely that these are present in humans as well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://www.youtube.com/watch?v=Sv1qUj3MuEc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mary Motor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ventional View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matotopic organiz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rganized according to a map of the bod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put from skin receptors in hand areas leads to Stereogno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being able to identify something by touch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b/c one hand area receives input from receptors in sk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un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itiate and control simple contralateral movemen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Picture 4" descr="Homunculus 1"/>
          <p:cNvPicPr/>
          <p:nvPr/>
        </p:nvPicPr>
        <p:blipFill>
          <a:blip r:embed="rId1"/>
          <a:stretch/>
        </p:blipFill>
        <p:spPr>
          <a:xfrm>
            <a:off x="0" y="0"/>
            <a:ext cx="899172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mary Motor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urrent Vie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New stimulation techniqu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rude somatotopic organiz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plex species-typical movements, e.g. feeding respon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ach location in the primary motor cortex can produce innumerable patterns of muscle contraction required to get a limb from any starting point to a target loc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ring of neurons related to end point of movement, not to direction of moveme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e route that neural signals follow from a given area of primary motor cortex is extremely plastic and is probably determined by feedback from the somatosensory syste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1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6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1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mary Motor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am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es this lead to paralysis?  N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sults i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decreased ability to move a part of body independentl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stereognosis (hard to identify by touch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decreased speed, force, accuracy of moveme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athways directly from secondary cortex to subcortical motor circui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9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9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5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5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erebellu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erebellar cortex and deep nuclei below i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part of descending motor pathw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re than 1/2 neurons of bra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pu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imary and secondary motor cortex, brain stem motor nuclei, feedback from somatosensory and vestibular syste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erebellu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very motor structure of the bra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utput is excitatory (while output of Basal Ganglia is inhibitory; balance between 2 systems allows for smooth, coordinated movement and disturbance in either will result in movement d/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un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ordinates and corrects ongoing movements (compares what you thought you were going to do with what is actually happening and corrects if problem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learning complex motor sequences, learning of sequences of movements in which timing is critical facto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ne-tuning and learning of cognitive respons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4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4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6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3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erebellu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am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se ability to control various aspects of movement (direction, force, velocity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n’t adapt movement to changing condi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jerky, erratic, uncoordinated mov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ard to maintain pos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blems with balance, gait, speech, eye mov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n’t learn new motor patter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://www.youtube.com/watch?v=ji-nPrbigx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9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9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al Gangl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part of descending motor pathw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pu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erebral cortex, esp. primary motor and primary somatosensory cortex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utpu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rough thalamus to various areas of motor cortex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28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aracteristics of Sensorimotor Syste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rection of information flo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wn the hierarch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rganiz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ierarchical, functional segregation, parall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eedba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om eyes, vestibular system, receptors from skin, muscles, joi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arn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itially conscious, after practice unconsciou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" dur="20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al Gangl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unct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 stop/limit and refine movements, prevent unwanted moveme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gnitive func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17000" indent="-2034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Learning to respond to obtain reward and avoid punishme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17000" indent="-2034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utput is inhibitory, “brake hypothesis” (to sit still, you must put the brakes on all movements except those reflexes that maintain an upright posture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am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sence of extraneous unwanted moveme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bsence or difficulty with intended moveme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6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8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2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scending Motor Pathway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eural signals from primary motor cortex to motor neurons of spinal cord are conducted over 4 different pathway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se pathways control voluntary mov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wo pathways in dorsolateral spinal cor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trol movements of the limb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wo pathways in ventromedial spinal cor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trol of posture and whole body movement (walking, climbing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5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5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4" descr="Dorsalateral Pathway"/>
          <p:cNvPicPr/>
          <p:nvPr/>
        </p:nvPicPr>
        <p:blipFill>
          <a:blip r:embed="rId1"/>
          <a:stretch/>
        </p:blipFill>
        <p:spPr>
          <a:xfrm>
            <a:off x="0" y="23760"/>
            <a:ext cx="89154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7" name="Picture 4" descr="Ventromedial Pathway"/>
          <p:cNvPicPr/>
          <p:nvPr/>
        </p:nvPicPr>
        <p:blipFill>
          <a:blip r:embed="rId1"/>
          <a:stretch/>
        </p:blipFill>
        <p:spPr>
          <a:xfrm>
            <a:off x="1676520" y="0"/>
            <a:ext cx="6026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udy Exercis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rtical Areas of Somatosensa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imary Somatosensory Cortex (SI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put from sensory receptors in the skin, mostly contralater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utput to PPA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matotopic Organization (touch friend’s back w/1-3fingers at same time, see p. 180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tains parallel strips of cells that respond to different types of somatosensory input (e.g. light touch, pressure and temperatur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9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rtical Areas of Somatosensa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mage to Primary Somatosensory Cortex (SI) results i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creased ability to perceive light tou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creased ability to identify objects by tou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9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7" name="Picture 3" descr="motor cortex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nsorimotor Association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sterior Parietal Association Corte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isual system, auditory system, somatosensory syst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rsolateral prefrontal association cortex, secondary motor cortex, frontal eye fiel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un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lps integrate info and attention re: position of body and location of objects to carry out mov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nsorimotor Association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osterior Parietal Association Cortex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mage can lead to movement disord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prax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ithout action, d/o of voluntary mov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t due to paralysis, weakness, cognitive prob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ard to carry out movements in response to verbal request, esp. out of contex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mage usually to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lef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posterior parietal assoc. cortex, although it normally affects both limb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536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s://www.youtube.com/watch?v=vTFdNk7JIo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4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4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5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5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7" dur="2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Posterior Parietal Association Cortex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tralateral neglec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n’t respond to stimuli on side of body contralateral to brain dam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t due to simple sensory or motor proble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sually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right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PPAC damage (large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refore, usually can’t respond to stimuli on L side of bo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ideo (23:24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4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4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8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5" name="Picture 4" descr="motor cortex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orsolateral Prefrontal Association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pu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sterior parietal association corte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utpu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condary motor cortex, primary motor cortex, frontal eye fiel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un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valuation of external stimuli and initiation of voluntary reactions to th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cision to initiate voluntary movement. Prob’ly in conjuction w/ PPA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77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7" dur="77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9" dur="77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1" dur="77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4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77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77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3" dur="77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ondary Motor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neral input and outpu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put from association cortices (somatosensory and visual inpu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utput to primary motor cortex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lectrical stimulation of these areas elicits complex movements, usually involving both sides of the bo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21:02:00Z</dcterms:created>
  <dc:creator>Campus Computing</dc:creator>
  <dc:description/>
  <dc:language>en-US</dc:language>
  <cp:lastModifiedBy>Lynne Trench</cp:lastModifiedBy>
  <dcterms:modified xsi:type="dcterms:W3CDTF">2021-03-17T18:09:52Z</dcterms:modified>
  <cp:revision>79</cp:revision>
  <dc:subject/>
  <dc:title>Sensorimotor System</dc:title>
</cp:coreProperties>
</file>