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10E-E0A1-4464-B892-46752CEC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D9F-B716-4A06-9644-5AB67C7F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B37-54A1-43D8-93D6-0EBF4CF3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DAB-AB41-4DE3-8F6C-A07C9A4F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5B81-E6FC-43B3-BEF1-3C6CE8DD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2325-9CD7-462E-A9F0-C0DA52C0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92F5-9951-4A37-9C47-BAB318B0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7231-D5E3-4008-8621-9E99A654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2AB4-8BBA-44EA-8F81-92EC31CE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B154-8802-4BB6-86A0-54692E94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ED9F-3427-4E0A-8B2A-329FD961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D3C-C79C-4CDF-A047-8815A484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9A51-FA74-40AE-B5A8-43E5B005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96C8-94D2-44FE-8CEA-F8E70673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E348-4A98-47BF-96E7-6E61F724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9B07-35B1-4414-A93E-2EBC5C19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E4B5-D95A-4505-BEC1-D31C8F49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2D4-3C07-4CAE-BCAC-4F89990A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1E9-20CF-4511-8237-72446B40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351-5422-401C-9FCD-2EFE33BD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BDF-1246-4203-A58F-70CFE070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3E4-6A0D-408F-9F21-953E4B27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CDB-9503-4F97-B3F5-2AA95856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B70-2D2A-419F-9FF3-3FAB852F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1DEF-57F3-405E-BD72-25A3A25AA2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3BB6-91B3-4468-99B7-90253C4775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1qUj3MuEc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i-nPrbigxA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vTFdNk7JIo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hapter 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ond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plementary Motor Ar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motor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ingulate Motor Are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areas are involved in planning and programming specific patterns of movement (prob’ly get instructions from DLPC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5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rror Neur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Neurons that fire when an individual performs a particular goal-directed hand movement or when watching the same goal-directed movement performed by another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Found in macaque ventral premotor neurons and inferior PPAC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Possible mechanism for social cognition (knowledge of perceptions, ideas, and intentions of others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Also found in PPAC that seem to respond to purpose of action rather than action itself (e.g. food that was to be eaten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</a:rPr>
              <a:t>Likely that these are present in humans as wel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Sv1qUj3MuEc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ventional Vie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atotopic organ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rganized according to a map of the bod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 from skin receptors in hand areas leads to Stereo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eing able to identify something by touc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/c one hand area receives input from receptors in sk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itiate and control simple contralateral mov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77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77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43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Picture 4" descr="Homunculus 1"/>
          <p:cNvPicPr/>
          <p:nvPr/>
        </p:nvPicPr>
        <p:blipFill>
          <a:blip r:embed="rId1"/>
          <a:stretch/>
        </p:blipFill>
        <p:spPr>
          <a:xfrm>
            <a:off x="0" y="0"/>
            <a:ext cx="899172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urrent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 stimulation techniqu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rude somatotopic organiz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plex species-typical movements, e.g. feeding respon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ach location in the primary motor cortex can produce innumerable patterns of muscle contraction required to get a limb from any starting point to a target lo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ring of neurons related to end point of movement, not to direction of mov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e route that neural signals follow from a given area of primary motor cortex is extremely plastic and is probably determined by feedback from the somatosensory syste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77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77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5" dur="77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im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es this lead to paralysis?  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sults i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creased ability to move a part of body independentl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stereognosis (hard to identify by touch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decreased speed, force, accuracy of mov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athways directly from secondary cortex to subcortical motor circui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erebellar cortex and deep nuclei below i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part of descending motor pathw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re than 1/2 neurons of br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mary and secondary motor cortex, brain stem motor nuclei, feedback from somatosensory and vestibular syst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very motor structure of the bra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is excitatory (while output of Basal Ganglia is inhibitory; balance between 2 systems allows for smooth, coordinated movement and disturbance in either will result in movement d/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ordinates and corrects ongoing movements (compares what you thought you were going to do with what is actually happening and corrects if problem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earning complex motor sequences, learning of sequences of movements in which timing is critical fact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ne-tuning and learning of cognitive respons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erebellu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se ability to control various aspects of movement (direction, force, velocity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’t adapt movement to changing condi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erky, erratic, uncoordinated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rd to maintain pos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blems with balance, gait, speech, eye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n’t learn new motor patter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ji-nPrbigx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al Gangl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part of descending motor pathw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erebral cortex, esp. primary motor and primary somatosensory corte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rough thalamus to various areas of motor corte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haracteristics of Sensorimotor Syste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rection of information fl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hierarch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rgan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erarchical, functional segregation, parall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eyes, vestibular system, receptors from skin, muscles, joi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arn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itially conscious, after practice unconscio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asal Gangl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top/limit and refine movements, prevent unwant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gnitive fun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earning to respond to obtain reward and avoid punish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17000" indent="-2034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utput is inhibitory, “brake hypothesis” (to sit still, you must put the brakes on all movements except those reflexes that maintain an upright postur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sence of extraneous unwant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bsence or difficulty with intended movemen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4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4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cending Motor Pathway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ural signals from primary motor cortex to motor neurons of spinal cord are conducted over 4 different path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pathways control voluntary mov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pathways in dorsolateral spinal c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rol movements of the limb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wo pathways in ventromedial spinal co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trol of posture and whole body movement (walking, climbing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4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4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4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4" descr="Dorsalateral Pathway"/>
          <p:cNvPicPr/>
          <p:nvPr/>
        </p:nvPicPr>
        <p:blipFill>
          <a:blip r:embed="rId1"/>
          <a:stretch/>
        </p:blipFill>
        <p:spPr>
          <a:xfrm>
            <a:off x="0" y="23760"/>
            <a:ext cx="89154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Picture 4" descr="Ventromedial Pathway"/>
          <p:cNvPicPr/>
          <p:nvPr/>
        </p:nvPicPr>
        <p:blipFill>
          <a:blip r:embed="rId1"/>
          <a:stretch/>
        </p:blipFill>
        <p:spPr>
          <a:xfrm>
            <a:off x="1676520" y="0"/>
            <a:ext cx="602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udy Exercis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rtical Areas of Somatosens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mary Somatosensory Cortex (SI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 from sensory receptors in the skin, mostly contralater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 to PP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atotopic Organization (touch friend’s back w/1-3fingers at same time, see p. 18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ains parallel strips of cells that respond to different types of somatosensory input (e.g. light touch, pressure and temperatur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7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rtical Areas of Somatosens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mage to Primary Somatosensory Cortex (SI) results i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d ability to perceive light tou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reased ability to identify objects by tou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1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7" name="Picture 3" descr="motor cortex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isual system, auditory system, somatosensory 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rsolateral prefrontal association cortex, secondary motor cortex, frontal eye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lps integrate info and attention re: position of body and location of objects to carry out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nsorimotor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mage can lead to movement disord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prax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out action, d/o of voluntary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 due to paralysis, weakness, cognitive prob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rd to carry out movements in response to verbal request, esp. out of cont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mage usually to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posterior parietal assoc. cortex, although it normally affects both limb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536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vTFdNk7JIo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7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Posterior Parietal Association Cortex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alateral neglec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’t respond to stimuli on side of body contralateral to brain dam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due to simple sensory or motor proble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ually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righ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PPAC damage (large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fore, usually can’t respond to stimuli on L side of b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deo (23:24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5" name="Picture 4" descr="motor cortex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rsolateral Prefrontal Association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osterior parietal association corte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condary motor cortex, primary motor cortex, frontal eye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valuation of external stimuli and initiation of voluntary reactions to th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sion to initiate voluntary movement. Prob’ly in conjuction w/ PPA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ondary Motor Cortex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eneral input and outpu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put from association cortices (somatosensory and visual inpu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utput to primary motor cortex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ectrical stimulation of these areas elicits complex movements, usually involving both sides of the b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Lynne Trench</cp:lastModifiedBy>
  <dcterms:modified xsi:type="dcterms:W3CDTF">2021-03-17T18:09:52Z</dcterms:modified>
  <cp:revision>79</cp:revision>
  <dc:subject/>
  <dc:title>Sensorimotor System</dc:title>
</cp:coreProperties>
</file>