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39C-AD65-4CC6-86E1-02D9EFD9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DC0-21C0-43DB-A01D-7D1EF538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E6E-B2F0-43A4-B3F2-EB8B058D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8F9-5113-4DE8-A6F5-472A027D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1616-2C0B-43B8-B919-09F4CACA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848C-E418-47A1-A7AD-86FB3A22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7073-BF88-4801-951B-C3BD4166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4422-15F1-4A96-B1FE-2C1C80CF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1F35-E5C4-4149-8AF7-2006523A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04D5-EC7F-46EE-9744-10D64D29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A988-5218-4FDA-8144-2E589371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E35E-2171-4824-BCF1-BED489D0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9F2A-081A-402A-9C3B-84D876B4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4492-F638-4265-AF30-39A1ABF3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E2DA-057D-4B3C-B3E2-FFA52A9E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D1FE-C10A-4931-812D-64236483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D2F1-9A7D-4DDE-8126-450327A9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19D-4934-4107-A522-4628B9D8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D39-50B7-453F-873E-CADD3F1C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0E2-BEC3-4BA3-909D-1B0CCAD0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72F0-531F-48B6-8A3C-6DE59F95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BB5-85FE-459F-AD4B-4337FEBB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DE2-47BB-46B1-86DF-D0F9CF63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B9B-A6F6-4414-B38F-B94FF5E7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4C9C-5F7F-4BE9-8D75-66AB0B1D5B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97D2-0BB0-4910-904B-68D20AC987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v1qUj3MuEc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i-nPrbigxA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vTFdNk7JIoo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imoto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ond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pplementary Motor Ar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motor Cor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ingulate Motor Are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areas are involved in planning and programming specific patterns of movement (prob’ly get instructions from DLP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rror Neur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Neurons that fire when an individual performs a particular goal-directed hand movement or when watching the same goal-directed movement performed by another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Found in macaque ventral premotor neurons and inferior PPAC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Possible mechanism for social cognition (knowledge of perceptions, ideas, and intentions of others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Also found in PPAC that seem to respond to purpose of action rather than action itself (e.g. food that was to be eaten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Likely that these are present in humans as wel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Sv1qUj3MuEc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ventional Vie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atotopic organ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rganized according to a map of the bod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put from skin receptors in hand areas leads to Stereogn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eing able to identify something by touc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/c one hand area receives input from receptors in sk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itiate and control simple contralateral moveme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9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5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77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77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9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Picture 4" descr="Homunculus 1"/>
          <p:cNvPicPr/>
          <p:nvPr/>
        </p:nvPicPr>
        <p:blipFill>
          <a:blip r:embed="rId1"/>
          <a:stretch/>
        </p:blipFill>
        <p:spPr>
          <a:xfrm>
            <a:off x="0" y="0"/>
            <a:ext cx="899172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rrent Vie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w stimulation techniqu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rude somatotopic organ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plex species-typical movements, e.g. feeding respon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ach location in the primary motor cortex can produce innumerable patterns of muscle contraction required to get a limb from any starting point to a target lo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ring of neurons related to end point of movement, not to direction of mov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route that neural signals follow from a given area of primary motor cortex is extremely plastic and is probably determined by feedback from the somatosensory syste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es this lead to paralysis?  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ults i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creased ability to move a part of body independentl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stereognosis (hard to identify by touch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creased speed, force, accuracy of mov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athways directly from secondary cortex to subcortical motor circui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0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ebel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erebellar cortex and deep nuclei below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part of descending motor pathw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re than 1/2 neurons of bra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imary and secondary motor cortex, brain stem motor nuclei, feedback from somatosensory and vestibular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4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4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ebel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very motor structure of the bra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utput is excitatory (while output of Basal Ganglia is inhibitory; balance between 2 systems allows for smooth, coordinated movement and disturbance in either will result in movement d/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ordinates and corrects ongoing movements (compares what you thought you were going to do with what is actually happening and corrects if problem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earning complex motor sequences, learning of sequences of movements in which timing is critical fact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ne-tuning and learning of cognitive respons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8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5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ebel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se ability to control various aspects of movement (direction, force, velocit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’t adapt movement to changing condi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erky, erratic, uncoordinated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rd to maintain pos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blems with balance, gait, speech, eye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’t learn new motor patter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ji-nPrbigx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al Gangl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part of descending motor pathw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rebral cortex, esp. primary motor and primary somatosensory corte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rough thalamus to various areas of motor corte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racteristics of Sensorimoto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rection of information fl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wn the hierarch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gan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erarchical, functional segregation, parall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eyes, vestibular system, receptors from skin, muscles, joi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ar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itially conscious, after practice unconscio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al Gangl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stop/limit and refine movements, prevent unwanted mov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gnitive fun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earning to respond to obtain reward and avoid punish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utput is inhibitory, “brake hypothesis” (to sit still, you must put the brakes on all movements except those reflexes that maintain an upright postur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sence of extraneous unwanted mov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bsence or difficulty with intended mov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9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scending Motor Path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ural signals from primary motor cortex to motor neurons of spinal cord are conducted over 4 different pathw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pathways control voluntary mov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pathways in dorsolateral spinal c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rol movements of the limb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pathways in ventromedial spinal c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rol of posture and whole body movement (walking, climbing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9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4" descr="Dorsalateral Pathway"/>
          <p:cNvPicPr/>
          <p:nvPr/>
        </p:nvPicPr>
        <p:blipFill>
          <a:blip r:embed="rId1"/>
          <a:stretch/>
        </p:blipFill>
        <p:spPr>
          <a:xfrm>
            <a:off x="0" y="23760"/>
            <a:ext cx="89154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Picture 4" descr="Ventromedial Pathway"/>
          <p:cNvPicPr/>
          <p:nvPr/>
        </p:nvPicPr>
        <p:blipFill>
          <a:blip r:embed="rId1"/>
          <a:stretch/>
        </p:blipFill>
        <p:spPr>
          <a:xfrm>
            <a:off x="1676520" y="0"/>
            <a:ext cx="602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udy Exerci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rtical Areas of Somatosens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imary Somatosensory Cortex (SI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put from sensory receptors in the skin, mostly contralater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put to PPA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atotopic Organization (touch friend’s back w/1-3fingers at same time, see p. 18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ains parallel strips of cells that respond to different types of somatosensory input (e.g. light touch, pressure and temperatur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5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5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rtical Areas of Somatosens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mage to Primary Somatosensory Cortex (SI) results i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reased ability to perceive light tou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reased ability to identify objects by tou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Picture 3" descr="motor cortex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imotor Association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terior Parietal Association Cor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sual system, auditory system, somatosensory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rsolateral prefrontal association cortex, secondary motor cortex, frontal eye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lps integrate info and attention re: position of body and location of objects to carry out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imotor Association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osterior Parietal Association Corte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mage can lead to movement disord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rax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out action, d/o of voluntary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 due to paralysis, weakness, cognitive prob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rd to carry out movements in response to verbal request, esp. out of cont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mage usually to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posterior parietal assoc. cortex, although it normally affects both limb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vTFdNk7JIo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Posterior Parietal Association Cortex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alateral negl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’t respond to stimuli on side of body contralateral to brain 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due to simple sensory or motor probl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ually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PPAC damage (large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fore, usually can’t respond to stimuli on L side of b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deo (23:24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5" name="Picture 4" descr="motor cortex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rsolateral Prefrontal Association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terior parietal association cor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ary motor cortex, primary motor cortex, frontal eye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valuation of external stimuli and initiation of voluntary reactions to th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ision to initiate voluntary movement. Prob’ly in conjuction w/ PPA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ond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al input and out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put from association cortices (somatosensory and visual inpu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utput to primary motor cortex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ectrical stimulation of these areas elicits complex movements, usually involving both sides of the b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Lynne Trench</cp:lastModifiedBy>
  <dcterms:modified xsi:type="dcterms:W3CDTF">2021-03-17T18:09:52Z</dcterms:modified>
  <cp:revision>79</cp:revision>
  <dc:subject/>
  <dc:title>Sensorimotor System</dc:title>
</cp:coreProperties>
</file>