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0F956-5FE3-4877-8E71-6690AAF9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48717-34E2-4D94-AC46-A85F3A19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C678-2C90-4B45-9FEA-B012E9BE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1ACD-8B64-472E-A164-F0ACBF1D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1562-15FD-42F5-8CDD-6D5BCBB5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7FC4-412F-4380-84DC-A0961548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310F-683E-4715-B226-185BE4CD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1FCC-D333-4B74-B29B-8DB07BDE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A64C-166B-4EF8-ADEE-6003B0ED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1231-F1CC-4BD1-910F-22A3A88D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2970-03BE-4431-9DE6-4B4D97FC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97DC-F6B6-4222-9D50-138855EF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DED6-4B62-4FF0-82B6-5A4EE62B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3789-2B04-4DF4-8D18-2CC489A6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9B85-75D0-444F-A688-06CA863E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F88A-48BD-42EB-9A43-53FBFBB2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F12F-BDE3-4116-A25B-65168AD9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8D0A5-AF5A-4D4F-8E78-8CB23DBD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5F22-ED66-4B13-888D-71562063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40D64-C973-4F4D-A6A6-C1C15B43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EED9-9942-4F3C-9CEF-3D8FC38F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1AA4C-68CA-4B3B-AC9F-23D0E8CD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00D24-2A44-4F33-9BCA-06EDF516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6C47-D54B-40EF-BE44-F71505EA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B8B4-2305-49CF-A442-DB4D5D93CB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6A2F-3A3A-484B-9E19-346DD3CC7A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7zXQPNNMtLo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zgCprJPSlpA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www.drugabuse.gov/drugs-abuse/opioids/opioid-summaries-by-state/alabama-opioid-summary" TargetMode="External"/><Relationship Id="rId2" Type="http://schemas.openxmlformats.org/officeDocument/2006/relationships/hyperlink" Target="http://www.al.com/business/index.ssf/2017/06/alabama_narcan_naloxon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BS3-29i7HQ" TargetMode="External"/><Relationship Id="rId2" Type="http://schemas.openxmlformats.org/officeDocument/2006/relationships/hyperlink" Target="https://www.youtube.com/watch?v=nct25OzpTNc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Opiat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tion at the neuronal le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endorphin/enkephalin (endogenous opioid) recep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Opioid Receptor subtypes (all metabotropic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 – strongest analgesia, pleasurable effects, respiratory depres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ta – similar effects to above, also regulates effects on breathing and blood pres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59040" indent="-5792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appa – modest analgesia, constipation, pinpoint pupils, aversive eff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NAc, reduce GABA inhibition on DA neurons, results in net exci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 Antagoni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oxone (Narcan)– used to counteract effects of heroin overd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ltrexone (Trexan) – lasts longer, can block heroin’s effects, may produce slight dysphor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drugs bind to the Mu receptor, but then elicit no change in cellular functioning.  They block access of both endogenous and exogenous ligands, even those administered after antagoni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oler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intermittent use, little tolerance develop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repeated use, tolerance develops rapidly, especially to euphoric and analgesic effec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se increase from 50 to 500 mg can occur in as short as 10 d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, very little tolerance develops to pinpoint pupils and constipating effec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draw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t life threatening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ing eyes, runny nose, yaw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usea, vomiting, diarrh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ooseflesh, tremors, chil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er, sweating, pant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xiety, restlessness, dyspho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inspotting clip – watch first minute,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arning – bad langua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youtube.com/watch?v=7zXQPNNMtL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tracted abstinence syndrom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persist up to 6 months, depression, craving, anxiety, decreased self-esteem, abnormal response to stressful situ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4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alth Effe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ute effect – coma and death from respiratory depression due to over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ronic use results in few direct negative health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mpot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creased Cancer risk 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ressed immune fun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algesia can conceal early signs of illnes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direct effects from lifestyle include malnutrition, infection at injection sites, increased risk of H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unpredictable composition of street dru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piates and Pregnan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reased fetal growth and increased risk of intrauterine fetal dea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rious indices of physical and intellectual development delayed or impair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reased risk of ADH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onatal abstinence syndrome (withdrawal, feeding problems, and slower weight ga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founded by other drug use, life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oxone used for OD.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other Trainspotting clip- same Warning as before, plus needle shot!  If you have a youtube account, click on Trainspotting scene 11 “A visit to Mother Superior” – it explains mo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youtube.com/watch?v=zgCprJPSlp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ltrex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a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ng-acting methad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uprenorphin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Turkey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oxification without medic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iginally came from opiate withdrawal – the chills and goose bumps that go along with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ado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nthetic narco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s same analgesic and sedative effects as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t lasts much longer than heroin (12-24 hrs compared to 2-3 hr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’ll talk about more in treatment cha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pren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e names Suboxone, Buprenex, Subute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ly mildly addic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tial ag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nds to all 3 opioid receptors, but with lower efficacy, so there is ceiling to effe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ents other opiate drugs from bind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s a greater safety profile than full agonists b/c less likely to cause 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oman God of Dreams, Morpheus below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190600" y="3581280"/>
            <a:ext cx="47628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rescripti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.g. OxyContin (oxycodone), propoxyphene (Darvon), Percodan (aspirin and oxycodone), hydromorphone (Dilaudid), hydrocodone (Vicodin), meperidine (Demerol), Methadone, fentanyl (Sublimaz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xyContin originally thought to be safe from abuse b/c of oral administration and it is absorbed slowly over 12 h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ever, if tablets were crushed and swallowed, inhaled, or injected, effect was similar to heroin.  This is no longer tru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Problem, esp. in our Are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get addicted to prescription opiates, and then progress to heroin b/c it may be cheaper and easier to obtai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frequently mixed with additives/contaminants.  Can’t predict what you are getting.  Can lead to overdo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njecting heroin, chances of contracting Hepatitis C and HIV are greatly increas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Statist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2018, 775 people in Alabama died from drug overdoses, according to the Centers for Disease Control and Prevention, the governor's office sa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f those 775 deaths, about half (381) involved opioids, according to a Kaiser Family Foundation review of CDC dat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DC said 67,367 people died in 2018 from drug overdoses in the United States. 70 percent of the deaths – 46,802 - involved an opioi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drugabuse.gov/drugs-abuse/opioids/opioid-summaries-by-state/alabama-opioid-summ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www.al.com/business/index.ssf/2017/06/alabama_narcan_naloxone.htm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me information on the opioid cri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dea.gov/press-releases/2019/06/21/alabama-pill-mill-doctor-pleads-guilty-illegally-dispensing-pr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s://www.youtube.com/watch?v=Nf9NspiAfB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ndorphi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dogenous Morphine substances in the br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kephal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ynorph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ta-Endorph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tural pain-relie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dy contains receptors for all of these neurotransmit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 pain sensations and also =&gt; calm by slowing breathing, decreasing BP and motor activ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Background on Opi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oid = endogenous chemicals (endorphi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ate = exogenously administered drug derived from/related to opiu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phine and Codeine are derived from the opium popp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is a synthetic morphine derivative (2 acetyl groups were added onto the morphine molecu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ium has been used for thousands of years to produce euphoria, analgesia, sleep, and relief from diarrhea and coug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s://www.youtube.com/watch?v=WBS3-29i7H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udanum – opium and alcohol, used in Patent medicines.  Watch first 2 min be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s://www.youtube.com/watch?v=nct25OzpTN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rly 1800s – morphine isolated from opi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53 Alexander Wood invented hypodermic syri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originally introduced as non-addicting substitute for codeine by Bayer company.  Bayer’s scientists added an extra chemical group on morphine to make it more fat-soluble, so it could enter brain fas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tremely effective analges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cause it is not as lipid soluble as heroin, the rush is not as intense as that of hero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roin enters the brain rapidly and is then converted to morphin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Morph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alges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laxed eupho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pilary constriction (pinpoint pupi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ression of cough refl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d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ed apprehen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iratory depre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ip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nausea and vomiting with initial use(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cute Effects of Opiate Drug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ush – intense pleasure, only happens when drug reaches brain quickly (mostly associated with heroi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gh – feeling of general well-be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d – calm, contented, detached, escape from rea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feel pain, but don’t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3-15T19:40:31Z</dcterms:modified>
  <cp:revision>75</cp:revision>
  <dc:subject/>
  <dc:title>How do organisms adapt to change?</dc:title>
</cp:coreProperties>
</file>