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EBDD-0FCB-4BEC-8052-51C3E458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FAB8-160C-46C9-A396-4686FCF7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40EA-BEEB-4EF8-A6F8-57B9EBAF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39FB-A927-4396-A374-C8424BBE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A6C-0275-4590-9AD2-8F4D3551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563F-0922-4D5F-BC12-2C579DE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3AB8-B27B-4676-B2FF-7E0511B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33D6-02B3-497E-BF51-7E65AADE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E39D-DC86-4CD4-995E-C0D8D069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1062-2D1D-4905-9CDC-2B767F7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8D6-682A-4B1C-A871-776C704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B06B-A8E2-4B90-865D-2D94904C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C285-7CF6-47E3-BA56-DA3BA13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E8E-EB0E-429F-8EB9-4256BFB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8FD9-01BA-4128-AC76-9B4EBD0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C39-316A-4B62-8A55-BED9886C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89B4-6E63-4258-961A-D6A1C47B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AF91-CBFC-457E-BB93-801C4CE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C94D-8E57-4E44-9FC8-EF614D96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2E44-FF5B-44E5-84C8-E6D15FD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B32C-4692-433C-B601-8EBD970D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48E2-52F1-4849-A505-74482E0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062A-A308-4F87-B69E-0C949D86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260C-6BB5-40EC-BC10-702D2C5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ED6-F9AB-4C8E-BB7A-68205AF3B2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D61-BBD7-4206-A007-BFDDC2888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zXQPNNMtL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gCprJPSlpA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BS3-29i7HQ" TargetMode="External"/><Relationship Id="rId2" Type="http://schemas.openxmlformats.org/officeDocument/2006/relationships/hyperlink" Target="https://www.youtube.com/watch?v=nct25OzpTNc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7zXQPNNMt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0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zgCprJPSl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, 775 people in Alabama died from drug overdoses, according to the Centers for Disease Control and Prevention, the governor's office sa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75 deaths, about half (381) involved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67,367 people died in 2018 from drug overdoses in the United States. 70 percent of the deaths – 46,802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information on the opioid cri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kephal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a-End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WBS3-29i7H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s://www.youtube.com/watch?v=nct25OzpTN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15T19:40:31Z</dcterms:modified>
  <cp:revision>75</cp:revision>
  <dc:subject/>
  <dc:title>How do organisms adapt to change?</dc:title>
</cp:coreProperties>
</file>