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B2B1-A76B-4242-AE55-8F95B454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5A44-C6C0-4D73-A69E-CAB2A4CD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635C-DA6A-4A7C-8794-52BC6B02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624D-B6B1-4ED5-8232-7C96D000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D4E4-7802-43D6-B024-91ACDEFA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D008-6099-453C-93ED-7719F57D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815C-A376-4A0D-BEE1-03E49C10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5F23-86F9-4E6B-815F-95D7BF53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3D08-019B-4AD2-8A50-1B8D3568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9056-C250-49B5-800C-0FF0EBA1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AF8B-DD91-4576-BCF1-C73A449C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EBA1-5B0E-4449-B39B-2BE64551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A4BD-3EFC-4BF3-A3D5-02953627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6967-D717-4E15-8745-318E3369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2812-6070-45F9-83BB-23D28926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D15C-00F2-42C6-9465-C0C35F6C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F4BB-C59C-4EBD-9B52-64DBA296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B5D4-06B7-4ADD-9F36-A37D07EB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BD99-A787-49E3-8ACC-D98750BF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58912-8700-40A3-A9DA-A4CA73BA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A383E-FE33-4D60-B80B-2542BE67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F196-0D4E-451A-B501-F9A2102A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288F-47EF-41DC-A64C-A7DA589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DC4DD-A5D1-4AA5-8CCC-0242C6E6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17B8-6BCD-44B6-BD52-58FA8AD580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8548-33C9-4823-A4A5-213FAFE306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7zXQPNNMtL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gCprJPSlpA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drugabuse.gov/drugs-abuse/opioids/opioid-summaries-by-state/alabama-opioid-summary" TargetMode="External"/><Relationship Id="rId2" Type="http://schemas.openxmlformats.org/officeDocument/2006/relationships/hyperlink" Target="http://www.al.com/business/index.ssf/2017/06/alabama_narcan_naloxon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BS3-29i7HQ" TargetMode="External"/><Relationship Id="rId2" Type="http://schemas.openxmlformats.org/officeDocument/2006/relationships/hyperlink" Target="https://www.youtube.com/watch?v=nct25OzpTNc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iat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at the neuronal le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endorphin/enkephalin (endogenous opioid) recep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Opioid Receptor subtypes (all metabotropic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 – strongest analgesia, pleasurable effects, respiratory dep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ta – similar effects to above, also regulates effects on breathing and bloo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ppa – modest analgesia, constipation, pinpoint pupils, aversive eff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c, reduce GABA inhibition on DA neurons, results in net exci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 Antago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oxone (Narcan)– used to counteract effects of heroin 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trexone (Trexan) – lasts longer, can block heroin’s effects, may produce slight dyspho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drugs bind to the Mu receptor, but then elicit no change in cellular functioning.  They block access of both endogenous and exogenous ligands, even those administered after antagoni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le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intermittent use, little tolerance develop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repeated use, tolerance develops rapidly, especially to euphoric and analgesic effe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se increase from 50 to 500 mg can occur in as short as 1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, very little tolerance develops to pinpoint pupils and constipating eff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dra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life threaten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ing eyes, runny nose, yaw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, vomiting, diarrh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oseflesh, tremors, ch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er, sweating, pan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xiety, restlessness, dyspho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spotting clip – watch first minut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rning – bad 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youtube.com/watch?v=7zXQPNNMtL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racted abstinence syndro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persist up to 6 months, depression, craving, anxiety, decreased self-esteem, abnormal response to stressful situ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lth Effe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ute effect – coma and death from respiratory depression due to over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nic use results in few direct negative health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ot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Cancer risk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ressed immun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gesia can conceal early signs of ill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ect effects from lifestyle include malnutrition, infection at injection sites, increased risk of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unpredictable composition of street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s and Pregna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d fetal growth and increased risk of intrauterine fetal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ous indices of physical and intellectual development delayed or impa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risk of ADH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natal abstinence syndrome (withdrawal, feeding problems, and slower weight g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ounded by other drug use, life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oxone used for OD.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ther Trainspotting clip- same Warning as before, plus needle shot!  If you have a youtube account, click on Trainspotting scene 11 “A visit to Mother Superior” – it explains mo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youtube.com/watch?v=zgCprJPSlp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trex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a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ng-acting methad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prenorph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Turkey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oxification without med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iginally came from opiate withdrawal – the chills and goose bumps that go along with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ad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narco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same analgesic and sedative effects as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lasts much longer than heroin (12-24 hrs compared to 2-3 h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’ll talk about more in treatment cha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pren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names Suboxone, Buprenex, Subut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mildl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 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all 3 opioid receptors, but with lower efficacy, so there is ceiling to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s other opiate drugs from bi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s a greater safety profile than full agonists b/c less likely to cause 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man God of Dreams, Morpheus below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90600" y="358128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escripti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OxyContin (oxycodone), propoxyphene (Darvon), Percodan (aspirin and oxycodone), hydromorphone (Dilaudid), hydrocodone (Vicodin), meperidine (Demerol), Methadone, fentanyl (Sublimaz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Contin originally thought to be safe from abuse b/c of oral administration and it is absorbed slowly over 12 h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if tablets were crushed and swallowed, inhaled, or injected, effect was similar to heroin.  This is no longer tr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Problem, esp. in our 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get addicted to prescription opiates, and then progress to heroin b/c it may be cheaper and easier to obta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frequently mixed with additives/contaminants.  Can’t predict what you are getting.  Can lead to overd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njecting heroin, chances of contracting Hepatitis C and HIV are greatly increa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8, 775 people in Alabama died from drug overdoses, according to the Centers for Disease Control and Prevention, the governor's office sa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those 775 deaths, about half (381) involved opioids, according to a Kaiser Family Foundation review of CDC d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DC said 67,367 people died in 2018 from drug overdoses in the United States. 70 percent of the deaths – 46,802 - involved an opio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drugabuse.gov/drugs-abuse/opioids/opioid-summaries-by-state/alabama-opioid-summ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al.com/business/index.ssf/2017/06/alabama_narcan_naloxone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me information on the opioid cri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dea.gov/press-releases/2019/06/21/alabama-pill-mill-doctor-pleads-guilty-illegally-dispensing-pr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youtube.com/watch?v=Nf9NspiAfB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ndorph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dogenous Morphine substances in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kephal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a-End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 pain-relie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dy contains receptors for all of these neurotransmit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 pain sensations and also =&gt; calm by slowing breathing, decreasing BP and motor acti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Background 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oid = endogenous chemicals (endorph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ate = exogenously administered drug derived from/related to opi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phine and Codeine are derived from the opium pop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is a synthetic morphine derivative (2 acetyl groups were added onto the morphine molecu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um has been used for thousands of years to produce euphoria, analgesia, sleep, and relief from diarrhea and cou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youtube.com/watch?v=WBS3-29i7H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udanum – opium and alcohol, used in Patent medicines.  Watch first 2 min be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s://www.youtube.com/watch?v=nct25OzpTN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1800s – morphine isolated from opi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53 Alexander Wood invented hypodermic syri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originally introduced as non-addicting substitute for codeine by Bayer company.  Bayer’s scientists added an extra chemical group on morphine to make it more fat-soluble, so it could enter brain fas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ly effective analge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it is not as lipid soluble as heroin, the rush is not as intense as that of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enters the brain rapidly and is then converted to morph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xed eupho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pilary constriction (pinpoint pupi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ression of cough ref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d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apprehen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nausea and vomiting with initial use(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Opiat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sh – intense pleasure, only happens when drug reaches brain quickly (mostly associated with her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– feeling of general well-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d – calm, contented, detached, escape from re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feel pain, but don’t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3-15T19:40:31Z</dcterms:modified>
  <cp:revision>75</cp:revision>
  <dc:subject/>
  <dc:title>How do organisms adapt to change?</dc:title>
</cp:coreProperties>
</file>