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E57B-3000-4F7B-B345-7AF6629B4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33ED-6990-44DA-BD88-AB5320770FE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F000540-28C8-4FF6-9781-3A1298207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6B95E31-281E-4DC7-856D-3BC4CB63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6D2719-3F51-45DC-A54D-EE2F5028B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CF82619-3799-4167-8B52-9CA41C6F6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88518-3A29-4814-9CFC-C9895F05AD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581C5-B3E1-4CFF-8240-9F1E89E18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F4FC69-2ADB-48AE-945F-1DCCBFD3E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E8A1F-42E9-4099-947D-9D5D6A91D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B5791-5330-434E-8DE3-E861FF488C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B69E3-0907-42D5-A852-2DE3D8198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CC074-D107-4C22-AEB0-A24EB10A4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DFF1D79-4231-48C8-862C-12F7738ED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B6C5-97AD-4FFF-9DB1-3F4F04925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F17D0-F192-4789-BB04-B5E054064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9F41D-707D-423C-AE2E-CB2DE591D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11A80B-5969-4207-9025-EFF292267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1079B-5B71-411D-B550-1AF2791E4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7236724-B774-4F8C-B983-DB7D07584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46F548-4AE7-4900-998A-AEE607625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6E56A0-2966-4A7A-A409-5DC1314D5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04284D-1323-4DEF-B995-10E86FCE4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993891-894C-4763-A051-75B421EF8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9D8803-F9E4-45F3-8384-23439A82D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6A646B2-AEEB-4A8E-8D72-64AD73DF2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4189-493A-42A2-81F5-BE64CB8136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B510-65B6-4078-A3A5-797BC9D1C4C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bs.org/newshour/updates/marilyn-monroe-and-the-prescription-drugs-that-killed-her/" TargetMode="External"/><Relationship Id="rId2" Type="http://schemas.openxmlformats.org/officeDocument/2006/relationships/hyperlink" Target="http://biography.yourdictionary.com/articles/how-did-jimi-hendrix-die.html"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n-US" sz="6000" spc="-1" strike="noStrike">
                <a:solidFill>
                  <a:srgbClr val="e5e5ff"/>
                </a:solidFill>
                <a:latin typeface="Garamond"/>
              </a:rPr>
              <a:t>Sedatives</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4540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is at GABA</a:t>
            </a:r>
            <a:r>
              <a:rPr b="0" lang="en-US" sz="2400" spc="-1" strike="noStrike">
                <a:solidFill>
                  <a:srgbClr val="ffffff"/>
                </a:solidFill>
                <a:latin typeface="Garamond"/>
              </a:rPr>
              <a:t>A</a:t>
            </a:r>
            <a:r>
              <a:rPr b="0" lang="en-US" sz="2800" spc="-1" strike="noStrike">
                <a:solidFill>
                  <a:srgbClr val="ffffff"/>
                </a:solidFill>
                <a:latin typeface="Garamond"/>
              </a:rPr>
              <a:t> receptor; they enhance the inhibitory effects of GABA.  They do not have an effect on Chloride channel opening in the absence of GABA.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the Barbiturates can open the Chloride channel, even without GABA binding.</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ohypnol (Roofies)</a:t>
            </a:r>
            <a:endParaRPr b="1" lang="en-US" sz="4400" spc="-1" strike="noStrike">
              <a:solidFill>
                <a:srgbClr val="e5e5ff"/>
              </a:solidFill>
              <a:latin typeface="Garamond"/>
            </a:endParaRPr>
          </a:p>
        </p:txBody>
      </p:sp>
      <p:sp>
        <p:nvSpPr>
          <p:cNvPr id="129"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lunitrazepam (Rohypnol) </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amount (2 mg) can be added to an alcoholic drink and lead to amnesia and overdose.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called “the date rape drug”</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easily disappears into a drink and is hard to detect (colorless, odorless).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can you do to minimize your chances of this happening to you?</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person feels dizzy, weak, lightheaded, confused, after relatively small amount or no alcohol, should consider getting medical attention.</a:t>
            </a:r>
            <a:endParaRPr b="0" lang="en-US" sz="20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blog.al.com/wire/2013/08/company_unveils_drinkware_stra.html</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leep-Inducing Drugs</a:t>
            </a:r>
            <a:endParaRPr b="1" lang="en-US" sz="4400" spc="-1" strike="noStrike">
              <a:solidFill>
                <a:srgbClr val="e5e5ff"/>
              </a:solidFill>
              <a:latin typeface="Garamond"/>
            </a:endParaRPr>
          </a:p>
        </p:txBody>
      </p:sp>
      <p:sp>
        <p:nvSpPr>
          <p:cNvPr id="13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amples are zolpidem (Ambien) and eszopiclone (Lunesta)</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bien and Lunesta are not benzodiazepines, but work at that receptor.  They seem to be safer and have less abuse potential compared to BZDs, but they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ll cause amnesia.  Should not be taken with other sedating drug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huffingtonpost.com/2014/01/15/ambien-side-effect-sleepwalking-sleep-aid_n_4589743.ht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mma-hydroxybutyrate</a:t>
            </a:r>
            <a:endParaRPr b="0" lang="en-US" sz="2800" spc="-1" strike="noStrike">
              <a:solidFill>
                <a:srgbClr val="ffffff"/>
              </a:solidFill>
              <a:latin typeface="Garamond"/>
            </a:endParaRPr>
          </a:p>
          <a:p>
            <a:pPr marL="315360" indent="-31536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vailable for prescription (Xyrem) for treating narcolepsy</a:t>
            </a:r>
            <a:r>
              <a:rPr b="0" lang="en-US" sz="2000" spc="-1" strike="noStrike">
                <a:solidFill>
                  <a:srgbClr val="ffffff"/>
                </a:solidFill>
                <a:latin typeface="Garamond"/>
              </a:rPr>
              <a:t>https://pubmed.ncbi.nlm.nih.gov/3704454/#:~:text=Sleep%20studies%20reveal%20that%20GHB,and%20contain%20them%20at%20night.</a:t>
            </a:r>
            <a:endParaRPr b="0" lang="en-US" sz="2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ose can occur easily</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and withdrawal will develop with repeated use.</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and Rohypnol) can be used as “date-rape drugs” and added to drinks. GHB sometimes has a salty tas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y-product of GABA metabolis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80’s, marketed as nutritional supplement for body builder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990 FDA banned it b/c unsafe; 2000 designated as a schedule I dru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 kits for synthesizing the drug at home from the chemical precursor GBL (gamma butyrolact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7" name=""/>
          <p:cNvSpPr txBox="1"/>
          <p:nvPr/>
        </p:nvSpPr>
        <p:spPr>
          <a:xfrm>
            <a:off x="457200" y="1600200"/>
            <a:ext cx="8229600" cy="452592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pidly absorbed from GI tract, enters bloodstream, and crosses into brai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w doses produce mild euphoria, relaxation, social disinhibition.</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igher doses cause lethargy, movement probs, slurring speech, nausea, vomiting.</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mory impairment common with a high dose.</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dose can cause coma, death, or even seizur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HB</a:t>
            </a:r>
            <a:endParaRPr b="1" lang="en-US" sz="4400" spc="-1" strike="noStrike">
              <a:solidFill>
                <a:srgbClr val="e5e5ff"/>
              </a:solidFill>
              <a:latin typeface="Garamond"/>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chanism of action still not well underst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kely agonist at GABA</a:t>
            </a:r>
            <a:r>
              <a:rPr b="0" lang="en-US" sz="2800" spc="-1" strike="noStrike">
                <a:solidFill>
                  <a:srgbClr val="ffffff"/>
                </a:solidFill>
                <a:latin typeface="Garamond"/>
              </a:rPr>
              <a:t>A, </a:t>
            </a:r>
            <a:r>
              <a:rPr b="0" lang="en-US" sz="3200" spc="-1" strike="noStrike">
                <a:solidFill>
                  <a:srgbClr val="ffffff"/>
                </a:solidFill>
                <a:latin typeface="Garamond"/>
              </a:rPr>
              <a:t>also may be agonist for GABA</a:t>
            </a:r>
            <a:r>
              <a:rPr b="0" lang="en-US" sz="2800" spc="-1" strike="noStrike">
                <a:solidFill>
                  <a:srgbClr val="ffffff"/>
                </a:solidFill>
                <a:latin typeface="Garamond"/>
              </a:rPr>
              <a:t>B</a:t>
            </a:r>
            <a:r>
              <a:rPr b="0" lang="en-US" sz="3200" spc="-1" strike="noStrike">
                <a:solidFill>
                  <a:srgbClr val="ffffff"/>
                </a:solidFill>
                <a:latin typeface="Garamond"/>
              </a:rPr>
              <a:t> receptors.  GHB may also be a NT in the bra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ll add to alcohol’s effects, lowering blood pressure and decreasing blood oxy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dative Drugs</a:t>
            </a:r>
            <a:endParaRPr b="1" lang="en-US" sz="4400" spc="-1" strike="noStrike">
              <a:solidFill>
                <a:srgbClr val="e5e5ff"/>
              </a:solidFill>
              <a:latin typeface="Garamond"/>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rbiturat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nzodiazepin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rugs to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H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amobarbital (Amytal), pentobarbital (Nembutal), secobarbital (Secona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rbital synthesized in 1903</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modifications to chemical structure produces a variety of sedatives with different properti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rbiturates</a:t>
            </a:r>
            <a:endParaRPr b="1" lang="en-US" sz="4400" spc="-1" strike="noStrike">
              <a:solidFill>
                <a:srgbClr val="e5e5ff"/>
              </a:solidFill>
              <a:latin typeface="Garamond"/>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not experiment with different types; they can be very different in pote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eral Effect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w dose – reduces anxiety and tension</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um dose – depending on setting may produce effects similar to drunkenness, or induce sleep</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gh dose – can cause death from respiratory arre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used commonly anymore b/c after development of tolerance, margin between intoxicating dose and fatal dose becomes small.  </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aken with alcohol, (or any depressant type drug) synergistic effects occur, and can result in overdose or death.</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Downers” can be used to counteract effects of stimulant drugs in heavy drug user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dical use as sedatives and anticonvulsa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arbiturates, cont.</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chanism of action: bind to GABA</a:t>
            </a:r>
            <a:r>
              <a:rPr b="0" lang="en-US" sz="2800" spc="-1" strike="noStrike" baseline="-25000">
                <a:solidFill>
                  <a:srgbClr val="ffffff"/>
                </a:solidFill>
                <a:latin typeface="Garamond"/>
              </a:rPr>
              <a:t>A </a:t>
            </a:r>
            <a:r>
              <a:rPr b="0" lang="en-US" sz="2800" spc="-1" strike="noStrike">
                <a:solidFill>
                  <a:srgbClr val="ffffff"/>
                </a:solidFill>
                <a:latin typeface="Garamond"/>
              </a:rPr>
              <a:t>receptor and facilitate GABA binding.  Can also open Cloride channel in absence of GABA (accounts for increased toxicity over BZD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oes develop, but not much to respiratory depression.  If tolerant, this can effect other drugs to be metabolized more quickly.</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 muscle twitching, tremors, weakness, dizziness, nausea, vomiting, insomnia to delirium, convulsions and even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me Famous deaths involving Barbiturate overdose</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rilyn Monro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Garamond"/>
                <a:hlinkClick r:id="rId1"/>
              </a:rPr>
              <a:t>http://www.pbs.org/newshour/updates/marilyn-monroe-and-the-prescription-drugs-that-killed-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Jimi Hendrix </a:t>
            </a:r>
            <a:r>
              <a:rPr b="0" lang="en-US" sz="2800" spc="-1" strike="noStrike" u="sng">
                <a:solidFill>
                  <a:srgbClr val="ffcc00"/>
                </a:solidFill>
                <a:uFillTx/>
                <a:latin typeface="Garamond"/>
                <a:hlinkClick r:id="rId2"/>
              </a:rPr>
              <a:t>http://biography.yourdictionary.com/articles/how-did-jimi-hendrix-die.html</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olling Stones “Mother’s Little Helper”, 1965, about Valium (diazepa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s://www.youtube.com/watch?v=x-zxBNz3Xb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dative-hypnotics, anxiolytic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g. Valium (diazepam), Librium (chlordiazepoxide), flunitrazepam (Rohypnol), Xanax, Ativan</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cribed most often for anxiety and sleep problems, also muscle spasms</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fer than Barbiturates in terms of respiratory depression (death from resp. dep. is rare)</a:t>
            </a:r>
            <a:endParaRPr b="0" lang="en-US" sz="3200" spc="-1" strike="noStrike">
              <a:solidFill>
                <a:srgbClr val="ffffff"/>
              </a:solidFill>
              <a:latin typeface="Garamond"/>
            </a:endParaRPr>
          </a:p>
          <a:p>
            <a:pPr marL="291600" indent="-2916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 effective for treating anxiety over the long ter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Benzodiazepin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lerance develops rapidl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drawal symptoms very similar to Barbiturates: anxiety, over stimulation of neurons can lead to seizure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bining BZD’s with alcohol, painkillers, or antihistimines can cause unconsciousness and respiratory depressio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can cause problems with learning, and amnesia</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tney Houston thought to have died from Xanax and alcohol comb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9-30T15:45:04Z</dcterms:modified>
  <cp:revision>110</cp:revision>
  <dc:subject/>
  <dc:title>How do organisms adapt to change?</dc:title>
</cp:coreProperties>
</file>