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814B5-D2ED-4E24-9BB5-9E539B1815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3716A-4533-48D4-9439-2065E0660ECA}"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41" name="PlaceHolder 1"/>
          <p:cNvSpPr>
            <a:spLocks noGrp="1"/>
          </p:cNvSpPr>
          <p:nvPr>
            <p:ph type="sldImg"/>
          </p:nvPr>
        </p:nvSpPr>
        <p:spPr>
          <a:xfrm>
            <a:off x="1150920" y="692280"/>
            <a:ext cx="4556160" cy="341604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38D6013-A11C-4590-B131-76883AA62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C97A45A-200A-4EA7-9A76-AC5ED8E4E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BAEF1B8-2944-493F-9B0A-1E90426A9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3E2C3BE-C9AE-4A3B-808A-4A119F81A3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497FA3-FBD6-47D7-9D98-4B89A37B87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D8DEDD-4F2A-4658-B56D-E00B07130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61C42A-0547-4AFF-A07E-90CE3C6D73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445EEE-D2F6-4FA1-988C-9669453FFB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3A111D-7C70-482B-9776-1024765036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224F7C-3834-43CF-BC5E-EAFA7D592D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2FA37-BBFD-411B-8A7A-DD57556CE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48C02B4-F87C-451F-8F74-EE51B64A3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0D044-1983-49DF-A743-9351AEB2B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BB8EF-D582-4A49-BF0F-F663FF5E6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9AB7A9-44E7-4F81-8004-8319693819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637937-F50A-451E-A684-FC21A26392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0869A4-EFB2-4EBB-BA26-39B7EAF701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E921E3C-11B3-4962-93B7-3FC1A0711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09053D9-2CC5-40A4-A454-1F0040BCA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982362A-0BC4-40B7-B584-9C62EEFEF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0C09C08-1655-4B4C-8CBE-8AC1DA207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C66104D-ABFF-4F9C-8683-03AFFE452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0EAE6BB-12A6-447A-AAD9-6DBBD495D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053761B-73BE-4E24-B1B2-3F7ACA5991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72ED6-419C-4708-8F58-416835C7FEA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29D45-EB9A-4623-A6EA-12BCCE45E05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pbs.org/newshour/updates/marilyn-monroe-and-the-prescription-drugs-that-killed-her/" TargetMode="External"/><Relationship Id="rId2" Type="http://schemas.openxmlformats.org/officeDocument/2006/relationships/hyperlink" Target="http://biography.yourdictionary.com/articles/how-did-jimi-hendrix-die.html"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US" sz="6000" spc="-1" strike="noStrike">
                <a:solidFill>
                  <a:srgbClr val="e5e5ff"/>
                </a:solidFill>
                <a:latin typeface="Garamond"/>
              </a:rPr>
              <a:t>Sedatives</a:t>
            </a:r>
            <a:endParaRPr b="1" lang="en-US" sz="6000" spc="-1" strike="noStrike">
              <a:solidFill>
                <a:srgbClr val="e5e5ff"/>
              </a:solidFill>
              <a:latin typeface="Garamond"/>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07"/>
                                        </p:tgtEl>
                                        <p:attrNameLst>
                                          <p:attrName>style.visibility</p:attrName>
                                        </p:attrNameLst>
                                      </p:cBhvr>
                                      <p:to>
                                        <p:strVal val="visible"/>
                                      </p:to>
                                    </p:set>
                                    <p:animEffect filter="fade" transition="in">
                                      <p:cBhvr additive="repl">
                                        <p:cTn id="7"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
          <p:cNvPicPr/>
          <p:nvPr/>
        </p:nvPicPr>
        <p:blipFill>
          <a:blip r:embed="rId1"/>
          <a:stretch/>
        </p:blipFill>
        <p:spPr>
          <a:xfrm>
            <a:off x="0" y="0"/>
            <a:ext cx="9144000" cy="684540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enzodiazepines</a:t>
            </a:r>
            <a:endParaRPr b="1" lang="en-US" sz="4400" spc="-1" strike="noStrike">
              <a:solidFill>
                <a:srgbClr val="e5e5ff"/>
              </a:solidFill>
              <a:latin typeface="Garamond"/>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chanism of action is at GABA</a:t>
            </a:r>
            <a:r>
              <a:rPr b="0" lang="en-US" sz="2400" spc="-1" strike="noStrike">
                <a:solidFill>
                  <a:srgbClr val="ffffff"/>
                </a:solidFill>
                <a:latin typeface="Garamond"/>
              </a:rPr>
              <a:t>A</a:t>
            </a:r>
            <a:r>
              <a:rPr b="0" lang="en-US" sz="2800" spc="-1" strike="noStrike">
                <a:solidFill>
                  <a:srgbClr val="ffffff"/>
                </a:solidFill>
                <a:latin typeface="Garamond"/>
              </a:rPr>
              <a:t> receptor; they enhance the inhibitory effects of GABA.  They do not have an effect on Chloride channel opening in the absence of GABA.  </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contrast, the Barbiturates can open the Chloride channel, even without GABA binding.</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ohypnol (Roofies)</a:t>
            </a:r>
            <a:endParaRPr b="1" lang="en-US" sz="4400" spc="-1" strike="noStrike">
              <a:solidFill>
                <a:srgbClr val="e5e5ff"/>
              </a:solidFill>
              <a:latin typeface="Garamond"/>
            </a:endParaRPr>
          </a:p>
        </p:txBody>
      </p:sp>
      <p:sp>
        <p:nvSpPr>
          <p:cNvPr id="129"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unitrazepam (Rohypnol) </a:t>
            </a:r>
            <a:endParaRPr b="0" lang="en-US" sz="28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small amount (2 mg) can be added to an alcoholic drink and lead to amnesia and overdose.  </a:t>
            </a:r>
            <a:endParaRPr b="0" lang="en-US" sz="24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ften called “the date rape drug”</a:t>
            </a:r>
            <a:endParaRPr b="0" lang="en-US" sz="24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easily disappears into a drink and is hard to detect (colorless, odorless).  </a:t>
            </a:r>
            <a:endParaRPr b="0" lang="en-US" sz="24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at can you do to minimize your chances of this happening to you?</a:t>
            </a:r>
            <a:endParaRPr b="0" lang="en-US" sz="2400" spc="-1" strike="noStrike">
              <a:solidFill>
                <a:srgbClr val="ffffff"/>
              </a:solidFill>
              <a:latin typeface="Garamond"/>
            </a:endParaRPr>
          </a:p>
          <a:p>
            <a:pPr lvl="2" marL="1017000" indent="-2034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f person feels dizzy, weak, lightheaded, confused, after relatively small amount or no alcohol, should consider getting medical attention.</a:t>
            </a:r>
            <a:endParaRPr b="0" lang="en-US" sz="2000" spc="-1" strike="noStrike">
              <a:solidFill>
                <a:srgbClr val="ffffff"/>
              </a:solidFill>
              <a:latin typeface="Garamond"/>
            </a:endParaRPr>
          </a:p>
          <a:p>
            <a:pPr lvl="2" marL="1017000" indent="-2034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ttp://blog.al.com/wire/2013/08/company_unveils_drinkware_stra.html</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leep-Inducing Drugs</a:t>
            </a:r>
            <a:endParaRPr b="1" lang="en-US" sz="4400" spc="-1" strike="noStrike">
              <a:solidFill>
                <a:srgbClr val="e5e5ff"/>
              </a:solidFill>
              <a:latin typeface="Garamond"/>
            </a:endParaRPr>
          </a:p>
        </p:txBody>
      </p:sp>
      <p:sp>
        <p:nvSpPr>
          <p:cNvPr id="131" name=""/>
          <p:cNvSpPr txBox="1"/>
          <p:nvPr/>
        </p:nvSpPr>
        <p:spPr>
          <a:xfrm>
            <a:off x="457200" y="1600200"/>
            <a:ext cx="8229600" cy="4525920"/>
          </a:xfrm>
          <a:prstGeom prst="rect">
            <a:avLst/>
          </a:prstGeom>
          <a:noFill/>
          <a:ln w="0">
            <a:noFill/>
          </a:ln>
        </p:spPr>
        <p:txBody>
          <a:bodyPr anchor="t">
            <a:normAutofit fontScale="86000"/>
          </a:bodyPr>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amples are zolpidem (Ambien) and eszopiclone (Lunesta)</a:t>
            </a:r>
            <a:endParaRPr b="0" lang="en-US" sz="28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mbien and Lunesta are not benzodiazepines, but work at that receptor.  They seem to be safer and have less abuse potential compared to BZDs, but they should not be taken with other sedating drugs.</a:t>
            </a:r>
            <a:endParaRPr b="0" lang="en-US" sz="28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ll cause amnesia.  Should not be taken with other sedating drugs.</a:t>
            </a:r>
            <a:endParaRPr b="0" lang="en-US" sz="28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ttps://www.huffingtonpost.com/2014/01/15/ambien-side-effect-sleepwalking-sleep-aid_n_4589743.htm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HB</a:t>
            </a:r>
            <a:endParaRPr b="1" lang="en-US" sz="4400" spc="-1" strike="noStrike">
              <a:solidFill>
                <a:srgbClr val="e5e5ff"/>
              </a:solidFill>
              <a:latin typeface="Garamond"/>
            </a:endParaRPr>
          </a:p>
        </p:txBody>
      </p:sp>
      <p:sp>
        <p:nvSpPr>
          <p:cNvPr id="133"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amma-hydroxybutyrate</a:t>
            </a:r>
            <a:endParaRPr b="0" lang="en-US" sz="2800" spc="-1" strike="noStrike">
              <a:solidFill>
                <a:srgbClr val="ffffff"/>
              </a:solidFill>
              <a:latin typeface="Garamond"/>
            </a:endParaRPr>
          </a:p>
          <a:p>
            <a:pPr marL="315360" indent="-3153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vailable for prescription (Xyrem) for treating narcolepsy</a:t>
            </a:r>
            <a:r>
              <a:rPr b="0" lang="en-US" sz="2000" spc="-1" strike="noStrike">
                <a:solidFill>
                  <a:srgbClr val="ffffff"/>
                </a:solidFill>
                <a:latin typeface="Garamond"/>
              </a:rPr>
              <a:t>https://pubmed.ncbi.nlm.nih.gov/3704454/#:~:text=Sleep%20studies%20reveal%20that%20GHB,and%20contain%20them%20at%20night.</a:t>
            </a:r>
            <a:endParaRPr b="0" lang="en-US" sz="20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verdose can occur easily</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lerance and withdrawal will develop with repeated use.</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and Rohypnol) can be used as “date-rape drugs” and added to drinks. GHB sometimes has a salty tast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HB</a:t>
            </a:r>
            <a:endParaRPr b="1" lang="en-US" sz="4400" spc="-1" strike="noStrike">
              <a:solidFill>
                <a:srgbClr val="e5e5ff"/>
              </a:solidFill>
              <a:latin typeface="Garamond"/>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product of GABA metabolism</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80’s, marketed as nutritional supplement for body builder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990 FDA banned it b/c unsafe; 2000 designated as a schedule I dru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w kits for synthesizing the drug at home from the chemical precursor GBL (gamma butyrolacton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HB</a:t>
            </a:r>
            <a:endParaRPr b="1" lang="en-US" sz="4400" spc="-1" strike="noStrike">
              <a:solidFill>
                <a:srgbClr val="e5e5ff"/>
              </a:solidFill>
              <a:latin typeface="Garamond"/>
            </a:endParaRPr>
          </a:p>
        </p:txBody>
      </p:sp>
      <p:sp>
        <p:nvSpPr>
          <p:cNvPr id="137" name=""/>
          <p:cNvSpPr txBox="1"/>
          <p:nvPr/>
        </p:nvSpPr>
        <p:spPr>
          <a:xfrm>
            <a:off x="457200" y="1600200"/>
            <a:ext cx="8229600" cy="4525920"/>
          </a:xfrm>
          <a:prstGeom prst="rect">
            <a:avLst/>
          </a:prstGeom>
          <a:noFill/>
          <a:ln w="0">
            <a:noFill/>
          </a:ln>
        </p:spPr>
        <p:txBody>
          <a:bodyPr anchor="t">
            <a:normAutofit fontScale="83000"/>
          </a:bodyPr>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apidly absorbed from GI tract, enters bloodstream, and crosses into brain</a:t>
            </a: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ow doses produce mild euphoria, relaxation, social disinhibition.</a:t>
            </a: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igher doses cause lethargy, movement probs, slurring speech, nausea, vomiting.</a:t>
            </a: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mory impairment common with a high dose.</a:t>
            </a: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verdose can cause coma, death, or even seizur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HB</a:t>
            </a:r>
            <a:endParaRPr b="1" lang="en-US" sz="4400" spc="-1" strike="noStrike">
              <a:solidFill>
                <a:srgbClr val="e5e5ff"/>
              </a:solidFill>
              <a:latin typeface="Garamond"/>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chanism of action still not well understoo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kely agonist at GABA</a:t>
            </a:r>
            <a:r>
              <a:rPr b="0" lang="en-US" sz="2800" spc="-1" strike="noStrike">
                <a:solidFill>
                  <a:srgbClr val="ffffff"/>
                </a:solidFill>
                <a:latin typeface="Garamond"/>
              </a:rPr>
              <a:t>A, </a:t>
            </a:r>
            <a:r>
              <a:rPr b="0" lang="en-US" sz="3200" spc="-1" strike="noStrike">
                <a:solidFill>
                  <a:srgbClr val="ffffff"/>
                </a:solidFill>
                <a:latin typeface="Garamond"/>
              </a:rPr>
              <a:t>also may be agonist for GABA</a:t>
            </a:r>
            <a:r>
              <a:rPr b="0" lang="en-US" sz="2800" spc="-1" strike="noStrike">
                <a:solidFill>
                  <a:srgbClr val="ffffff"/>
                </a:solidFill>
                <a:latin typeface="Garamond"/>
              </a:rPr>
              <a:t>B</a:t>
            </a:r>
            <a:r>
              <a:rPr b="0" lang="en-US" sz="3200" spc="-1" strike="noStrike">
                <a:solidFill>
                  <a:srgbClr val="ffffff"/>
                </a:solidFill>
                <a:latin typeface="Garamond"/>
              </a:rPr>
              <a:t> receptors.  GHB may also be a NT in the bra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ll add to alcohol’s effects, lowering blood pressure and decreasing blood oxyge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dative Drugs</a:t>
            </a:r>
            <a:endParaRPr b="1" lang="en-US" sz="4400" spc="-1" strike="noStrike">
              <a:solidFill>
                <a:srgbClr val="e5e5ff"/>
              </a:solidFill>
              <a:latin typeface="Garamond"/>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clude:</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arbiturate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nzodiazepine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rugs to induce sleep</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HB</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arbiturates</a:t>
            </a: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dative-hypnotics, anxiolytic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g. amobarbital (Amytal), pentobarbital (Nembutal), secobarbital (Seconal),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arbital synthesized in 1903</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mall modifications to chemical structure produces a variety of sedatives with different properti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rbiturates</a:t>
            </a:r>
            <a:endParaRPr b="1" lang="en-US" sz="4400" spc="-1" strike="noStrike">
              <a:solidFill>
                <a:srgbClr val="e5e5ff"/>
              </a:solidFill>
              <a:latin typeface="Garamond"/>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 not experiment with different types; they can be very different in potency.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eneral Effect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w dose – reduces anxiety and tension</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dium dose – depending on setting may produce effects similar to drunkenness, or induce sleep</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igh dose – can cause death from respiratory arres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arbiturates, cont.</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t used commonly anymore b/c after development of tolerance, margin between intoxicating dose and fatal dose becomes small.  </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taken with alcohol, (or any depressant type drug) synergistic effects occur, and can result in overdose or death.</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Downers” can be used to counteract effects of stimulant drugs in heavy drug users.</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dical use as sedatives and anticonvulsan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arbiturates, cont.</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chanism of action: bind to GABA</a:t>
            </a:r>
            <a:r>
              <a:rPr b="0" lang="en-US" sz="2800" spc="-1" strike="noStrike" baseline="-25000">
                <a:solidFill>
                  <a:srgbClr val="ffffff"/>
                </a:solidFill>
                <a:latin typeface="Garamond"/>
              </a:rPr>
              <a:t>A </a:t>
            </a:r>
            <a:r>
              <a:rPr b="0" lang="en-US" sz="2800" spc="-1" strike="noStrike">
                <a:solidFill>
                  <a:srgbClr val="ffffff"/>
                </a:solidFill>
                <a:latin typeface="Garamond"/>
              </a:rPr>
              <a:t>receptor and facilitate GABA binding.  Can also open Cloride channel in absence of GABA (accounts for increased toxicity over BZD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lerance does develop, but not much to respiratory depression.  If tolerant, this can effect other drugs to be metabolized more quickly.</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thdrawal – muscle twitching, tremors, weakness, dizziness, nausea, vomiting, insomnia to delirium, convulsions and even death</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me Famous deaths involving Barbiturate overdose</a:t>
            </a:r>
            <a:endParaRPr b="1" lang="en-US" sz="4400" spc="-1" strike="noStrike">
              <a:solidFill>
                <a:srgbClr val="e5e5ff"/>
              </a:solidFill>
              <a:latin typeface="Garamond"/>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rilyn Monroe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hlinkClick r:id="rId1"/>
              </a:rPr>
              <a:t>http://www.pbs.org/newshour/updates/marilyn-monroe-and-the-prescription-drugs-that-killed-her/</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Jimi Hendrix </a:t>
            </a:r>
            <a:r>
              <a:rPr b="0" lang="en-US" sz="2800" spc="-1" strike="noStrike" u="sng">
                <a:solidFill>
                  <a:srgbClr val="ffcc00"/>
                </a:solidFill>
                <a:uFillTx/>
                <a:latin typeface="Garamond"/>
                <a:hlinkClick r:id="rId2"/>
              </a:rPr>
              <a:t>http://biography.yourdictionary.com/articles/how-did-jimi-hendrix-die.html</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olling Stones “Mother’s Little Helper”, 1965, about Valium (diazepam)</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ttps://www.youtube.com/watch?v=x-zxBNz3Xb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enzodiazepines</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dative-hypnotics, anxiolytics</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g. Valium (diazepam), Librium (chlordiazepoxide), flunitrazepam (Rohypnol), Xanax, Ativan</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scribed most often for anxiety and sleep problems, also muscle spasms</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fer than Barbiturates in terms of respiratory depression (death from resp. dep. is rare)</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t effective for treating anxiety over the long ter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enzodiazepine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lerance develops rapidly</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thdrawal symptoms very similar to Barbiturates: anxiety, over stimulation of neurons can lead to seizures.</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bining BZD’s with alcohol, painkillers, or antihistimines can cause unconsciousness and respiratory depression.</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y can cause problems with learning, and amnesia</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tney Houston thought to have died from Xanax and alcohol combina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3:54:12Z</dcterms:created>
  <dc:creator>Campus Computing</dc:creator>
  <dc:description/>
  <dc:language>en-US</dc:language>
  <cp:lastModifiedBy>Trench, Lynne S.</cp:lastModifiedBy>
  <dcterms:modified xsi:type="dcterms:W3CDTF">2020-09-30T15:45:04Z</dcterms:modified>
  <cp:revision>110</cp:revision>
  <dc:subject/>
  <dc:title>How do organisms adapt to change?</dc:title>
</cp:coreProperties>
</file>