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4A89-F699-40F8-A01F-D1D60187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4965-55F6-4EEF-8D14-C0ED5154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6119-443B-436A-8FBB-004DAD09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3BAA-E9F7-46F1-9087-4E2C4E8E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ACE4-5AFA-4423-93C6-91FDEFB7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241C-19AA-4438-8D9A-7C562BF1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604A-A63A-4C7B-8E8B-822C2956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95B1-B195-4B9D-B6C4-7BD18A4E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0346-32ED-4932-B659-A0D79766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60E1-45CD-49D7-8179-52CDB7F4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C4F7-E68B-4923-97BD-2F3F8660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5C99-355F-4848-ACD4-0B35B409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884E-93A5-4176-9791-738062B6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6C41-5DAF-4A4F-B7B5-6189AD5D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6C75-63D4-47F0-8C59-BD72B4DF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E93C-124C-4377-AE29-958091C4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522E-C19F-4A9B-8D62-678B8A91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2E2B-2402-4B0C-8F6C-9C57BB7B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1E48-9CE5-4B91-BBFE-B6DE161C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3745-C5C4-4B8B-A2BE-931EFE15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FF27-C66F-4997-8B4E-FCB8E48E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8899-01B4-49E1-8355-91D03667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D2DB-3E9A-4DF0-A98D-3E262CD3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D1A2-374B-4E50-927A-466D2FEE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36FA-358D-43F2-A5FC-DED0070773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01BD-70AE-4D8E-95B8-12D7C8DFF18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-OZUc5ZsTUY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VEulrvBwsA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caine and Amphetam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peedball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bining cocaine with hero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reaminess of heroin reduces edginess and arousal of cocaine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is this dangerou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thought to be how John Belushi, Chris Farley, and Chris Kelly di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olerance and Sensitization to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ous cocaine admin. Leads to tolerance.  Tolerance develops to some effects, especially suppression of appetite and euphoria, but this goes away after a few days of abstin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mittent cocaine admin leads to sensitization to motor (locomotor, repetitive) and reinforcing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bi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ithdrawal from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al withdrawal is not life threatening, and sometimes it is not obvious or even absent.  It may inclu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sychological depression and anhed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reme fati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nged periods of restless sle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ound in appet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Intense “psychological” withdraw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ong craving for the dru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4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5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4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s of Stimulant U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eme reactions to stimulants can include: paranoia, delirium, hallucinations, psychosis, indistinguishable from paranoid schizophre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likely to develop coronary aneurysm, vascular disease, seizures (usually only seen with cocaine), sudden cardiac death, stroke, hyperther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bugs” or formication associated with chronic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re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ute effects– irregular heart beat, heart failure, stroke, convulsions (1/2 of non-alc. drug-related ER visits and unexplained death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ethylene – more excitatory effect on BP and heart rate than cocaine al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nic use of stimulants results in few direct negative health effects (besides to cardiovascular system) but may lead to decreased ability to produce 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rect effects from 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known to cause seiz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Stimulant u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lead to accelerated development of atherosclerosis (fatty plaques that block blood vessels) and possibly direct damage to heart from lack of oxy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studies have shown long-lasting damage to dopamine nerve endings and reduction in dopam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mory and decision-making problems in methamphetamine us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ical thinning and gray matter volume reductions, especially in frontal regions of brain, reported in heavy amphetamine users (Neuroscience, 20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nts and S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vy use can cause impotence.  Use usually increases desire, but not perform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es indicate that heavy users perform worse than nonusers on cognitive tasks such as verbal memory.  Attention, concentration, and reaction times affec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ous Interactions of Stimulants with other 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he counter cold remedies containing deconge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depressants (MAO inhibito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kind of heart medi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thing making person more sensitive to seizures (BuSpar, high levels of caffe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imulants and Pregnanc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of miscarri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of premat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d birth weight and head circum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ict blood vessels that supply nutrients to f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incidence of ADHD and learning disabilities later in lif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ounded by other drug use, 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-depress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ltrex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prenorph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havioral therapies, including exti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me History of Coca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is a component of Coca lea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ves chewed by natives of Andes mountains in Bolivia and Pe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ant part of Inca cul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ought to increase strength and endurance and decrease need for f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ca leaves steeped in wine was Vin Mariani, in 1869; this was a patent medic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onent of early versions of Coca 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ud helped to popularize it in Eur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neral info on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talin = methylphenidate.  Duration of action about 4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erall = amphetamine.  Duration of action about 4-6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amphetamine duration of action from 6-24 ho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quiem for a Dream Cli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://www.youtube.com/watch?v=-OZUc5ZsTU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shows a woman who is hooked on diet pil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thamphetamine-Associated Health Problem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diovascular problems you would exp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mature ag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://www.youtube.com/watch?v=bVEulrvBw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al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th Salts”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DPV, 3,4methylenedioxymethcathinone, a cathinone deriv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mically related to cathinone from khat plant.  Also methcathin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y lipophilic and enter brain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ation of inexperienced users and bulk marketing results in frequent over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me History of Amphetami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inese drug mahuang known to help treat asth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phedrine identified as active ingredient in mahuang.  This dilates bronchioles and increases body temp.  It can also be used to make Methamphetami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20’s Gordon Alles synthesized chemical similar in structure to ephedrine– amphetami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panese scientists synthesized methamphetamine in Japa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jority of meth. is made in bootleg labs.  The smokeable form of methamphetamine is called “ice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hat is derived from an African plant.  The active ingredient is cathinone, a mild amphetamine-like stimulant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synthetic variant of cathinone, methcathinone is much more pot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ca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d from leaves of coca plant, mixed with solvents, processed into powde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ing sequence from the movie “Blow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ck is prepared from powder by boiling it with sodium bicarbon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comes from Columbia and Mex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Effects of Coca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ates the sympathetic nervous system to increase BP, body temp and heart rate, constricts blood vessels, dilates bronchioles, increases blood sugar and prepares body for emer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es intense pleasure, releases inhibitions, increases self-confidence, increases attention and alertness,  eliminates fatigue, decreases appetite, also causes an increase of movements which can become focused and repetitive (stereotyp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5000" indent="-5850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phetamine has similar effects to cocaine, but lasts 2-4 hours lon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caine is destroyed rapid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orting, effects peak in about 30 min, last 60-90 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 and inhalation effects peak in 3-5 min, last 10-40 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caine ingestion (chewing leaves) leads to low blood levels of the dr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caine s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eurological Effects of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caine affects monoamines: norepinephrine, epinephrine, dopamine, and seroton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caine blocks the reuptake of these neurotransmitters at the reuptake transpor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mphetamine does the same thing, but also uses the pump to enter the nerve terminal and cause a massive release of NT into synap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thylphenidate (ADHD drug) has smaller effects on heart rate and breathing than other stimulants b/c it affects DA more than 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ny antidepressants block serotonin and/or NE transporter, but they don’t have arousing effect or abuse potential of coca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caine when applied locally, prevents transmission of nerve signals along sensory nerves. Novocaine and lidocaine were developed from cocai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ffects continued; these can apply to all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ve/repetitive behavi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uous use can result in psychotic behavior, inclu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t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noia (similar to paranoid schizo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u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lig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micidal/suicidal thou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caine bug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dical Uses of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dilate bronchial passages for asth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reat narcolep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reat hyperactivity (e.g. methylphenidate or Rital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uppress appet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tay awa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can be used as a local anesthetic, sometimes used in eye, ear, nose surg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2-04-05T17:40:52Z</dcterms:modified>
  <cp:revision>75</cp:revision>
  <dc:subject/>
  <dc:title>How do organisms adapt to change?</dc:title>
</cp:coreProperties>
</file>