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A78-E887-4A69-97FC-6A1524AE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021-997D-477F-BE02-1AED45CE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1D5-B454-4DAF-8264-18645FAA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DD9-2FED-4F17-934F-D90E2CC7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98D8-9D42-4907-AAE9-D6899F94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25B4-E396-4164-9483-2062B92E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5B4E-293F-4B22-B723-68F279FA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B33A-D91E-4585-A003-D79D264A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2B10-D6B0-4AB4-856D-0B19628D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A875-7BFB-4D9D-8269-4BD25557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EBB4-8615-48BD-A8D0-A9160FE0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26B5-73BC-4B05-B8F1-88873BB0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C089-E177-4F0A-B74D-A22EF093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EA6A-2EC8-4A17-8502-AE2DC447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CEC2-6145-4322-B3D2-9E6BB138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9C43-7842-45FB-900A-771E7728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9328-35CE-4C31-A8FF-A2A09D7A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24B-9E30-4EE5-9163-3FEAA820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EAD-C6B6-4C2A-A4C6-15F67BD5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3509-694D-4564-84E1-2491FCF4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927-2DB4-4089-AF9B-C8C17EDA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A9BD-7E73-4912-B0B2-C9E45D23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CB3-AC93-47AD-849D-CDBC32BD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963-6433-4B29-916C-756C5B6A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3D2C-3A8F-46B2-9DF2-25C7F8B34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DA5A-F4DF-4CFF-9AB1-07891C73471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OZUc5ZsTUY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EulrvBwsA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 and Amphetam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peedball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bining cocaine with hero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eaminess of heroin reduces edginess and arousal of cocaine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this dangero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ought to be how John Belushi, Chris Farley, and Chris Kelly di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Sensitization to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 cocaine admin. Leads to tolerance.  Tolerance develops to some effects, especially suppression of appetite and euphoria, but this goes away after a few days of abstin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mittent cocaine admin leads to sensitization to motor (locomotor, repetitive) and reinforcing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bi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ithdrawal from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withdrawal is not life threatening, and sometimes it is not obvious or even absent.  It may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ychological depression and anhed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eme 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nged periods of restless sle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ound in appet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Intense “psychological” withdraw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craving for the dr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Stimulant U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 reactions to stimulants can include: paranoia, delirium, hallucinations, psychosis, indistinguishable from paranoid schizophr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likely to develop coronary aneurysm, vascular disease, seizures (usually only seen with cocaine), sudden cardiac death, stroke, hyperther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bugs” or formication associated with chronic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ute effects– irregular heart beat, heart failure, stroke, convulsions (1/2 of non-alc. drug-related ER visits and unexplained deat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ethylene – more excitatory effect on BP and heart rate than cocaine al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ic use of stimulants results in few direct negative health effects (besides to cardiovascular system) but may lead to decreased ability to produce 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effects from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known to cause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Stimulant u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lead to accelerated development of atherosclerosis (fatty plaques that block blood vessels) and possibly direct damage to heart from lack of oxy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tudies have shown long-lasting damage to dopamine nerve endings and reduction in dopam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ory and decision-making problems in methamphetamine us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ical thinning and gray matter volume reductions, especially in frontal regions of brain, reported in heavy amphetamine users (Neuroscience, 20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nts and S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vy use can cause impotence.  Use usually increases desire, but not perform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es indicate that heavy users perform worse than nonusers on cognitive tasks such as verbal memory.  Attention, concentration, and reaction times aff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Interactions of Stimulant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he counter cold remedies containing deconge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depressants (MAO inhibit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kind of heart medi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thing making person more sensitive to seizures (BuSpar, high levels of caffe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mulants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miscarri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premat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birth weight and head circum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ict blood vessels that supply nutrient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incidence of ADHD and learning disabilities later in l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ounded by other drug use,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-depress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ltrex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prenorph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havioral therapies, including exti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History of 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is a component of Coca le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ves chewed by natives of Andes mountains in Bolivia and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 part of Inca 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 to increase strength and endurance and decrease need for f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a leaves steeped in wine was Vin Mariani, in 1869; this was a patent 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nent of early versions of Coca 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ud helped to popularize it in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l info on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talin = methylphenidate.  Duration of action about 4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rall = amphetamine.  Duration of action about 4-6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amphetamine duration of action from 6-24 ho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quiem for a Dream Cli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-OZUc5ZsTU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shows a woman who is hooked on diet pil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thamphetamine-Associated Health Proble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ovascular problems you would exp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ture ag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bVEulrvBw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al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th Salts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PV, 3,4methylenedioxymethcathinone, a cathinone deriv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mically related to cathinone from khat plant.  Also methcathin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lipophilic and enter brain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ation of inexperienced users and bulk marketing results in frequent over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History of Amphetami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inese drug mahuang known to help treat asth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phedrine identified as active ingredient in mahuang.  This dilates bronchioles and increases body temp.  It can also be used to make Methamphetam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20’s Gordon Alles synthesized chemical similar in structure to ephedrine– amphetam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panese scientists synthesized methamphetamine in Jap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jority of meth. is made in bootleg labs.  The smokeable form of methamphetamine is called “ic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hat is derived from an African plant.  The active ingredient is cathinone, a mild amphetamine-like stimulan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ynthetic variant of cathinone, methcathinone is much more pot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d from leaves of coca plant, mixed with solvents, processed into powd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ing sequence from the movie “Blow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ck is prepared from powder by boiling it with sodium bicarbon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es from Columbia and Mex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ates the sympathetic nervous system to increase BP, body temp and heart rate, constricts blood vessels, dilates bronchioles, increases blood sugar and prepares body for emer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es intense pleasure, releases inhibitions, increases self-confidence, increases attention and alertness,  eliminates fatigue, decreases appetite, also causes an increase of movements which can become focused and repetitive (stereotyp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hetamine has similar effects to cocaine, but lasts 2-4 hours lo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 is destroyed rapid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orting, effects peak in about 30 min, last 60-90 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 and inhalation effects peak in 3-5 min, last 10-40 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 ingestion (chewing leaves) leads to low blood levels of the dr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 s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rological Effects of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affects monoamines: norepinephrine, epinephrine, dopamine, and seroton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blocks the reuptake of these neurotransmitters at the reuptake transpor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mphetamine does the same thing, but also uses the pump to enter the nerve terminal and cause a massive release of NT into synap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hylphenidate (ADHD drug) has smaller effects on heart rate and breathing than other stimulants b/c it affects DA more than 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ny antidepressants block serotonin and/or NE transporter, but they don’t have arousing effect or abuse potential of coca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when applied locally, prevents transmission of nerve signals along sensory nerves. Novocaine and lidocaine were developed from coca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ffects continued; these can apply to all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ve/repetitive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ous use can result in psychotic behavior, inclu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noia (similar to paranoid schizo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u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lig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icidal/suicidal thou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aine bug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dical Uses of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dilate bronchial passages for asth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eat narcolep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eat hyperactivity (e.g. methylphenidate or Rital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uppress appet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awa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can be used as a local anesthetic, sometimes used in eye, ear, nose sur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04-05T17:40:52Z</dcterms:modified>
  <cp:revision>75</cp:revision>
  <dc:subject/>
  <dc:title>How do organisms adapt to change?</dc:title>
</cp:coreProperties>
</file>