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D14-7669-4615-B608-0A0EB285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91A-0281-46B2-996C-A78A83E9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CFA-807A-4CDB-829D-5E2B06AB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3157-E0A5-4DB1-96EC-3961A2B1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9FED-10DB-4566-9366-0212E78A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37D-59D9-40B9-9889-1C496203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0E02-4525-4C5E-AC6D-86C35137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A5C7-EB31-43EC-88AA-3817D08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5B7-A39A-481B-9F27-DE6B2658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777E-E9E8-4B89-AE8E-2063CC31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70A4-898E-444D-BC8A-F315E0A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C04-1224-46AA-852B-D69F597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F436-E0A5-4E96-8671-D3B5880A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26E-2C13-4154-AC03-A0684FD7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2D60-D758-446B-B7D0-0B9DA023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BE6-E871-4AC0-84EF-188AA142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A50B-84CB-4A33-9B23-82A9BB992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1AE-DDEA-4F1B-B419-F00E6B2C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420-D3D9-4B77-BB44-83B4B9FC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A36-09A8-4DF1-BB7D-B3340B87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AFBE-2D51-422F-B68C-5BF6F94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C7B-E5DF-4F6A-9286-36305B32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7B7-657B-490C-9E53-BA0303E6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279-4D5B-4E84-814D-0521A7F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8B47-CF17-450D-B717-87A428683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8C09-6E8E-45C8-ADD5-4562B3BF439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-OZUc5ZsTUY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EulrvBwsA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and Amphetam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peedball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bining cocaine with hero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eaminess of heroin reduces edginess and arousal of cocain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y is this danger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thought to be how John Belushi, Chris Farley, and Chris Kelly di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Sensitization to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cocaine admin. Leads to tolerance.  Tolerance develops to some effects, especially suppression of appetite and euphoria, but this goes away after a few days of abstin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mittent cocaine admin leads to sensitization to motor (locomotor, repetitive) and reinforcing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i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ithdrawal from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withdrawal is not life threatening, and sometimes it is not obvious or even absent.  It ma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sychological depression and anhed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eme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nged periods of restless sle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n appet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Intense “psychological” withdraw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ong craving for the dr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 reactions to stimulants can include: paranoia, delirium, hallucinations, psychosis, indistinguishable from paranoid schizophre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likely to develop coronary aneurysm, vascular disease, seizures (usually only seen with cocaine), sudden cardiac death, stroke, hyper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bugs” or formication associated with chronic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re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effects– irregular heart beat, heart failure, stroke, convulsions (1/2 of non-alc. drug-related ER visits and unexplained dea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ethylene – more excitatory effect on BP and heart rate than cocaine al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nic use of stimulants results in few direct negative health effects (besides to cardiovascular system) but may lead to decreased ability to produce 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effects from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known to cause seiz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Stimulant u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lead to accelerated development of atherosclerosis (fatty plaques that block blood vessels) and possibly direct damage to heart from lack of oxy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tudies have shown long-lasting damage to dopamine nerve endings and reduction in dopam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ory and decision-making problems in methamphetamine us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ical thinning and gray matter volume reductions, especially in frontal regions of brain, reported in heavy amphetamine users (Neuroscience, 20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s and S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vy use can cause impotence.  Use usually increases desire, but not perform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es indicate that heavy users perform worse than nonusers on cognitive tasks such as verbal memory.  Attention, concentration, and reaction times affec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Interactions of Stimulant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he counter cold remedies containing deconge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s (MAO inhibito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kind of heart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thing making person more sensitive to seizures (BuSpar, high levels of caffe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timulants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miscarri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risk of pre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reased birth weight and head circum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trict blood vessels that supply nutrient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incidence of ADHD and learning disabilities later in l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ounded by other drug use,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ltrex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prenorp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al therapies, including exti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is a component of Coca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ves chewed by natives of Andes mountains in Bolivia and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ant part of Inca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 to increase strength and endurance and decrease need for 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 leaves steeped in wine was Vin Mariani, in 1869; this was a patent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onent of early versions of Coca 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ud helped to popularize it in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l info on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alin = methylphenidate.  Duration of action about 4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erall = amphetamine.  Duration of action about 4-6 hou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hamphetamine duration of action from 6-24 ho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quiem for a Dream Cli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-OZUc5ZsTU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hows a woman who is hooked on diet pil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thamphetamine-Associated Health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ovascular problems you would ex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mature ag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://www.youtube.com/watch?v=bVEulrvBw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al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Bath Salt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PV, 3,4methylenedioxymethcathinone, a cathinone deriv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mically related to cathinone from khat plant.  Also methcathin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lipophilic and enter brain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 of inexperienced users and bulk marketing results in frequent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ome History of Amphetamin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inese drug mahuang known to help treat asth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phedrine identified as active ingredient in mahuang.  This dilates bronchioles and increases body temp.  It can also be used to make Meth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920’s Gordon Alles synthesized chemical similar in structure to ephedrine– amphetam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panese scientists synthesized methamphetamine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jority of meth. is made in bootleg labs.  The smokeable form of methamphetamine is called “ice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hat is derived from an African plant.  The active ingredient is cathinone, a mild amphetamine-like stimulan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synthetic variant of cathinone, methcathinone is much more pot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d from leaves of coca plant, mixed with solvents, processed into powd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sequence from the movie “Blow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ck is prepared from powder by boiling it with sodium bicarbo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comes from Columbia and Mex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Coca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ates the sympathetic nervous system to increase BP, body temp and heart rate, constricts blood vessels, dilates bronchioles, increases blood sugar and prepares body for emerge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ces intense pleasure, releases inhibitions, increases self-confidence, increases attention and alertness,  eliminates fatigue, decreases appetite, also causes an increase of movements which can become focused and repetitive (stereotyp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85000" indent="-5850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phetamine has similar effects to cocaine, but lasts 2-4 hours lo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s destroyed rapid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orting, effects peak in about 30 min, last 60-9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and inhalation effects peak in 3-5 min, last 10-4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ingestion (chewing leaves) leads to low blood levels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aine s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rological Effect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affects monoamines: norepinephrine, epinephrine, dopamine, and seroton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blocks the reuptake of these neurotransmitters at the reuptake transpor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phetamine does the same thing, but also uses the pump to enter the nerve terminal and cause a massive release of NT into synap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ylphenidate (ADHD drug) has smaller effects on heart rate and breathing than other stimulants b/c it affects DA more than 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y antidepressants block serotonin and/or NE transporter, but they don’t have arousing effect or abuse potential of coca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caine when applied locally, prevents transmission of nerve signals along sensory nerves. Novocaine and lidocaine were developed from coc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ffects continued; these can apply to all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/repetitive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use can result in psychotic behavior,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st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noia (similar to paranoid schizo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u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lig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icidal/suicidal thou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caine bug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dical Uses of Stimula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ilate bronchial passages for asth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narcolep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reat hyperactivity (e.g. methylphenidate or Rital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uppress appet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tay awa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caine can be used as a local anesthetic, sometimes used in eye, ear, nose surg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4-05T17:40:52Z</dcterms:modified>
  <cp:revision>75</cp:revision>
  <dc:subject/>
  <dc:title>How do organisms adapt to change?</dc:title>
</cp:coreProperties>
</file>