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38B4-2A7A-4837-95EF-A2AEB9E95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3020-0B7F-4FA6-B26C-9DCF18A44EA4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7A8D-60B6-403A-8F35-5DB27E5A35B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B45-1B6B-4E68-9F22-8D5BF5C3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6AC9-F675-4161-B22A-964B983F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FA2-E69F-45DF-99C1-89105EA2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A5A-8350-4E2C-960B-583DC597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09AB-DCC1-4489-8499-FB7E82A4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A463-6A31-4CC2-9819-1B522130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1A50-B669-4ECD-B4E3-B89CA42B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AE35-F617-4417-8837-CE76E7B7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8B9A-11CD-4CBA-AAD8-9F056581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0C8C-C141-4E18-8F7A-532BFA48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3FB9-DAA4-4D1F-9E9B-2F60A9D4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7CBE-AF35-422F-9B2E-624C5F90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8107-F2A2-47AA-BDB3-DE28EAE4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E39B-E172-4C35-960B-BF26CA0A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ADB1-06BC-4E68-82BD-0BAB033A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9857-9405-49C4-8691-12BE0491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B7AC-D5C6-4939-B41A-2C59E69E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C675-5179-40CC-8551-3A5B984D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626-9C69-4196-9824-47E35DD5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5C40-6611-4873-A85A-EF2FD45B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CB97-4F90-4DAA-A881-0AFE58C3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9DF7-02E4-497D-AF5D-E87E5198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39B-FB81-4BC8-8FD5-3538EA32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0D1-EFE9-4633-870F-00B5ECDA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12DA-EA40-46BC-B83D-793DC61CD4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2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7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8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9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30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B47D-4C6F-460A-ACD6-66CBE4DF6E2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UyyjU8fzEYU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WC-cVQmEmY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3oef68YabD0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8m1fCz3ohMw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82tlVcq6E7A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ateralization, Language, and the Split Brai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1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lit Brain Stud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ft hemisphere is capable of/controls spe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ight hemisphere understands simple speech, but usually can’t spea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present picture of object to the left visual field (Right hemisphere), and ask subject what it is, what will he reply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w ask subject to use Left hand to pick out that object among group of objects, can h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ight/Left Hemis. Differenc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ft hemisphere is dominant for most language abilities, as well as ipsalateral moveme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ight hemisphere is dominant for spatial ability, recognizing/perceiving emotion, and musical abilit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e Table 16.1 p. 42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ut, Lateralization is NOT total, may be only a 10% difference in performanc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atch the following Ted talk on your ow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UyyjU8fzEY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1612800" y="74520"/>
            <a:ext cx="585468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ories of the Evolution of Cerebral Lateraliz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did cerebral lateralization evolv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ybe it is advantageous for areas of the brain that perform similar functions to be located in the same hemispher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alytic-Synthetic The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ft hemisphere: logical, analytical; Right hemisphere: synthesizer, organizes information in who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ague; Hard to empirically validate.  Can’t specify degree to which any task requires analytic or synthetic processing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ories of the Evolution of Cerebral Lateraliz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tor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ft hemisphere controls fine movements, one type is spe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hasia often accompanied by other motor probl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t why did motor function become lateralized in the first plac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ories of the Evolution of Cerebral Lateraliz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nguistic The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imary role of Left hemisphere is langu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ft hemisphere damage can disrupt sign language but not pantomime gestu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volution of Cerebral Lateralization of Functio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d to think cerebral lateralization unique to human brai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evidence of left hemisphere specialization for communication in other primates and lower animal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hat are the Survival Advantages of Cerebral Lateraliz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rhaps it is more efficient for neurons performing a particular function to be concentrated in one hemisphe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o different kinds of cognitive processes might be more readily performed simultaneously if they are lateralized to different hemisphe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ernicke-Geschwind Mode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in theory of language localization; very influential, directed much resear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roca’s aphasi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ought to be caused by damage to Broca’s ar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haracterized by broken, slow spee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ressive (speech) problem, generally not comprehension probl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JWC-cVQmEm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ernicke-Geschwind Mode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rnicke’s aphas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ought due to damage to Wernicke’s are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ord salad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ceptive problem (poor comprehension) but fluent, though hard to understand, spe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3oef68YabD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4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6" name="Picture 3" descr="Wernicke-Geshwind"/>
          <p:cNvPicPr/>
          <p:nvPr/>
        </p:nvPicPr>
        <p:blipFill>
          <a:blip r:embed="rId1"/>
          <a:stretch/>
        </p:blipFill>
        <p:spPr>
          <a:xfrm>
            <a:off x="1295280" y="0"/>
            <a:ext cx="66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roduc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rebral Cortex is composed of 2 hemisphe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allows for communication between these 2 hemispher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rebral commissures, such a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ernicke-Geschwind Model: Evalu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s it this simpl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ure Broca’s and Wernicke’s aphasia are rare and not the result of damage to just these areas, respective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esion studies (noting the full extent of damage) do not confirm this mo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4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4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Picture 3" descr="fg16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ernicke-Geschwind Model: Evalu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conclusion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hasic patients don’t just have damage to Broca’s or Wernicke’s areas, but all have some damage to subcortical white mat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erior Left hemisphere lesions more likely =&gt; language expression probl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sterior Left hemisphere lesions more likely =&gt; language comprehension probl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ernicke-Geschwind Model: Evalu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ight hemisphere stimulation almost never disrupts spee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ny individual differences across subjects in terms of language organ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phasia usually has both expressive and receptive sympto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gnitive Neuroscience Approach to Languag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 brain imaging to study language in healthy individu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gnitive processes involved in language are divided into phonological (sound) analysis, grammatical (structure) analysis, and semantic (meaning) analysi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as of brain used for language are used for other purposes as we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eas of brain used for language (and other purposes) are small, widely distributed, and specializ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rain Imaging and Language localiz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velier’s fMRI study of Rea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uch more activity in L hem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tivity extended far beyond areas predicted by W-G model to be involved in silent read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masio’s PET study of nam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ecise area of L temporal lobe that was activated by naming depended on category- faces, animals and tools all activated slightly different are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yslex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yslexia is a difficulty in reading not due to general visual, motor, or intellectual problem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 Types of dyslexi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velopmental – see this when child is learning to read, genetic component, 5-12% English speakers, 2-3 times more likely in bo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cquired – due to brain damage after already knowing how to read, r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4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4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85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velopmental Dyslex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ought to result from a disturbance of phonological processing (representation and comprehension of speech sound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single kind of brain pathology has been found to occur in all cases of developmental dyslex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 many brain changes have been identified that it is difficult to sort them o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8m1fCz3ohM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4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velopmental Dyslex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 times as many English speakers as Italian speakers have developmental dyslexia, likely due to relative complexities of languag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glish and Italian developmental dyslexics show similar abnormal brain activity (less than normal activity in posterior temporal lobe, near boundary with occipital lobe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fore, although dyslexia can be manifested differently, underlying brain pathology seems to be simila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4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4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yslex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ading aloud is thought to consist of two main strategi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xical proced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cognize familiar word as a whole based on stored/memorized inform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onetic proced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unding out words, especially unfamiliar wor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Picture 4" descr="fg16-01 [Converted]"/>
          <p:cNvPicPr/>
          <p:nvPr/>
        </p:nvPicPr>
        <p:blipFill>
          <a:blip r:embed="rId1"/>
          <a:stretch/>
        </p:blipFill>
        <p:spPr>
          <a:xfrm>
            <a:off x="0" y="762120"/>
            <a:ext cx="91677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 Types of Acquired Dyslex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fac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exical procedure can’t be used, but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can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still use phonetic procedure to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sound out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o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ve difficulty reading irregular words, such as sew, pint, yacht (pronounce as sue, pinnt, yache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n’t react to overall shape of w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77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1" dur="77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3" dur="77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5" dur="77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 Types of Acquired Dyslex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ep Dyslexi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honetic procedure can’t be used, but can still use lexical procedure (still use meanin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pond to overall look, meaning, or derivation of word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’t pronounce non-words and uncommon words (that they didn’t use a lot before brain damag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rrelated with damage to Left hemisphere language are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xical procedure may be mediated by right hemisphere activity (N.I. case stud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28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he phaomnehil pweor of the hmuan mnid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occdrnig to a rscheearch at Cmabrigde Uinervtisy, it deosn't mttaer in waht oredr the ltteers in a wrod are, the olny iprmoetnt tihng is taht the frist and lsat ltteer be at the rghit pcla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e rset can be a total mses and you can sitll raed it wouthit porbelm. Tihs is bcuseae the huamn mnid deos not raed ervey lteter by istlef, but the wrod as a wloh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ateraliza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teralization of Function is the difference in brain function between the 2 hemispheres What is the most lateralized of all cognitive abilitie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________________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most people, language ability is controlled by what hemispher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phasia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literally without speech; a deficit in the production or comprehension of language, usually associated with L hemisphere 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ateralization continued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praxia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like aphasia, almost always associated with Left hemisphere dama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right-handers are Left hemisphere dominant for speech (at least 92%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left-handers and ambidextrous individuals are Left hemisphere dominant for speech (at least 69%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ateral Preferenc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ich hand do you use t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rite, throw, cut, hammer, deal card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ich foot do you use t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ick a ball, step up stair, step on coin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ich eye do you use t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ok through a tube, sight an objec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ich ear do you use t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sten to a whisper, listen at a door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ercent men and women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who use right sid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205740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M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Han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oot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a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Ey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lit Brain Stud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tting the corpus callosum and restricting visual input to one hemisphere shows that the 2 hemispheres can function independent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d about cat experiments of Myers and Sper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d about human epileptic studies of Sperry and Gazzanig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deo 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82tlVcq6E7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9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lit Brain Stud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present picture of object to Right visual field (Left hemisphere), and ask her to write down what it is with right hand, can sh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if ask participant to use Left hand (controlled by ?) to pick out that object among group of objects, can sh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ut what is cross-cuin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direct communication between hemispher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Red or green stim presented in L visual field (Rt hemis), patient asked to report color.  At first chance performance, then gets be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.g. Right hemisphere leading to frown or shake of head to cue Left hemisphere that answer is wro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4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22-04-07T20:13:08Z</dcterms:modified>
  <cp:revision>123</cp:revision>
  <dc:subject/>
  <dc:title>Sensorimotor System</dc:title>
</cp:coreProperties>
</file>