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00447-D947-4026-AAE7-C195A547FA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9023C-C1D8-458C-8772-A30542A08CC2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8EA3B-B8A8-4F62-88E5-6F34A336767B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9331-CAED-4FDA-9EF7-22457B090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AFC3-9D89-417B-B4D1-368BA9C86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5CC0-7524-427C-8916-DFA24CDF7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3AD7-119C-40BB-BCEF-0ADFB9393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4446C-D627-4C68-8429-D66F520AE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9F8E5-8677-463A-95FC-CDDC0A4CE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08988-2902-42E7-B524-0A4A83E82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AFF3B-F82A-4A23-B6AD-C8831866A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7E890-7A3D-464C-A210-9819C60EC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FF03C-253B-46A2-889B-506166A9E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62482-60A1-438A-B393-969E6849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B99E-61D0-4DDA-B8C7-424963A69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93104-C972-4AB2-98C0-0EE42C99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C0F69-688C-483C-BE48-45E1F577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B5E9E-3936-4EE0-9A8E-C9FADAEF5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1EDFA-F96F-4F58-BDF6-F0F828840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42FFB-7623-499B-8611-C43756C53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A671-A866-4A69-AE5A-56FF7271F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5734-C1C2-456D-ADCE-D879F97CA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520D-C493-4B0B-BEA3-D11F6217D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B24E-CBF9-46FE-8A16-9388A3AF1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81E6-9098-4C1D-8C16-5B41961C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4BF0-C9E7-49B3-8623-9C67903E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49F5-97C8-46A7-88F4-4D44F075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5DCB-FE35-45A3-872C-55976FE2596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026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1027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1028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1029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1030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F87AB-EA1F-4FFF-B3AF-E00AAF07A9D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UyyjU8fzEYU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JWC-cVQmEmY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3oef68YabD0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8m1fCz3ohMw" TargetMode="Externa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82tlVcq6E7A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Lateralization, Language, and the Split Brain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hapter 16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plit Brain Studi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eft hemisphere is capable of/controls spee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ight hemisphere understands simple speech, but usually can’t spea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f present picture of object to the left visual field (Right hemisphere), and ask subject what it is, what will he reply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w ask subject to use Left hand to pick out that object among group of objects, can he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28" dur="2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ight/Left Hemis. Differenc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eft hemisphere is dominant for most language abilities, as well as ipsalateral movemen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ight hemisphere is dominant for spatial ability, recognizing/perceiving emotion, and musical abilit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ee Table 16.1 p. 429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ut, Lateralization is NOT total, may be only a 10% difference in performanc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atch the following Ted talk on your ow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https://www.youtube.com/watch?v=UyyjU8fzEYU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9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3" dur="2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"/>
          <p:cNvPicPr/>
          <p:nvPr/>
        </p:nvPicPr>
        <p:blipFill>
          <a:blip r:embed="rId1"/>
          <a:stretch/>
        </p:blipFill>
        <p:spPr>
          <a:xfrm>
            <a:off x="1612800" y="74520"/>
            <a:ext cx="5854680" cy="678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ories of the Evolution of Cerebral Lateraliza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hy did cerebral lateralization evolve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aybe it is advantageous for areas of the brain that perform similar functions to be located in the same hemispher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nalytic-Synthetic Theo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eft hemisphere: logical, analytical; Right hemisphere: synthesizer, organizes information in who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ague; Hard to empirically validate.  Can’t specify degree to which any task requires analytic or synthetic processing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5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ories of the Evolution of Cerebral Lateraliza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tor Theo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eft hemisphere controls fine movements, one type is spee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phasia often accompanied by other motor problem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ut why did motor function become lateralized in the first place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8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8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ories of the Evolution of Cerebral Lateraliza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inguistic Theo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imary role of Left hemisphere is languag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eft hemisphere damage can disrupt sign language but not pantomime gestur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volution of Cerebral Lateralization of Function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Used to think cerebral lateralization unique to human brai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ow evidence of left hemisphere specialization for communication in other primates and lower animal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73" dur="2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What are the Survival Advantages of Cerebral Lateralization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erhaps it is more efficient for neurons performing a particular function to be concentrated in one hemisphe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wo different kinds of cognitive processes might be more readily performed simultaneously if they are lateralized to different hemispher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ernicke-Geschwind Model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in theory of language localization; very influential, directed much resear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roca’s aphasia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ought to be caused by damage to Broca’s are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haracterized by broken, slow speec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xpressive (speech) problem, generally not comprehension proble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https://www.youtube.com/watch?v=JWC-cVQmEm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1" dur="2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8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9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ernicke-Geschwind Model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ernicke’s aphasi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ought due to damage to Wernicke’s are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ord salad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ceptive problem (poor comprehension) but fluent, though hard to understand, spee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https://www.youtube.com/watch?v=3oef68YabD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8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8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8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8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77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3" dur="77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5" dur="77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7" dur="77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77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4" dur="77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6" dur="77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8" dur="77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6" name="Picture 3" descr="Wernicke-Geshwind"/>
          <p:cNvPicPr/>
          <p:nvPr/>
        </p:nvPicPr>
        <p:blipFill>
          <a:blip r:embed="rId1"/>
          <a:stretch/>
        </p:blipFill>
        <p:spPr>
          <a:xfrm>
            <a:off x="1295280" y="0"/>
            <a:ext cx="6643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troduc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erebral Cortex is composed of 2 hemispher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at allows for communication between these 2 hemispheres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erebral commissures, such as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Wernicke-Geschwind Model: Evaluation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s it this simpl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!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ure Broca’s and Wernicke’s aphasia are rare and not the result of damage to just these areas, respective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esion studies (noting the full extent of damage) do not confirm this mod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1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486" dur="2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0" name="Picture 3" descr="fg16-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Wernicke-Geschwind Model: Evaluation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me conclusion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phasic patients don’t just have damage to Broca’s or Wernicke’s areas, but all have some damage to subcortical white matt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nterior Left hemisphere lesions more likely =&gt; language expression problem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osterior Left hemisphere lesions more likely =&gt; language comprehension problem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4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4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Wernicke-Geschwind Model: Evaluation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ight hemisphere stimulation almost never disrupts spee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ny individual differences across subjects in terms of language organiz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phasia usually has both expressive and receptive symptom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0" dur="2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gnitive Neuroscience Approach to Language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se brain imaging to study language in healthy individual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gnitive processes involved in language are divided into phonological (sound) analysis, grammatical (structure) analysis, and semantic (meaning) analysi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reas of brain used for language are used for other purposes as wel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reas of brain used for language (and other purposes) are small, widely distributed, and specialize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77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8" dur="77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0" dur="77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2" dur="77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8" dur="2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9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rain Imaging and Language localiza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avelier’s fMRI study of Read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uch more activity in L hem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ctivity extended far beyond areas predicted by W-G model to be involved in silent read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amasio’s PET study of nam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ecise area of L temporal lobe that was activated by naming depended on category- faces, animals and tools all activated slightly different area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yslexi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yslexia is a difficulty in reading not due to general visual, motor, or intellectual problem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 Types of dyslexia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velopmental – see this when child is learning to read, genetic component, 5-12% English speakers, 2-3 times more likely in boy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cquired – due to brain damage after already knowing how to read, ra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1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4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4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6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velopmental Dyslexi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ought to result from a disturbance of phonological processing (representation and comprehension of speech sounds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 single kind of brain pathology has been found to occur in all cases of developmental dyslexi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o many brain changes have been identified that it is difficult to sort them ou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https://www.youtube.com/watch?v=8m1fCz3ohMw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3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velopmental Dyslexi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2 times as many English speakers as Italian speakers have developmental dyslexia, likely due to relative complexities of languag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nglish and Italian developmental dyslexics show similar abnormal brain activity (less than normal activity in posterior temporal lobe, near boundary with occipital lobe)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refore, although dyslexia can be manifested differently, underlying brain pathology seems to be simila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4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4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yslexi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ading aloud is thought to consist of two main strategie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exical procedu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ecognize familiar word as a whole based on stored/memorized inform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honetic procedu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ounding out words, especially unfamiliar word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8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8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8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8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7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5" name="Picture 4" descr="fg16-01 [Converted]"/>
          <p:cNvPicPr/>
          <p:nvPr/>
        </p:nvPicPr>
        <p:blipFill>
          <a:blip r:embed="rId1"/>
          <a:stretch/>
        </p:blipFill>
        <p:spPr>
          <a:xfrm>
            <a:off x="0" y="762120"/>
            <a:ext cx="9167760" cy="55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2 Types of Acquired Dyslexi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rface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exical procedure can’t be used, but 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can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still use phonetic procedure to 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sound out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or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ave difficulty reading irregular words, such as sew, pint, yacht (pronounce as sue, pinnt, yachet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on’t react to overall shape of wor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9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2 Types of Acquired Dyslexi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ep Dyslexia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honetic procedure can’t be used, but can still use lexical procedure (still use meaning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espond to overall look, meaning, or derivation of word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an’t pronounce non-words and uncommon words (that they didn’t use a lot before brain damage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rrelated with damage to Left hemisphere language are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exical procedure may be mediated by right hemisphere activity (N.I. case study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2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2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2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8" dur="1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3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0" dur="10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The phaomnehil pweor of the hmuan mnid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Aoccdrnig to a rscheearch at Cmabrigde Uinervtisy, it deosn't mttaer in waht oredr the ltteers in a wrod are, the olny iprmoetnt tihng is taht the frist and lsat ltteer be at the rghit pcla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The rset can be a total mses and you can sitll raed it wouthit porbelm. Tihs is bcuseae the huamn mnid deos not raed ervey lteter by istlef, but the wrod as a wloh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1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4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4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8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1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ateraliza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ateralization of Function is the difference in brain function between the 2 hemispheres What is the most lateralized of all cognitive abilities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________________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 most people, language ability is controlled by what hemisphere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Aphasia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– literally without speech; a deficit in the production or comprehension of language, usually associated with L hemisphere damag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77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" dur="77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" dur="77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ateralization continue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Apraxia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, like aphasia, almost always associated with Left hemisphere damag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st right-handers are Left hemisphere dominant for speech (at least 92%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st left-handers and ambidextrous individuals are Left hemisphere dominant for speech (at least 69%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ateral Preferenc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hich hand do you use to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rite, throw, cut, hammer, deal cards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hich foot do you use to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Kick a ball, step up stair, step on coin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hich eye do you use to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ook through a tube, sight an object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hich ear do you use to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isten to a whisper, listen at a door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2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8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Percent men and women 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who use right side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85800" y="2057400"/>
          <a:ext cx="7772400" cy="4114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Me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Wome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Hand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86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90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Foot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77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86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Ear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55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65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Ey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73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69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plit Brain Studi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utting the corpus callosum and restricting visual input to one hemisphere shows that the 2 hemispheres can function independent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ad about cat experiments of Myers and Sper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ad about human epileptic studies of Sperry and Gazzanig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ideo </a:t>
            </a:r>
            <a:r>
              <a:rPr b="0" lang="en-US" sz="28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https://www.youtube.com/watch?v=82tlVcq6E7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plit Brain Studi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f present picture of object to Right visual field (Left hemisphere), and ask her to write down what it is with right hand, can she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ow if ask participant to use Left hand (controlled by ?) to pick out that object among group of objects, can she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ut what is cross-cuing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ndirect communication between hemispher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Red or green stim presented in L visual field (Rt hemis), patient asked to report color.  At first chance performance, then gets bette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e.g. Right hemisphere leading to frown or shake of head to cue Left hemisphere that answer is wron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4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4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" dur="1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6T21:02:00Z</dcterms:created>
  <dc:creator>Campus Computing</dc:creator>
  <dc:description/>
  <dc:language>en-US</dc:language>
  <cp:lastModifiedBy>Trench, Lynne S.</cp:lastModifiedBy>
  <dcterms:modified xsi:type="dcterms:W3CDTF">2022-04-07T20:13:08Z</dcterms:modified>
  <cp:revision>123</cp:revision>
  <dc:subject/>
  <dc:title>Sensorimotor System</dc:title>
</cp:coreProperties>
</file>