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03F8-DD3B-4ACC-9C2E-B5CB06EF7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63E4-4BA6-4B87-8FA8-89E2428878E0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65B8-59FC-4DB0-9FBD-D66ADDA5F017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8898-5338-4D2E-825A-1B0E391F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01B6-5450-4A4D-8C94-55B12201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B7D2-AE36-413F-AAC8-B4D797079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4928-BEB0-421A-84D0-73574D88F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3D5D-068E-4AEA-B0AD-2842DACC1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6582-DB18-4C51-98FB-3F4834A5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47EB-375A-47A1-9771-C616161B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85AA-C778-46BE-A074-001B3675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B2BD-D48F-4B63-8891-47F71A2F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20E8-60FC-4C0C-B6F2-BD655F0C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6D84-3E69-43FB-ABA3-89F84B7F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AB24-4E99-4066-8D56-469A40B0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5D05-0212-4572-BF69-1F77E673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48C0-8C27-4374-A650-868B2186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B234-5F1C-4855-A02F-149C52D6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4C23-33B9-45EE-891A-BCFA34C8E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6CB6-1E95-4AC6-9FC2-3C363B7F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63DB-03E9-4193-AC07-C8208B25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2A7D-C158-4C39-9981-2AB5D48F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03AD-BE4C-4DD8-B3BB-B8568A8D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26A2-DE30-4E96-A8A5-16CD9A2E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FFB1-ABD3-4F6A-961C-4A1C090F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0EF7-9A37-41B5-9A11-660466B3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F0AC-D978-42C4-93EC-12A2261E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0F6A-5B50-4BFF-B729-572AD1CD4B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26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7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8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9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30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57C8-E860-45FD-ACFA-16A7AB9A61D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UyyjU8fzEYU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JWC-cVQmEmY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3oef68YabD0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8m1fCz3ohMw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82tlVcq6E7A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ateralization, Language, and the Split Brai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pter 1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lit Brain Stud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eft hemisphere is capable of/controls spe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ight hemisphere understands simple speech, but usually can’t spea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f present picture of object to the left visual field (Right hemisphere), and ask subject what it is, what will he reply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w ask subject to use Left hand to pick out that object among group of objects, can h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ight/Left Hemis. Differenc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ft hemisphere is dominant for most language abilities, as well as ipsalateral movemen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ight hemisphere is dominant for spatial ability, recognizing/perceiving emotion, and musical abilit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e Table 16.1 p. 42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ut, Lateralization is NOT total, may be only a 10% difference in performanc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atch the following Ted talk on your ow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UyyjU8fzEY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5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62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1612800" y="74520"/>
            <a:ext cx="5854680" cy="67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ories of the Evolution of Cerebral Lateraliz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y did cerebral lateralization evolv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ybe it is advantageous for areas of the brain that perform similar functions to be located in the same hemispher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alytic-Synthetic Theo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ft hemisphere: logical, analytical; Right hemisphere: synthesizer, organizes information in who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ague; Hard to empirically validate.  Can’t specify degree to which any task requires analytic or synthetic processing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9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ories of the Evolution of Cerebral Lateraliz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tor The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eft hemisphere controls fine movements, one type is spe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phasia often accompanied by other motor proble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t why did motor function become lateralized in the first plac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ories of the Evolution of Cerebral Lateraliz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inguistic Theo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imary role of Left hemisphere is languag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ft hemisphere damage can disrupt sign language but not pantomime gestu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volution of Cerebral Lateralization of Functio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d to think cerebral lateralization unique to human brai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w evidence of left hemisphere specialization for communication in other primates and lower animal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What are the Survival Advantages of Cerebral Lateraliza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rhaps it is more efficient for neurons performing a particular function to be concentrated in one hemisphe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wo different kinds of cognitive processes might be more readily performed simultaneously if they are lateralized to different hemispher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ernicke-Geschwind Mode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in theory of language localization; very influential, directed much resear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roca’s aphasi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ought to be caused by damage to Broca’s are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haracterized by broken, slow spee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pressive (speech) problem, generally not comprehension probl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JWC-cVQmEm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9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4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ernicke-Geschwind Mode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rnicke’s aphas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ought due to damage to Wernicke’s are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ord salad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ceptive problem (poor comprehension) but fluent, though hard to understand, spe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3oef68YabD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5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5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6" name="Picture 3" descr="Wernicke-Geshwind"/>
          <p:cNvPicPr/>
          <p:nvPr/>
        </p:nvPicPr>
        <p:blipFill>
          <a:blip r:embed="rId1"/>
          <a:stretch/>
        </p:blipFill>
        <p:spPr>
          <a:xfrm>
            <a:off x="1295280" y="0"/>
            <a:ext cx="664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rodu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erebral Cortex is composed of 2 hemisphe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allows for communication between these 2 hemisphere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erebral commissures, such as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Wernicke-Geschwind Model: Evalua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it this simpl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ure Broca’s and Wernicke’s aphasia are rare and not the result of damage to just these areas, respective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esion studies (noting the full extent of damage) do not confirm this mod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2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Picture 3" descr="fg16-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Wernicke-Geschwind Model: Evalua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me conclusion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phasic patients don’t just have damage to Broca’s or Wernicke’s areas, but all have some damage to subcortical white mat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terior Left hemisphere lesions more likely =&gt; language expression proble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sterior Left hemisphere lesions more likely =&gt; language comprehension proble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4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4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Wernicke-Geschwind Model: Evalua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ight hemisphere stimulation almost never disrupts spee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ny individual differences across subjects in terms of language organiz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phasia usually has both expressive and receptive sympto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gnitive Neuroscience Approach to Languag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se brain imaging to study language in healthy individua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gnitive processes involved in language are divided into phonological (sound) analysis, grammatical (structure) analysis, and semantic (meaning) analysi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reas of brain used for language are used for other purposes as wel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reas of brain used for language (and other purposes) are small, widely distributed, and specializ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2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8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8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8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8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rain Imaging and Language localiz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avelier’s fMRI study of Read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uch more activity in L hem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ctivity extended far beyond areas predicted by W-G model to be involved in silent read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masio’s PET study of nam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ecise area of L temporal lobe that was activated by naming depended on category- faces, animals and tools all activated slightly different are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yslex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yslexia is a difficulty in reading not due to general visual, motor, or intellectual problem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 Types of dyslexi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velopmental – see this when child is learning to read, genetic component, 5-12% English speakers, 2-3 times more likely in boy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cquired – due to brain damage after already knowing how to read, ra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velopmental Dyslex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ought to result from a disturbance of phonological processing (representation and comprehension of speech sound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 single kind of brain pathology has been found to occur in all cases of developmental dyslex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 many brain changes have been identified that it is difficult to sort them ou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8m1fCz3ohM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velopmental Dyslex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 times as many English speakers as Italian speakers have developmental dyslexia, likely due to relative complexities of languag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glish and Italian developmental dyslexics show similar abnormal brain activity (less than normal activity in posterior temporal lobe, near boundary with occipital lobe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refore, although dyslexia can be manifested differently, underlying brain pathology seems to be simila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4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yslex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ading aloud is thought to consist of two main strategie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exical proced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cognize familiar word as a whole based on stored/memorized inform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honetic proced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unding out words, especially unfamiliar word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" name="Picture 4" descr="fg16-01 [Converted]"/>
          <p:cNvPicPr/>
          <p:nvPr/>
        </p:nvPicPr>
        <p:blipFill>
          <a:blip r:embed="rId1"/>
          <a:stretch/>
        </p:blipFill>
        <p:spPr>
          <a:xfrm>
            <a:off x="0" y="762120"/>
            <a:ext cx="916776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 Types of Acquired Dyslex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exical procedure can’t be used, but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can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still use phonetic procedure to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sound out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or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ave difficulty reading irregular words, such as sew, pint, yacht (pronounce as sue, pinnt, yache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on’t react to overall shape of wo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5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 Types of Acquired Dyslex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ep Dyslexia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honetic procedure can’t be used, but can still use lexical procedure (still use meaning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spond to overall look, meaning, or derivation of word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n’t pronounce non-words and uncommon words (that they didn’t use a lot before brain damag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rrelated with damage to Left hemisphere language are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xical procedure may be mediated by right hemisphere activity (N.I. case study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77" dur="2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The phaomnehil pweor of the hmuan mnid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occdrnig to a rscheearch at Cmabrigde Uinervtisy, it deosn't mttaer in waht oredr the ltteers in a wrod are, the olny iprmoetnt tihng is taht the frist and lsat ltteer be at the rghit pcla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he rset can be a total mses and you can sitll raed it wouthit porbelm. Tihs is bcuseae the huamn mnid deos not raed ervey lteter by istlef, but the wrod as a wloh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8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ateraliz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ateralization of Function is the difference in brain function between the 2 hemispheres What is the most lateralized of all cognitive abilities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________________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 most people, language ability is controlled by what hemispher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Aphasi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– literally without speech; a deficit in the production or comprehension of language, usually associated with L hemisphere dam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0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ateralization continue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Apraxi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like aphasia, almost always associated with Left hemisphere dama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st right-handers are Left hemisphere dominant for speech (at least 92%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st left-handers and ambidextrous individuals are Left hemisphere dominant for speech (at least 69%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ateral Preferenc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ich hand do you use to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rite, throw, cut, hammer, deal cards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ich foot do you use to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Kick a ball, step up stair, step on coin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ich eye do you use to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ook through a tube, sight an object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ich ear do you use to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isten to a whisper, listen at a door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4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Percent men and women 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who use right sid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5800" y="205740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Me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Wome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Han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86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Foo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7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86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6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y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3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69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lit Brain Stud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tting the corpus callosum and restricting visual input to one hemisphere shows that the 2 hemispheres can function independent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ad about cat experiments of Myers and Sper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ad about human epileptic studies of Sperry and Gazzanig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ideo </a:t>
            </a: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82tlVcq6E7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lit Brain Stud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present picture of object to Right visual field (Left hemisphere), and ask her to write down what it is with right hand, can sh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w if ask participant to use Left hand (controlled by ?) to pick out that object among group of objects, can sh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ut what is cross-cuing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direct communication between hemispher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Red or green stim presented in L visual field (Rt hemis), patient asked to report color.  At first chance performance, then gets bett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.g. Right hemisphere leading to frown or shake of head to cue Left hemisphere that answer is wro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21:02:00Z</dcterms:created>
  <dc:creator>Campus Computing</dc:creator>
  <dc:description/>
  <dc:language>en-US</dc:language>
  <cp:lastModifiedBy>Trench, Lynne S.</cp:lastModifiedBy>
  <dcterms:modified xsi:type="dcterms:W3CDTF">2022-04-07T20:13:08Z</dcterms:modified>
  <cp:revision>123</cp:revision>
  <dc:subject/>
  <dc:title>Sensorimotor System</dc:title>
</cp:coreProperties>
</file>