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435-72FD-4452-A1C8-95E9485A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792-4DE6-424B-8CE6-50D4CC59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E28-3E26-48A4-A866-B7A87208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CE1-6DA2-483A-8852-5A83AD37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4BF-54AB-4555-A2D4-7332FF4D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6BE-207E-4909-87B9-F526038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D3A-6C3D-49D0-81F0-E4A4177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007-D3D1-4186-B0BC-93E3972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6A6-6F97-4461-A96B-B9DB9283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E1F-5DE2-4EAC-BDA5-1D251DD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DF5-F4C8-41D6-9FE2-2AFF134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588-6726-4B01-8C85-F97F5D80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9A8-7118-4055-8C92-710D666D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5BA-A1C7-4246-BDBA-2E0CBDD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124-1B47-40CD-A8B1-C2404661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BE85-3431-49B6-AA3F-E6596D9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8FBD-50B5-45BD-832D-E826B49C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05A-50B0-4F30-A702-510E7CC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1D3-7E45-4497-A702-DFD6AAA3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D49-3AE1-4F20-BF18-E8A7D8B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522-B2DB-4916-B540-0081016A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8D7-D685-4164-9527-4BDE520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CC9-EA1D-4512-9AEC-24DDBD6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656-264C-43BF-A147-525F0C7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D5C-83C6-45EA-BBA0-12FEA70BCE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B5A3-EE8F-47BB-A92B-64E28C9CC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youtube.com/watch?v=Rv0b9emthFI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s://www.youtube.com/watch?v=6ClPE7lLqsc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stasy or MDMA (methylenedioxymethamphetamine) was first made in 1912 by Mer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synthesized and tested by Sasha Shulgin and Dave Nichols in 1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youtube.com/watch?v=Rv0b9emth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commonly used at dance parties (raves) in the UK and then in the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-300 mg MDMA in p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 levels reached in an hour, effects last 3-6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drugs found in “ecstasy pill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ngredients found in “ecstasy pill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A (methylenedioxy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bolite of MD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mphetamine-like effects, but effects on mood are more like a typical hallucino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E (methylenedioxyethyl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has amphetamine-like effects, but lacks the empathic qualities of MD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DMA acute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feelings of empathy, openness, and ca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defensiveness, fear, separation from others, aggression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 of amphetamine and hallucinogen effects, but latter are more enhanced perception of sensory stimuli and distorted time perception as opposed to outright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DMA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imulant-like 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heart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blood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bronchi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pup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to muscles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DMA Tox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th clenching and jitteriness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body temperature (can cause death if combined with excessive physical activity and dehydr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if take in too much water (to combat above) can lead to hyponatr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lethal cardiovascular effects in people with heart problem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muscle breakdown and kidney failure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seizures at very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DMA works in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levels of Monoamine NTs: dopamine, norepinephrine, and serotonin in the synapse by stimulating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s release of serotonin much more than dopamine (opposite to what amphetamine does).  More potent effect on serotonin than seen with amphetamine or methamphe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 last for 3-6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take a while for 5-HT levels to get back to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lerance and Withdraw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 is reported by some users, but for typical user, probably not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withdrawal effects reported, but commonly reported aftereffects are sadness, irritibility, aggression (“mid-week blues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term effec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lear, a lot of controvers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evidence seems to be piling up that long-term heavy MDMA use will cause changes in the serotonin system (less serotonin, changes in serotonin neur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anxiety and irritability/hostility reported in heavy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use in therapy?  For severe PTS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s://www.youtube.com/watch?v=6ClPE7lLq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19T14:58:36Z</dcterms:modified>
  <cp:revision>58</cp:revision>
  <dc:subject/>
  <dc:title>How do organisms adapt to change?</dc:title>
</cp:coreProperties>
</file>