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E72-1030-49DF-8594-35EEB9CB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7A8-5CA0-43D6-8EF8-573F6F92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134-B095-428C-BDC9-09F42DB7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117-F18D-4932-B1D8-7BE344ED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DB7F-0959-4892-8C01-CB913E13C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AF0A-957A-455D-B312-95396748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65AC-20DC-4DF9-A986-EDB342C9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F58C-D6D9-4697-8F86-46D676F0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798E-EF2C-4EB6-9D1B-AD2AEB37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4505-2CA2-43D5-8009-BFF91038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BA3F-1200-452C-B178-B3A9FF73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AFA-C624-4738-885F-B55ED752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BA9F-93A2-4AD5-839E-0BED8502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148F-432E-4F99-8851-698D12E6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9BF9-9B9D-4B6A-B5B8-B32A9215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FF45-975D-45D3-A2FE-0C0199E5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45D4-F980-44C0-B1B6-E80DAE15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E51-5C87-440F-8B06-E5063B2B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FBB2-04A9-4897-9D65-B94C6474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666-E7A4-4C0C-9886-81F8C59F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DFE-C7A9-4926-BBB2-96B8B5AF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C96-0D0F-42CA-9150-8C9B7582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2E5-47C5-4EA8-9135-795F122E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F7D-4008-49EF-BE8B-030D8130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4718-4F23-4874-A8B8-6DC7EF1F71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3BEA-73EE-4349-972B-F2DDA8BF1D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youtube.com/watch?v=Rv0b9emthFI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hyperlink" Target="https://www.youtube.com/watch?v=6ClPE7lLqsc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cstas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stasy or MDMA (methylenedioxymethamphetamine) was first made in 1912 by Mer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 synthesized and tested by Sasha Shulgin and Dave Nichols in 19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www.youtube.com/watch?v=Rv0b9emthF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me commonly used at dance parties (raves) in the UK and then in the 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-300 mg MDMA in p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k levels reached in an hour, effects last 3-6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drugs found in “ecstasy pills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ingredients found in “ecstasy pills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A (methylenedioxyamphetam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60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bolite of MD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6094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 amphetamine-like effects, but effects on mood are more like a typical hallucinog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E (methylenedioxyethylamphetam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6094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has amphetamine-like effects, but lacks the empathic qualities of MD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DMA acute eff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ed feelings of empathy, openness, and ca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e in defensiveness, fear, separation from others, aggression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bination of amphetamine and hallucinogen effects, but latter are more enhanced perception of sensory stimuli and distorted time perception as opposed to outright hallucin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DMA eff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er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stimulant-like eff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heart 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blood press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lation of bronchi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lation of pup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flow to muscles in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DMA Toxic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eth clenching and jitteriness at high d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body temperature (can cause death if combined with excessive physical activity and dehydr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, if take in too much water (to combat above) can lead to hyponatrem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ause lethal cardiovascular effects in people with heart problem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lead to muscle breakdown and kidney failure at high d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ause seizures at very high d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DMA works in b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levels of Monoamine NTs: dopamine, norepinephrine, and serotonin in the synapse by stimulating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s release of serotonin much more than dopamine (opposite to what amphetamine does).  More potent effect on serotonin than seen with amphetamine or methamphetam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s last for 3-6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may take a while for 5-HT levels to get back to nor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lerance and Withdraw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lerance is reported by some users, but for typical user, probably not m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w withdrawal effects reported, but commonly reported aftereffects are sadness, irritibility, aggression (“mid-week blues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ng-term effec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lear, a lot of controvers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evidence seems to be piling up that long-term heavy MDMA use will cause changes in the serotonin system (less serotonin, changes in serotonin neuron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istent anxiety and irritability/hostility reported in heavy us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use in therapy?  For severe PTS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6"/>
              </a:rPr>
              <a:t>https://www.youtube.com/watch?v=6ClPE7lLq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10-19T14:58:36Z</dcterms:modified>
  <cp:revision>58</cp:revision>
  <dc:subject/>
  <dc:title>How do organisms adapt to change?</dc:title>
</cp:coreProperties>
</file>