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AB7-9011-4C38-87BB-FC37A7E9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7B6-8075-47EC-857C-70FA9981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95E-A181-4260-8483-B01E6268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A92-686A-45CA-ADAB-A7C791C1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A982-59AE-4C85-A196-E298A3D1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40B5-D579-4335-AB6A-8061A27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EB54-801A-43C9-A609-6AC7928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553C-6589-4E73-82D7-B422F4EA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DD1-7E25-44B2-ACC2-C82E95F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0A04-5CEC-4678-A3BD-FB7273FC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087B-A7F1-452E-AA8A-2EFC0C3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41F-170F-4B61-B55C-8F633527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2FB-2DD4-4D3B-8A3D-C5E2700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06A-A693-460B-880B-37D758E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E0A-2C7C-4E48-87DE-1F8A9033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0DF6-F022-415E-A8D9-BE75743A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1EB-DD57-4A88-B34B-C6404CC4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792-EA72-498B-BBE8-F849DBAA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AB0-20BC-4504-81F6-131D3347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BDC-D991-46C1-80E9-EDA3814B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127-A8E1-4D67-A7E0-0CB169E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BCF-405D-42AC-9140-18BA9B9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8E9-2000-4776-9398-12FEEE04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F3B-83FA-4239-8231-2D1BFC3B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5E86-3E9D-4AB6-95EC-5CE1B05190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6271-0521-43AF-8211-C62AA8372B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youtube.com/watch?v=Rv0b9emthFI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s://www.youtube.com/watch?v=6ClPE7lLqsc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cstas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stasy or MDMA (methylenedioxymethamphetamine) was first made in 1912 by Mer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synthesized and tested by Sasha Shulgin and Dave Nichols in 19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youtube.com/watch?v=Rv0b9emth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commonly used at dance parties (raves) in the UK and then in the 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-300 mg MDMA in p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k levels reached in an hour, effects last 3-6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drugs found in “ecstasy pills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ngredients found in “ecstasy pill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A (methylenedioxyamphet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bolite of MD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amphetamine-like effects, but effects on mood are more like a typical hallucino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E (methylenedioxyethylamphet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has amphetamine-like effects, but lacks the empathic qualities of MD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DMA acute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ed feelings of empathy, openness, and ca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defensiveness, fear, separation from others, aggression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 of amphetamine and hallucinogen effects, but latter are more enhanced perception of sensory stimuli and distorted time perception as opposed to outright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DMA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timulant-like 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heart 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blood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ation of bronchi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ation of pup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to muscles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DMA Tox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th clenching and jitteriness at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body temperature (can cause death if combined with excessive physical activity and dehydr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if take in too much water (to combat above) can lead to hyponatr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lethal cardiovascular effects in people with heart problem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lead to muscle breakdown and kidney failure at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seizures at very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DMA works in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levels of Monoamine NTs: dopamine, norepinephrine, and serotonin in the synapse by stimulating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s release of serotonin much more than dopamine (opposite to what amphetamine does).  More potent effect on serotonin than seen with amphetamine or methamphetam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 last for 3-6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take a while for 5-HT levels to get back to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lerance and Withdraw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nce is reported by some users, but for typical user, probably not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withdrawal effects reported, but commonly reported aftereffects are sadness, irritibility, aggression (“mid-week blues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term effec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lear, a lot of controvers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evidence seems to be piling up that long-term heavy MDMA use will cause changes in the serotonin system (less serotonin, changes in serotonin neur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 anxiety and irritability/hostility reported in heavy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use in therapy?  For severe PTS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s://www.youtube.com/watch?v=6ClPE7lLq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10-19T14:58:36Z</dcterms:modified>
  <cp:revision>58</cp:revision>
  <dc:subject/>
  <dc:title>How do organisms adapt to change?</dc:title>
</cp:coreProperties>
</file>