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214-B7DF-4BC7-96C9-09D0EB7D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544-6BB0-4B7A-8B1E-D8051849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0D3-D65E-481B-BFF6-FA41F25D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CF8-80AA-409B-B489-0D395F22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5F86-B846-4E25-9F55-9024BEBE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D475-FF5F-4438-B8E0-71F35633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9D1E-8BF7-45C7-9BBA-C64C0AFF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8569-8EF4-419B-8B60-FC55FB55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B905-C3C9-42C1-B3C9-E9A5945E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F7B4-2FF4-48BB-B2F4-C0B28AF2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033B-A6CD-40E0-A962-CEBA7EEA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CFB-FA77-4F4B-A38F-8819D435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34E7-3F9C-4181-B569-048922BD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DFEF-2F22-464D-A4A9-E101A818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7F38-8B7F-4190-B840-879B4D8D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D1A3-56F3-4EB4-9C37-10A7F022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39D8-15A9-44D6-8AC9-2EDA9922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5C3-323F-4DCB-B3B3-003A1FF8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313-5866-4226-B6E8-52D77B3A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F40-F28D-4BD7-BBC1-D0DD5C12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87E-DEF0-4A92-B90C-790EFDC1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797-39DA-4F03-A723-84FBCE85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C17-D90E-4290-89AA-CBF45225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9CE-8C23-4462-9F7B-8355BC69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BF71-0C24-4AFE-9273-776A75045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4CCB-07D8-494C-8A86-C375DED3AB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Prevention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bout what you have learned in this cla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 would you targ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often would you meet? And for how lo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del would you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ould be your teac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rugs would you focus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r program be different from other progra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o drug prevention programs work? 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efforts can reduce the supply or the demand for drugs of ab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supply is the goal of law enfor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demand is the goal of legislation and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prevention has proven to be as elusive as effective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programs should enhance protective factors and reduce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ve factor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and positive bonds within a prosocial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al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r rules of conduct that are consistently enfor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ment of parents in the lives of their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ccess in school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bonds with prosocial institutions (school and religious organiz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option of conventional norms about drug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 make the potential for drug use more likely, examp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otic home environments (esp. parents that abuse drugs and/or are mentally i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effective parenting, esp. with kids who have difficult temperaments or conduct dis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 of mutual attachments and nurt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ppropriately shy or aggressive behavior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ure in school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social coping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iliations with deviant peers or peers who display deviant behavi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ptions of approval of drug-using behaviors in family, work, school, peer, and community environ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School-based antidrug programs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rting information about hazards of drug use, sometimes includes scare tac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affect personality; focus on individual. Tries to improve self-esteem and interpersonal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nfluenc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familiarize students with the pressures to use drugs, enabling them to develop resistance skills and techniques for saying no in those pressure 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What are some problems with the Information model?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knowing more about drugs will lead to experi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e tactics” can backfire, especially if they contain misinformation or exaggeration, leading students to distrust ALL information pres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this is taken as an opportunity to “preach” or moral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present all the facts about drugs, not just the negative ef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education can play a role in reducing drug-related harm rather than preventing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buse Resistance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equip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ers with the skills and motivation needed to resist peer pressure to use drugs, alcohol, and 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 officers visit classroom once a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lso lead to more positive view of po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it been effective?  What has the research sh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hort-term reviews have been 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view which tracked a DARE program for 5 years found no long-term effects in reducing drug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review of 8 studies did not find encouraging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udy found drug use to increase after D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 International Journal of Environmental Research and Public Health review of 20 studies found “a less than small effect” on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Remember About Prevention Programs You Were Exposed to in Schoo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(s) were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remember about the progra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your impression of it at the 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it worked?  Did it affect your drug-use behaviors afterw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1-25T15:33:56Z</dcterms:modified>
  <cp:revision>58</cp:revision>
  <dc:subject/>
  <dc:title>How do organisms adapt to change?</dc:title>
</cp:coreProperties>
</file>