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4A1-3F0E-4A74-B83A-4FDDD302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E74-9BB7-4D22-BC2C-9D433554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4E5-8E1A-4DD8-AAE4-78FD8272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078-ABA8-4649-BF4F-59FAAD1F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AEAB-6233-4601-847F-B5D8E967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81B5-39FF-4AE3-8AA4-873CFC6F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C352-31C5-4086-BFBB-5FCA7201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A3B6-A887-409B-B9F7-A51A0CEF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B31-1193-4A22-B16B-3E2B152F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2046-FAB6-4A26-9880-36BDF80B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5D39-BC4A-44C0-8259-64164FAC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22E-F5C0-4BD5-B5CB-17C8DF16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5C0C-1AD8-446B-9015-E4D817A7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27C1-CC61-4B17-9666-AB73A7F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34E5-418F-46CE-86BA-EAB61273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9B8E-A526-43BB-A19E-A2582494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D44E-E443-4EFF-ACC5-80325693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BFF-9205-49F0-A569-5F3EE987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F30-0E6F-4063-A30E-E27F15FC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642-0C97-4AAB-A869-FDA570D9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F4D-E583-4AFA-9535-D0807446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CD4-5059-4D90-9535-8A41C9F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295-8D05-4BDB-A2A6-BC9DAF67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FA1-6074-4A0D-B171-9DD4D7C6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7F89-4B83-48DB-A2EB-B04F14CC3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5E4A-9890-4075-8A4A-A56E3C2A16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Prevention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bout what you have learned in this cla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 would you targ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would you meet? And for how l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del would you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uld be your teac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rugs would you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program be different from other progr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o drug prevention programs work?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orts can reduce the supply or the demand for drugs of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supply is the goal of law enfor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demand is the goal of legislation an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prevention has proven to be as elusive as effective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programs should enhance protective factors and reduc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ve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nd positive bonds within a prosocial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rules of conduct that are consistently enfor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ment of parents in the lives of their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ccess in school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bonds with prosocial institutions (school and religious organiz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on of conventional norms about drug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make the potential for drug use more likely, examp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otic home environments (esp. parents that abuse drugs and/or are mentally i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effective parenting, esp. with kids who have difficult temperaments or conduct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mutual attachments and nur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ppropriately shy or aggressive behavior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 in school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social coping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liations with deviant peers or peers who display deviant behavi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ions of approval of drug-using behaviors in family, work, school, peer, and community enviro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School-based antidrug programs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ing information about hazards of drug use, sometimes includes scare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affect personality; focus on individual. Tries to improve self-esteem and interpersonal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nflu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familiarize students with the pressures to use drugs, enabling them to develop resistance skills and techniques for saying no in those pressure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What are some problems with the Information model?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knowing more about drugs will lead to experi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e tactics” can backfire, especially if they contain misinformation or exaggeration, leading students to distrust ALL information 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his is taken as an opportunity to “preach” or mo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esent all the facts about drugs, not just the negative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education can play a role in reducing drug-related harm rather than preventing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buse Res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equip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s with the skills and motivation needed to resist peer pressure to use drugs, alcohol,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 visit classroom once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lead to more positive view of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it been effective?  What has the research sh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ort-term reviews have been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view which tracked a DARE program for 5 years found no long-term effects in reducing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review of 8 studies did not find encourag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y found drug use to increase after 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International Journal of Environmental Research and Public Health review of 20 studies found “a less than small effect” on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Remember About Prevention Programs You Were Exposed to in Schoo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(s) we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remember about the progr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impression of it at the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rked?  Did it affect your drug-use behaviors afterw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1-25T15:33:56Z</dcterms:modified>
  <cp:revision>58</cp:revision>
  <dc:subject/>
  <dc:title>How do organisms adapt to change?</dc:title>
</cp:coreProperties>
</file>