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FCF-2A9B-45B4-84AA-33AC5116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6F4-3B21-4D02-AA5A-4B2E8665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ED8-0820-4089-81D1-B6CADF9E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8C1-F4E2-4AD3-B598-E5E53829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A7B8-FADA-47FF-9E25-03CDB359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54B6-2A75-4D4D-82DF-50A8B694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A027-2C5F-486B-B695-7D2358B4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7C57-AF2A-4663-ACA4-8EF13022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FF00-A259-427E-9FBC-09D38DEA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68A6-2AE0-40A1-B713-1F3FEF70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15E0-CB7D-4624-BF8B-4477DC3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7DE-4BD5-4E99-AA11-9723EECC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9452-296D-43F1-BF49-297CA26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2CA1-0AEC-445C-9EFB-385885A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E017-1773-4A01-94B3-C6EDEF4B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FCB2-60A9-4B51-8596-CD6F4018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A65D-974F-4302-9817-2D75CD14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EB4-B63C-42C1-931C-7F8A431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08C-B546-4DF1-B529-B55916D4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E92-8A18-4918-A939-420DE755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9B9-0CD9-4BBD-9FEB-1AE6E466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A25-DACC-454C-B8BC-7C09099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35F-C070-4D7E-9820-2D9796D3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435D-6D53-494C-9983-22A89B14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3B05-F62C-4234-A56E-DF5FDEF1C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a4a"/>
            </a:gs>
            <a:gs pos="100000">
              <a:srgbClr val="0080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4644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5351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969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8848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4646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59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f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3b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242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17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947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d4b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5151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4e4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e3e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c6c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54"/>
                </a:gs>
                <a:gs pos="100000">
                  <a:srgbClr val="006e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a4a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d5d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565"/>
                </a:gs>
                <a:gs pos="100000">
                  <a:srgbClr val="0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d5d"/>
                  </a:gs>
                  <a:gs pos="100000">
                    <a:srgbClr val="0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80"/>
                  </a:gs>
                  <a:gs pos="100000">
                    <a:srgbClr val="178b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AC05-F167-4324-BBCB-450AC63476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2efcd"/>
                </a:solidFill>
                <a:latin typeface="Arial"/>
              </a:rPr>
              <a:t>Prevention</a:t>
            </a:r>
            <a:endParaRPr b="0" lang="en-US" sz="48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ing about what you have learned in this cla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 would you targ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often would you meet? And for how lo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del would you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would be your teac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rugs would you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r program be different from other progra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o drug prevention programs work? 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efforts can reduce the supply or the demand for drugs of ab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supply is the goal of law enforc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ing the demand is the goal of legislation and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prevention has proven to be as elusive as effective treat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programs should enhance protective factors and reduce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ve factor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and positive bonds within a prosocial fami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al monito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ear rules of conduct that are consistently enforc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ment of parents in the lives of their childr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ccess in school 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bonds with prosocial institutions (school and religious organiza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90680" indent="-5335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ption of conventional norms about drug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2efcd"/>
                </a:solidFill>
                <a:latin typeface="Arial"/>
              </a:rPr>
              <a:t>Models for Prevention</a:t>
            </a:r>
            <a:endParaRPr b="0" lang="en-US" sz="44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factors make the potential for drug use more likely, examp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otic home environments (esp. parents that abuse drugs and/or are mentally i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effective parenting, esp. with kids who have difficult temperaments or conduct disor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ck of mutual attachments and nurt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appropriately shy or aggressive behavior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lure in school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social coping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iliations with deviant peers or peers who display deviant behavi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6640" indent="-52812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ptions of approval of drug-using behaviors in family, work, school, peer, and community environ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School-based antidrug programs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rting information about hazards of drug use, sometimes includes scare tac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fectiv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affect personality; focus on individual. Tries to improve self-esteem and interpersonal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Influenc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s to familiarize students with the pressures to use drugs, enabling them to develop resistance skills and techniques for saying no in those pressure situ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What are some problems with the Information model?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knowing more about drugs will lead to experi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e tactics” can backfire, especially if they contain misinformation or exaggeration, leading students to distrust ALL information pres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this is taken as an opportunity to “preach” or moraliz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present all the facts about drugs, not just the negative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 education can play a role in reducing drug-related harm rather than preventing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buse Resistance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equip 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raders with the skills and motivation needed to resist peer pressure to use drugs, alcohol, and tobac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 officers visit classroom once a w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also lead to more positive view of po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.A.R.E.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it been effective?  What has the research show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hort-term reviews have been posi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eview which tracked a DARE program for 5 years found no long-term effects in reducing drug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review of 8 studies did not find encourag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udy found drug use to increase after D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9200" indent="-591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9 International Journal of Environmental Research and Public Health review of 20 studies found “a less than small effect” on drug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2efcd"/>
                </a:solidFill>
                <a:latin typeface="Arial"/>
              </a:rPr>
              <a:t>Design a Program</a:t>
            </a:r>
            <a:endParaRPr b="0" lang="en-US" sz="4000" spc="-1" strike="noStrike">
              <a:solidFill>
                <a:srgbClr val="e2efc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Do You Remember About Prevention Programs You Were Exposed to in Schoo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ge(s) were yo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remember about the progra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your impression of it at the ti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think it worked?  Did it affect your drug-use behaviors afterward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19-11-25T15:33:56Z</dcterms:modified>
  <cp:revision>58</cp:revision>
  <dc:subject/>
  <dc:title>How do organisms adapt to change?</dc:title>
</cp:coreProperties>
</file>