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39A-B114-4B8C-BD90-E35F54BF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088-4B48-4E5B-A466-1AB0D506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051-F47F-46EE-87E7-CF88DFC9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FDD-5BF4-4BD9-B2DE-37B05E8A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257D-26D3-4D8D-A8B1-C72A98C6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F179-AD29-4534-8FB8-32219485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C20C-FCC6-434B-90C4-88609E4E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18A7-EA99-4796-8693-C35D8610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16B0-0D91-4ACA-810C-899A2027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6AB9-0D2E-4AF4-B781-FD990F54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E0A4-B5EC-4A30-8674-0959A4B0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0FA-FC24-4ABD-96BF-E1CB8E19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A2B7-9852-4C28-97BC-C163AD59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A403-CA64-4AD3-AEAA-6D1552F6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DA4-484F-4CC4-9D8A-3FBAC148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7D2D-D701-4ECB-8469-952E675C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6CB1-C48F-460A-BE66-7395D0D7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54C-9C70-4938-B56F-BF33DFDA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568-F4AB-4316-8F32-738F9274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F80-04B2-4A8A-AB5F-F8AE0559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EED-85B2-4FF5-8D5C-6CB12919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7D2-C2EA-4C59-82FB-31FA3F2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57F-B7F2-4EBB-8E17-F71677F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4B0-DFAF-425E-9214-293A2FFA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EFEC-B554-42E5-A2ED-6EED52245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4A3A-0F86-4B42-AF47-4D1751F13F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Prevention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bout what you have learned in this cla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 would you targ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ften would you meet? And for how l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del would you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ould be your teac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rugs would you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r program be different from other progr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o drug prevention programs work? 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efforts can reduce the supply or the demand for drugs of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supply is the goal of law enfor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demand is the goal of legislation an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prevention has proven to be as elusive as effective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programs should enhance protective factors and reduce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ve factor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nd positive bonds within a prosocial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r rules of conduct that are consistently enfor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ment of parents in the lives of their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ccess in school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bonds with prosocial institutions (school and religious organiz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ption of conventional norms about drug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make the potential for drug use more likely, examp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otic home environments (esp. parents that abuse drugs and/or are mentally i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effective parenting, esp. with kids who have difficult temperaments or conduct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mutual attachments and nurt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ppropriately shy or aggressive behavior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ure in school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social coping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iliations with deviant peers or peers who display deviant behavi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ions of approval of drug-using behaviors in family, work, school, peer, and community enviro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School-based antidrug programs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rting information about hazards of drug use, sometimes includes scare tac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affect personality; focus on individual. Tries to improve self-esteem and interpersonal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nflu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familiarize students with the pressures to use drugs, enabling them to develop resistance skills and techniques for saying no in those pressure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What are some problems with the Information model?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knowing more about drugs will lead to experi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e tactics” can backfire, especially if they contain misinformation or exaggeration, leading students to distrust ALL information pres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this is taken as an opportunity to “preach” or moral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present all the facts about drugs, not just the negative ef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education can play a role in reducing drug-related harm rather than preventing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buse Resistan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equip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rs with the skills and motivation needed to resist peer pressure to use drugs, alcohol, and 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officers visit classroom once a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so lead to more positive view of po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it been effective?  What has the research sh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hort-term reviews have been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view which tracked a DARE program for 5 years found no long-term effects in reducing drug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review of 8 studies did not find encouraging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y found drug use to increase after D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 International Journal of Environmental Research and Public Health review of 20 studies found “a less than small effect” on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Remember About Prevention Programs You Were Exposed to in Schoo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(s) we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remember about the progra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your impression of it at the 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it worked?  Did it affect your drug-use behaviors afterw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1-25T15:33:56Z</dcterms:modified>
  <cp:revision>58</cp:revision>
  <dc:subject/>
  <dc:title>How do organisms adapt to change?</dc:title>
</cp:coreProperties>
</file>