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81C-424F-42E4-AC6E-A32A87A2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6EC-3C24-4C2D-A584-A6364DF2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6A0-FFEC-429B-B014-9BBD35E9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9F7-60CB-4F01-8723-C8A7088D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BB7B-71CD-4889-8CFA-5AA8A23A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3175-F8F0-482E-8F59-C5634B25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E1D2-F09E-4B81-88EC-E778160D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6DB6-240B-4ADF-9B4A-BDCEF2F2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44D-7F5F-4B24-A979-722A17B0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156E-3B6F-4EBE-ADC2-C4A5C6EF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DFC3-6E7E-4963-B487-D52358B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185-CC7A-44FC-9189-505E97A6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17D6-1537-4246-B51C-D785571F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12E7-276F-4369-8849-681DF53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3FCE-13D6-4AF7-9742-88F1CA64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8751-1154-42A2-840A-CDB292A3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5D13-894F-4B80-8C93-AC0EF74F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605-1E8E-41C9-9DCA-A586FB96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8CC-CAC8-49A8-9294-920472E2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512-61BB-484C-8992-9BFEDBB7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ED9-00B4-4B9D-BD9B-9575824A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C5E-91A4-4624-8838-03890CAC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054-209D-4B43-AF6F-A5144AB5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177-D565-48DF-BC6E-A903F35D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EDD6-0CE4-49C1-8A93-1E862703F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9F2D-CC97-4699-AD22-C46327BF23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Prevention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bout what you have learned in this cla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 would you targ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ften would you meet? And for how l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del would you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ould be your teac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rugs would you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r program be different from other progr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o drug prevention programs work? 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efforts can reduce the supply or the demand for drugs of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supply is the goal of law enfor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demand is the goal of legislation an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prevention has proven to be as elusive as effective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programs should enhance protective factors and reduce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ve factor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nd positive bonds within a prosocial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r rules of conduct that are consistently enfor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ment of parents in the lives of their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ccess in school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bonds with prosocial institutions (school and religious organiz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ption of conventional norms about drug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make the potential for drug use more likely, examp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otic home environments (esp. parents that abuse drugs and/or are mentally i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effective parenting, esp. with kids who have difficult temperaments or conduct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mutual attachments and nurt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ppropriately shy or aggressive behavior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ure in school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social coping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iliations with deviant peers or peers who display deviant behavi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ions of approval of drug-using behaviors in family, work, school, peer, and community enviro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School-based antidrug programs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rting information about hazards of drug use, sometimes includes scare tac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affect personality; focus on individual. Tries to improve self-esteem and interpersonal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nflu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familiarize students with the pressures to use drugs, enabling them to develop resistance skills and techniques for saying no in those pressure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What are some problems with the Information model?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knowing more about drugs will lead to experi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e tactics” can backfire, especially if they contain misinformation or exaggeration, leading students to distrust ALL information pres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this is taken as an opportunity to “preach” or moral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present all the facts about drugs, not just the negative ef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education can play a role in reducing drug-related harm rather than preventing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buse Resistan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equip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rs with the skills and motivation needed to resist peer pressure to use drugs, alcohol, and 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officers visit classroom once a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so lead to more positive view of po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it been effective?  What has the research sh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hort-term reviews have been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view which tracked a DARE program for 5 years found no long-term effects in reducing drug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review of 8 studies did not find encouraging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y found drug use to increase after D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 International Journal of Environmental Research and Public Health review of 20 studies found “a less than small effect” on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Remember About Prevention Programs You Were Exposed to in Schoo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(s) we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remember about the progra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your impression of it at the 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it worked?  Did it affect your drug-use behaviors afterw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1-25T15:33:56Z</dcterms:modified>
  <cp:revision>58</cp:revision>
  <dc:subject/>
  <dc:title>How do organisms adapt to change?</dc:title>
</cp:coreProperties>
</file>