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F1B-8560-476C-A701-45332034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6B3-B03B-4182-BB6E-974A6034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7E5-F494-466C-AA7D-6DB3F927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9AB-E5EE-4EF4-8E88-9F262D19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0A45-A483-4730-B812-CC78F714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6FC4-160B-4047-8A63-8972ED15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5DA6-7AAF-4C22-AEBE-E6E61980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3663-309B-41A9-A704-2D732C22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99E1-91C6-46C0-AA23-A9DCCD27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E2C8-4AEA-4B42-987B-22420D81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C1CB-F975-44CA-B804-C8F6AED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835-B815-4DE7-A2DB-AC87BB5D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44EC-B406-4932-A95A-15FACC3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F2F-2476-4161-8FCE-B59EC53A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0F8B-C477-4F9B-9221-D362BD76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DF24-F571-41C4-9FD1-E3558FC5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F61B-E7D0-4E60-BA65-0BDA22F3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8E2-1F26-460F-A3A0-83994F2C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E97-F699-477E-A6D9-4F04837F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458-6672-4C88-84DD-142A42E7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971-E191-41AF-9C57-914A21BC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B63-F672-492E-8409-4C19FB8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B49-1351-4FAF-84A0-E28A933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261-06D7-4F6F-854E-D46B85E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7FF2-50F1-4CD1-A7D4-7E6EFA3AD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FA5F-71CD-4E89-9747-3D4838D370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Prevention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bout what you have learned in this cla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 would you targ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would you meet? And for how l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del would you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uld be your teac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rugs would you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program be different from other progr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o drug prevention programs work?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orts can reduce the supply or the demand for drugs of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supply is the goal of law enfor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demand is the goal of legislation an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prevention has proven to be as elusive as effective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programs should enhance protective factors and reduc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ve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nd positive bonds within a prosocial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rules of conduct that are consistently enfor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ment of parents in the lives of their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ccess in school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bonds with prosocial institutions (school and religious organiz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on of conventional norms about drug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make the potential for drug use more likely, examp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otic home environments (esp. parents that abuse drugs and/or are mentally i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effective parenting, esp. with kids who have difficult temperaments or conduct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mutual attachments and nur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ppropriately shy or aggressive behavior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 in school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social coping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liations with deviant peers or peers who display deviant behavi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ions of approval of drug-using behaviors in family, work, school, peer, and community enviro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School-based antidrug programs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ing information about hazards of drug use, sometimes includes scare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affect personality; focus on individual. Tries to improve self-esteem and interpersonal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nflu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familiarize students with the pressures to use drugs, enabling them to develop resistance skills and techniques for saying no in those pressure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What are some problems with the Information model?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knowing more about drugs will lead to experi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e tactics” can backfire, especially if they contain misinformation or exaggeration, leading students to distrust ALL information 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his is taken as an opportunity to “preach” or mo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esent all the facts about drugs, not just the negative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education can play a role in reducing drug-related harm rather than preventing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buse Res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equip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s with the skills and motivation needed to resist peer pressure to use drugs, alcohol,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 visit classroom once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lead to more positive view of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it been effective?  What has the research sh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ort-term reviews have been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view which tracked a DARE program for 5 years found no long-term effects in reducing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review of 8 studies did not find encourag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y found drug use to increase after 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International Journal of Environmental Research and Public Health review of 20 studies found “a less than small effect” on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Remember About Prevention Programs You Were Exposed to in Schoo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(s) we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remember about the progr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impression of it at the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rked?  Did it affect your drug-use behaviors afterw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1-25T15:33:56Z</dcterms:modified>
  <cp:revision>58</cp:revision>
  <dc:subject/>
  <dc:title>How do organisms adapt to change?</dc:title>
</cp:coreProperties>
</file>