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0BF-0AEA-4938-8EB0-B8A5A931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C4B-E33A-4607-8F5D-C10421FB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ADD-C3CC-4C15-8282-CE96BD46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EB8-91C2-45C9-B1A7-98221183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D190-AB1F-4E31-9964-DB772F1B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D43C-EA98-4E42-A8DD-F8F1DBD1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9378-7087-4618-899C-94462F2F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BDBA-1ED0-4B86-93A9-DF9E2BC9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C793-1B79-4D03-BCE8-D3B85F98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9B20-3EC6-4D2F-A5D0-4693AF07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165C-C25B-471D-92D2-F7599B50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DF7-915E-4022-8548-2933B063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11EA-4CBC-4F03-8B11-D845F63B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0B5F-547A-45F0-A06F-AB9DD6C1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FB21-35DA-4AB1-9791-90E5C385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0E01-7284-4CF0-A43A-431DD55C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B07C-25B7-4D27-A00A-07398B68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8ED-CAB9-4E91-9BD9-53742739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B7A-8012-477C-900E-9306F9DE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FEB-DC58-4102-9FF8-CD8592CF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6BD-2A3F-418F-BA3B-988851D1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DAF-F226-4BE6-AA03-1996FBBA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3A1-7F7B-4E97-A478-A5D1673A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46D-2507-4CE3-AFED-5E4B903C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AEFE-3036-4D59-A1EB-3CCE7E070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74EE-D161-45B8-B46A-FCC23653F2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Prevention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esign a Program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ing about what you have learned in this cla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ge would you targ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often would you meet? And for how lo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odel would you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ould be your teac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rugs would you focus 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r program be different from other progra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o drug prevention programs work? 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 efforts can reduce the supply or the demand for drugs of ab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the supply is the goal of law enforc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the demand is the goal of legislation and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prevention has proven to be as elusive as effective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dels for Prevention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 programs should enhance protective factors and reduce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ve factor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and positive bonds within a prosocial fam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al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r rules of conduct that are consistently enfor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olvement of parents in the lives of their child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ccess in school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bonds with prosocial institutions (school and religious organiz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option of conventional norms about drug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dels for Prevention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factors make the potential for drug use more likely, examp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otic home environments (esp. parents that abuse drugs and/or are mentally il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effective parenting, esp. with kids who have difficult temperaments or conduct diso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k of mutual attachments and nurtu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appropriately shy or aggressive behavior in the 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lure in school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r social coping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filiations with deviant peers or peers who display deviant behavi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ptions of approval of drug-using behaviors in family, work, school, peer, and community environ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School-based antidrug programs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rting information about hazards of drug use, sometimes includes scare tac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s to affect personality; focus on individual. Tries to improve self-esteem and interpersonal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Influenc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s to familiarize students with the pressures to use drugs, enabling them to develop resistance skills and techniques for saying no in those pressure situ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What are some problems with the Information model?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knowing more about drugs will lead to experim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re tactics” can backfire, especially if they contain misinformation or exaggeration, leading students to distrust ALL information pres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this is taken as an opportunity to “preach” or morali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present all the facts about drugs, not just the negative eff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education can play a role in reducing drug-related harm rather than preventing drug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.A.R.E.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Abuse Resistance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to equip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ders with the skills and motivation needed to resist peer pressure to use drugs, alcohol, and tobac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e officers visit classroom once a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also lead to more positive view of po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.A.R.E.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it been effective?  What has the research show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hort-term reviews have been po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view which tracked a DARE program for 5 years found no long-term effects in reducing drug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review of 8 studies did not find encouraging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tudy found drug use to increase after D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9 International Journal of Environmental Research and Public Health review of 20 studies found “a less than small effect” on drug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esign a Program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Remember About Prevention Programs You Were Exposed to in Schoo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ge(s) were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remember about the progra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your impression of it at the t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think it worked?  Did it affect your drug-use behaviors afterwar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19-11-25T15:33:56Z</dcterms:modified>
  <cp:revision>58</cp:revision>
  <dc:subject/>
  <dc:title>How do organisms adapt to change?</dc:title>
</cp:coreProperties>
</file>