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0647-481E-449F-8DF2-4F49A0666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EB7C-EE67-4AF8-91D8-6F5C5068A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C94D-B011-421B-B372-13D1AAF1E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0F59-1EA3-4064-82E5-D3EEC23A3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7558E-43C6-4858-BDF7-5A13828B9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A9A85-AED2-4C4C-8370-73FB7D22A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FF0A6-697F-45BB-8AF8-F3542780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E105F-2E7D-4D61-ABCE-0AE273F9D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29D5F-53AB-43B9-8C34-12934B489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CE7F3-35E8-44DA-B49A-2D5458F6D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12A87-5105-401B-BC82-730B1D53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A1CD-8718-4876-85BA-229AE31DE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CDC51-38FF-424A-B313-C77F28A7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13732-9710-40D1-9B1B-AD45E298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FC45B-13E4-4A00-8F38-E662D3906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B1D6D-45D2-4F78-916D-7AB31DF77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679EB-F752-4B3C-96B4-828635DFC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56F6-1907-471E-81E1-ED76A1119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DE58-93EA-44A3-860B-1D3E5CF9A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0446-6E00-49BF-9242-840FD8E2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2F7F-78BD-4263-A377-BF6BE82E6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124C-454B-4E20-946F-051E1D18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98A9-FE69-4648-A322-B98FC226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3826-A230-4B45-823C-8AB5E1B2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a4a"/>
            </a:gs>
            <a:gs pos="100000">
              <a:srgbClr val="0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4644"/>
                </a:gs>
                <a:gs pos="100000">
                  <a:srgbClr val="006e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4e4e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5351"/>
                </a:gs>
                <a:gs pos="100000">
                  <a:srgbClr val="006e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6969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5d5d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8848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4646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4947"/>
                </a:gs>
                <a:gs pos="100000">
                  <a:srgbClr val="006e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f878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3b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242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754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17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947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d4b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5151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4e4e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e3e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754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a4a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d5d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6565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d5d"/>
                  </a:gs>
                  <a:gs pos="100000">
                    <a:srgbClr val="0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178b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E64E7-1551-4645-BDBC-6484611A4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a4a"/>
            </a:gs>
            <a:gs pos="100000">
              <a:srgbClr val="0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4644"/>
                </a:gs>
                <a:gs pos="100000">
                  <a:srgbClr val="006e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4e4e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5351"/>
                </a:gs>
                <a:gs pos="100000">
                  <a:srgbClr val="006e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6969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5d5d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8848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4646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4947"/>
                </a:gs>
                <a:gs pos="100000">
                  <a:srgbClr val="006e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f878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3b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242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754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17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947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d4b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5151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4e4e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e3e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754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a4a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d5d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6565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d5d"/>
                  </a:gs>
                  <a:gs pos="100000">
                    <a:srgbClr val="0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178b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B29F7-CC79-4C4B-A6B0-60271380666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2efcd"/>
                </a:solidFill>
                <a:latin typeface="Arial"/>
              </a:rPr>
              <a:t>Prevention</a:t>
            </a:r>
            <a:endParaRPr b="0" lang="en-US" sz="48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2efcd"/>
                </a:solidFill>
                <a:latin typeface="Arial"/>
              </a:rPr>
              <a:t>Design a Program</a:t>
            </a:r>
            <a:endParaRPr b="0" lang="en-US" sz="40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nking about what you have learned in this clas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ge would you targe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often would you meet? And for how lo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model would you us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would be your teache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rugs would you focus 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would your program be different from other program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2efcd"/>
                </a:solidFill>
                <a:latin typeface="Arial"/>
              </a:rPr>
              <a:t>Do drug prevention programs work? </a:t>
            </a:r>
            <a:endParaRPr b="0" lang="en-US" sz="40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vention efforts can reduce the supply or the demand for drugs of abu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ing the supply is the goal of law enforc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ing the demand is the goal of legislation and educ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ective prevention has proven to be as elusive as effective treat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Arial"/>
              </a:rPr>
              <a:t>Models for Prevention</a:t>
            </a: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vention programs should enhance protective factors and reduce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ective factors includ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90680" indent="-53352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ong and positive bonds within a prosocial fami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90680" indent="-53352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al monito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90680" indent="-53352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ear rules of conduct that are consistently enforc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90680" indent="-53352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volvement of parents in the lives of their childr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90680" indent="-53352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ccess in school perform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90680" indent="-53352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ong bonds with prosocial institutions (school and religious organizatio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90680" indent="-53352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option of conventional norms about drug 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Arial"/>
              </a:rPr>
              <a:t>Models for Prevention</a:t>
            </a: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980640" indent="-5281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sk factors make the potential for drug use more likely, exampl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6640" indent="-52812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otic home environments (esp. parents that abuse drugs and/or are mentally il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6640" indent="-52812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effective parenting, esp. with kids who have difficult temperaments or conduct disor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6640" indent="-52812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ck of mutual attachments and nurtu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6640" indent="-52812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appropriately shy or aggressive behavior in the classro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6640" indent="-52812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lure in school perform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6640" indent="-52812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or social coping ski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6640" indent="-52812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ffiliations with deviant peers or peers who display deviant behavi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6640" indent="-52812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ceptions of approval of drug-using behaviors in family, work, school, peer, and community environ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2efcd"/>
                </a:solidFill>
                <a:latin typeface="Arial"/>
              </a:rPr>
              <a:t>School-based antidrug programs</a:t>
            </a:r>
            <a:endParaRPr b="0" lang="en-US" sz="40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tion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arting information about hazards of drug use, sometimes includes scare tactic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fective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ks to affect personality; focus on individual. Tries to improve self-esteem and interpersonal ski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al Influence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ks to familiarize students with the pressures to use drugs, enabling them to develop resistance skills and techniques for saying no in those pressure situ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2efcd"/>
                </a:solidFill>
                <a:latin typeface="Arial"/>
              </a:rPr>
              <a:t>What are some problems with the Information model?</a:t>
            </a:r>
            <a:endParaRPr b="0" lang="en-US" sz="40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times knowing more about drugs will lead to experiment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are tactics” can backfire, especially if they contain misinformation or exaggeration, leading students to distrust ALL information presen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times this is taken as an opportunity to “preach” or moraliz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ed to present all the facts about drugs, not just the negative effec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ug education can play a role in reducing drug-related harm rather than preventing drug u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2efcd"/>
                </a:solidFill>
                <a:latin typeface="Arial"/>
              </a:rPr>
              <a:t>D.A.R.E.</a:t>
            </a:r>
            <a:endParaRPr b="0" lang="en-US" sz="40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 Abuse Resistance Edu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09800" indent="-609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to equip 5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6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and 7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raders with the skills and motivation needed to resist peer pressure to use drugs, alcohol, and tobac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09800" indent="-609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ice officers visit classroom once a we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09800" indent="-609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also lead to more positive view of pol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2efcd"/>
                </a:solidFill>
                <a:latin typeface="Arial"/>
              </a:rPr>
              <a:t>D.A.R.E.</a:t>
            </a:r>
            <a:endParaRPr b="0" lang="en-US" sz="40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s it been effective?  What has the research show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9200" indent="-591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short-term reviews have been posi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9200" indent="-591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review which tracked a DARE program for 5 years found no long-term effects in reducing drug 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9200" indent="-591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other review of 8 studies did not find encouraging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9200" indent="-591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study found drug use to increase after D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9200" indent="-591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9 International Journal of Environmental Research and Public Health review of 20 studies found “a less than small effect” on drug u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2efcd"/>
                </a:solidFill>
                <a:latin typeface="Arial"/>
              </a:rPr>
              <a:t>Design a Program</a:t>
            </a:r>
            <a:endParaRPr b="0" lang="en-US" sz="40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hat Do You Remember About Prevention Programs You Were Exposed to in Schoo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ge(s) were you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 you remember about the progra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as your impression of it at the tim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you think it worked?  Did it affect your drug-use behaviors afterward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13:54:12Z</dcterms:created>
  <dc:creator>Campus Computing</dc:creator>
  <dc:description/>
  <dc:language>en-US</dc:language>
  <cp:lastModifiedBy>Trench, Lynne S.</cp:lastModifiedBy>
  <dcterms:modified xsi:type="dcterms:W3CDTF">2019-11-25T15:33:56Z</dcterms:modified>
  <cp:revision>58</cp:revision>
  <dc:subject/>
  <dc:title>How do organisms adapt to change?</dc:title>
</cp:coreProperties>
</file>