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61F-9229-40D2-93CE-E8FB6232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912-0A40-4C4F-883C-9B2F760A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B5F-7236-4B86-9AA8-60F91082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166-FFF3-44D2-96AB-38C1B243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BEC-64D8-44C7-B3D1-259A0A8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0EF-4F10-4C43-94CA-8503618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C5F-F0B6-469F-9543-3B4FC271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CE1-AE0E-4C0B-BCBD-B145236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D9F-DAF6-4475-A033-BAC3FD36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4B3-9F60-4DE2-82E9-761F79BD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E79-0E34-4B36-BB06-8BA0078D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742-1EAD-44D1-A397-DE4BA20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35E3-8F5F-4DF4-9A15-BEDB5997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s://www.youtube.com/watch?v=HEBgvC5A4m4" TargetMode="External"/><Relationship Id="rId4" Type="http://schemas.openxmlformats.org/officeDocument/2006/relationships/hyperlink" Target="https://www.youtube.com/watch?v=HEBgvC5A4m4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youtube.com/watch?v=hj2xbwtc0h8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 and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_x0019_modern chant notation.jpg                                      00A8776B&#9;Ruckers 3                      BC99A5F3:"/>
          <p:cNvPicPr/>
          <p:nvPr/>
        </p:nvPicPr>
        <p:blipFill>
          <a:blip r:embed="rId1"/>
          <a:stretch/>
        </p:blipFill>
        <p:spPr>
          <a:xfrm>
            <a:off x="4233960" y="228600"/>
            <a:ext cx="456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_x000b_mode002.jpg  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 of Text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llabic: Mostly 1 note/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matic: Mostly 3-5 notes/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ismatic: Long strings of notes on a single syllabl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lis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Guido d’Arez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ed in h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rolog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a. 1025-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685800" y="2448000"/>
            <a:ext cx="3414600" cy="4333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323960" y="3565440"/>
            <a:ext cx="46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and his patron holding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ch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instrumen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string lengths of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o’s method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xchord = group of six adjacent pitches w/ the interval patt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T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e.g. C - D - E - F - G - 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each pitch a fixed syllable: Ut, Re, mi, fa, sol,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-Fa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alf-step [the only one in any hexach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1104840"/>
            <a:ext cx="7499520" cy="4648320"/>
          </a:xfrm>
          <a:prstGeom prst="rect">
            <a:avLst/>
          </a:prstGeom>
          <a:ln w="0">
            <a:noFill/>
          </a:ln>
        </p:spPr>
      </p:pic>
      <p:sp>
        <p:nvSpPr>
          <p:cNvPr id="77" name="Left Bracket 7"/>
          <p:cNvSpPr/>
          <p:nvPr/>
        </p:nvSpPr>
        <p:spPr>
          <a:xfrm rot="16200000">
            <a:off x="1467000" y="1886040"/>
            <a:ext cx="419040" cy="1371600"/>
          </a:xfrm>
          <a:custGeom>
            <a:avLst/>
            <a:gdLst>
              <a:gd name="textAreaLeft" fmla="*/ 123120 w 419040"/>
              <a:gd name="textAreaRight" fmla="*/ 419400 w 419040"/>
              <a:gd name="textAreaTop" fmla="*/ 17280 h 1371600"/>
              <a:gd name="textAreaBottom" fmla="*/ 135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5"/>
                  <a:pt x="0" y="550"/>
                </a:cubicBezTo>
                <a:lnTo>
                  <a:pt x="0" y="21050"/>
                </a:lnTo>
                <a:cubicBezTo>
                  <a:pt x="0" y="2132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eft Bracket 8"/>
          <p:cNvSpPr/>
          <p:nvPr/>
        </p:nvSpPr>
        <p:spPr>
          <a:xfrm rot="16200000">
            <a:off x="4809960" y="248580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eft Bracket 9"/>
          <p:cNvSpPr/>
          <p:nvPr/>
        </p:nvSpPr>
        <p:spPr>
          <a:xfrm rot="16200000">
            <a:off x="7248600" y="24861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Bracket 10"/>
          <p:cNvSpPr/>
          <p:nvPr/>
        </p:nvSpPr>
        <p:spPr>
          <a:xfrm rot="16200000">
            <a:off x="2981160" y="395244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eft Bracket 11"/>
          <p:cNvSpPr/>
          <p:nvPr/>
        </p:nvSpPr>
        <p:spPr>
          <a:xfrm rot="16200000">
            <a:off x="5744880" y="3902040"/>
            <a:ext cx="214560" cy="48708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487080"/>
              <a:gd name="textAreaBottom" fmla="*/ 478440 h 48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97"/>
                  <a:pt x="0" y="793"/>
                </a:cubicBezTo>
                <a:lnTo>
                  <a:pt x="0" y="20807"/>
                </a:lnTo>
                <a:cubicBezTo>
                  <a:pt x="0" y="21204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eft Bracket 12"/>
          <p:cNvSpPr/>
          <p:nvPr/>
        </p:nvSpPr>
        <p:spPr>
          <a:xfrm rot="16200000">
            <a:off x="1352520" y="54579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635120" y="49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, re, mi, fa, sol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mn “Ut queant laxis” (hymn in honor of John the Bapt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2057400" y="1884240"/>
            <a:ext cx="380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721400" y="173520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7238880" y="158256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2895480" y="29718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5608800" y="281952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1295280" y="42480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different hexachord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o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G [w/ “square” b natural] [B duru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F [w/ round B flat] [B moll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 Mu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witching between different hexach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for melodies that went beyond range of a single hexach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&#13;solmiz003.jpg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3240" y="457200"/>
            <a:ext cx="9140760" cy="3444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10996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&#13;solmiz004.jpg                                                  0003810F&#9;Ruckers 3                      BC99A5F3:"/>
          <p:cNvPicPr/>
          <p:nvPr/>
        </p:nvPicPr>
        <p:blipFill>
          <a:blip r:embed="rId2"/>
          <a:stretch/>
        </p:blipFill>
        <p:spPr>
          <a:xfrm>
            <a:off x="0" y="4191120"/>
            <a:ext cx="8839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1649520" y="0"/>
            <a:ext cx="584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ding Solesmes Chant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lead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two notes are aligned vertically, sing bottom not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grouped together are sung on the same syllable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otes have the same rhythmic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t doubles the length of the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notes of the same pitch on the same syllable are sung as a single note for the length of all the notes take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s for 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al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[final and rang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-setting [syllabic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52280" y="2438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core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863640" y="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048120" y="5715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core vide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Mus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2638440" y="1447920"/>
            <a:ext cx="4022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Middle Ag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of Greek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 = one of  the 7 Liberal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thius (ca. 480-524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Mus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mundana = cosmic mu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armon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humana = music controls body and soul [etho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music that can be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3" dur="1" fill="hold"/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ter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a. 900, theory more concerned with practical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ag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large chant reper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Church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: Ton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= a way of classifying and describing chant mel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eory of harmonic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LONG AFTER the chant melodies they attempt to class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de: Important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: main pitch (usually where the melody comes to rest)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E, F or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ge (ambit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final and octav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g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low final to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on’t worry about teno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2:50:15Z</dcterms:created>
  <dc:creator>Don Fader</dc:creator>
  <dc:description/>
  <dc:language>en-US</dc:language>
  <cp:lastModifiedBy>Jones, Tyler T</cp:lastModifiedBy>
  <dcterms:modified xsi:type="dcterms:W3CDTF">2022-08-29T23:24:30Z</dcterms:modified>
  <cp:revision>69</cp:revision>
  <dc:subject/>
  <dc:title>PowerPoint Presentation</dc:title>
</cp:coreProperties>
</file>