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A09-2732-4143-91C1-A1CFD2C0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90E-6562-4411-9958-C4710DB1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72A-82F1-41FE-8373-8A7053FE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FBDF-CDD4-4166-9DC1-6A14F54C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FDF4-9AAD-46B7-A64A-A0F252A8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652A-6F6D-4E50-AC7D-5C5147EA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9CD5-7778-4F23-9EF6-B11E02BC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4A22-8A65-4CD0-887D-0770C1BF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C163-9EB0-449B-8EF9-5A23E9A3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9A69-62FE-4401-A822-2A0D8636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E0FF-8DE8-4B8C-9739-2775856B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527-059F-4FD2-A113-F1CD6ADD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6FC7-3387-4574-9FB8-CB534586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084D-8815-4126-9EBC-973C28DE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9C20-CCD3-4415-BF70-E31FC451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986C-C27D-40BE-966A-9D14B708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53CF-D701-4BE8-A0BE-5CE6B6CA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C043-3A02-4484-9F31-439C30FC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ECC-F244-4EBF-9A4C-17A96E66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5B5B-C28B-4BFF-B7A2-87CAE252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1016-CC03-426A-9039-C0FB537E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715-FDED-492B-A36C-7389FBB4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8DD-293A-4572-9463-83E3C190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14FD-AEC5-47AB-8148-371F1AED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918D-AF3C-48FB-BF04-F82FA3FC2C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10AB-5E2D-46B3-98FD-4C43A621A81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nida.nih.gov/publications/drugfacts/vaping-devices-electronic-cigarettes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yfLp_vueUxY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</a:t>
            </a:r>
            <a:br>
              <a:rPr sz="4400"/>
            </a:br>
            <a:r>
              <a:rPr b="0" lang="en-US" sz="44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nida.nih.gov/publications/drugfacts/vaping-devices-electronic-cigarett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9" name="Picture 4" descr="MCj01500350000[1]"/>
          <p:cNvPicPr/>
          <p:nvPr/>
        </p:nvPicPr>
        <p:blipFill>
          <a:blip r:embed="rId2"/>
          <a:stretch/>
        </p:blipFill>
        <p:spPr>
          <a:xfrm>
            <a:off x="3429000" y="4267080"/>
            <a:ext cx="27464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doses can result in nervousness, tremors to effects of nicotine tox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associated with increased occurrence of panic attacks/panic D.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rbidity of childhood ADHD, depression, schizophrenia, and sm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y reduces ADHD symptom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ive effect for Parkinson’s &amp; Alzheimer’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bout low nicotine/low tar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lera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undergo a significant degree of nicotine tolerance during the course of the day.  But after overnight abstinence, smokers awaken more sensitive to nicotine’s eff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term nicotine exposure leads to chronic toler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Withdraw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develop tolerance to nausea, dizziness, vomi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tolerance to tremors, decreased skin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drawal effects include irritability, inability to concentrate, insomnia, restlessness, anger, increased appet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0,000 U.S. deaths a year due to smo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ng cancer, bronchitis and emphysema not caused by nicotine per se but smoking and 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ing alters lung functioning – paralyzing cilia, resulting in less ability to clear dust and pollutants from lu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of smoking on heart and blood vessels may be caused by nicot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increases narrowing and clotting in coronary arte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monoxide decreases oxygen to heart while nicotine increases work heart do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is leads to cardiovascular disease (stroke, heart attack, vascular disease, aneurysm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ly increased risk heart problems if smoker and on oral birth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ectronic-cigarettes, Vaping, MO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tery-operated devices that people use to inhale an aerosol, which typically contains nicotine (though not always), flavorings, and other chemic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many e-cigarettes, puffing activates the battery-powered heating device, which vaporizes the liquid in the cartridge or reservoir. The person then inhales the resulting aerosol or vap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it safer than smoking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ectronic-cigarettes, Vaping, MO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mount of nicotine delivered by an e-cigarette is generally less than that delivered by a tobacco cigarette, but this varies based on device characteristics (e-cig power and e-liquid nicotine concentration), and user behavior.  More experienced users of e-cigarettes ingest more nicotine, about equivalent to a tobacco cigaret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erms of cancer risk?, cardiovascular ris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, what should we rememb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Combination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can cause problems when combined with other drugs that increase heart rate and blood pressure, or that reduce oxygen-carrying capacity of the bloo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cocaine and other stimulant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decreases oxygen and constricts blood vessel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during pregnancy results in more premature births, smaller head circumference and decreased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udies indicate greater liklihood of nicotine addiction in those who’s mothers smoked during pregn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of fathers who smoke more likely to develop childhood canc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b/c so many activities/settings associated with smok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gum, patch, lozenges, nasal spray, and inhalers have some success, but not much.  Inhalers are safer, howe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antidepressants, e.g. bupropion (Zyban, Wellbutr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enicline (Chantix) partial agonist for nicotinic ACh recep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mall Group Discu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of your friends/family members use nicotine produ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use e-cigarettes/vaporizers compared to cigaret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people your age, do you think there is a negative stigma associated with these activities?  When is it more vs. less accep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dolescent Smok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addicted smokers started in adolesc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s experience less of the aversive effects than adults, and will self-administer more than adults (based on rat stud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like reinforcing effects more or experience fewer negative side eff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et’s watch and discus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yfLp_vueU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00s tobacco used to treat many ail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28 French chemists isolated nicot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U.S. Chewing tobacco used fir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ly 1900s cigars became 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cigarettes; peak sales in 1960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17, Monitoring the Future starts tracking va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,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st widely consumed recreational drug (after caffeine and alcohol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delivered to brain about 7 seconds after inha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puff =&gt; drug spike (reinforc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r controls nicotine levels by…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eeply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between cigarettes/va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Nicotine metabolized quickly to cotinine; this is eliminated in the ur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k concentration in the brain reached in about 10 m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continues to use even when blood nicotine levels are high. Doesn’t lead to greater and greater effects b/c of tolerance that develops over the course of the d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blood levels for smoking, vaping, chewing, snuf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binds to nicotinic subtype of Acetylcholine (Ach) receptor (ionotrop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s in mesolimbic pathway, causes Dopamine (Da) release at the nucleus accumb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nicotinic Ach Receptors may be located on presynaptic DA, Ach, and Glutamate- secreting neurons and facilitate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 release of Epinephine (adrenaline) from adrenal g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s release of antidiuretic hormone (ADH) =&gt; fluid re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resses insulin output =&gt; hyperglyce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heart rate, blood pressure, cardiac contract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es muscles by activating cells in spinal cord that reduce muscle tone (relaxatio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activity, cognitive functioning, attention, short-term memory, sensorimotor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ed to decrease stress, anxiety, frustration, anger (what could this be due to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xic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 mg nicotine can be fatal to an adult. Cigarettes contain 0.5-2 mg nicotine, with 20% inhaled and reaching bloodstream. 2-8 mg nicotine ingested per day in pack a day smoker. For vaping, 6-24 mg nicotine per cartridge or refi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cotine is used in many insecticides and pestici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of nicotine poisoning (dizziness, weakness, nausea) eventually leads to convulsions and respiratory failure (due to paralysis of muscles needed for breathi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09-20T15:35:03Z</dcterms:modified>
  <cp:revision>57</cp:revision>
  <dc:subject/>
  <dc:title>How do organisms adapt to change?</dc:title>
</cp:coreProperties>
</file>