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D5D-4BE6-4630-8662-E89EC29C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B8A-A068-4A8E-ADB0-0934FE39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C6A-CC48-49CC-AD78-1027C786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DF8-DB5D-4A7C-805B-D725E42C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7D29-5113-4EEB-A2E5-4E48C4DF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436C-F45F-4F06-B91D-A3019376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CD39-1E87-4CAF-A0D2-F292ED4A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6723-127E-4928-9379-A6CDB523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1B38-94BD-4798-B8FB-EC464B4C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84BE-703A-411C-8D9F-95FC1DB5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ADF7-F770-40F7-9589-B74AE5B6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4F6-1FA8-43C4-9D74-5FEC8B44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FF05-EEB1-4BDD-8B7F-CB429F85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1CE4-8FE8-46AC-8D81-506842CF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F7B9-A86D-4D9A-9E7F-A3CE76ED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1362-974B-4D48-B40B-51F6E7DE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E0C8-4B0F-4C71-A84A-9F2C074A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F1C-D5D7-4C40-8A35-54BCC134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E93-9D01-4036-8BDD-57517063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5E2-2660-4508-800C-7D450B67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DB2-E731-4A37-91C5-E5AE5700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A07-9E42-4453-AC82-ADE4EFA7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9FE-0685-4EE7-A27B-79490420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C1B-605F-4C5E-86F7-5B11E556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50C9-FCC9-4684-82F7-0BC06DB2B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2B44-9D47-48B6-A15D-F59B3E1DF65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nida.nih.gov/publications/drugfacts/vaping-devices-electronic-cigarette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fLp_vueUxY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nida.nih.gov/publications/drugfacts/vaping-devices-electronic-cigaret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mount of nicotine delivered by an e-cigarette is generally less than that delivered by a tobacco cigarette, but this varies based on device characteristics (e-cig power and e-liquid nicotine concentration), and user behavior.  More experienced users of e-cigarettes ingest more nicotine, about equivalent to a tobacco cigaret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erms of cancer risk?, cardiovascular ris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, what should we rememb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lood pressure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use nicotine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use e-cigarettes/vaporizers compared to cigaret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t’s watch and discu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yfLp_vueU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17, Monitoring the Future starts tracking va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/va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continues to us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vaping, chewing, sn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binds to nicotinic subtype of Acetylcholine (Ach) receptor (ionotrop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s in mesolimbic pathway, causes Dopamine (Da) release at the nucleus accumb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nicotinic Ach Receptors may be located on presynaptic DA, Ach, and Glutamate- secreting neurons and facilitate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ntidiuretic hormone (ADH)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 For vaping, 6-24 mg nicotine per cartridge or refi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9-20T15:35:03Z</dcterms:modified>
  <cp:revision>57</cp:revision>
  <dc:subject/>
  <dc:title>How do organisms adapt to change?</dc:title>
</cp:coreProperties>
</file>