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5A3-405D-4FAF-8E5C-047D4049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6C2-9782-444A-B411-E4B87CA0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33C-487A-41BB-A800-72D7D127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9F3-7610-4665-BC7B-C1BCD310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62BE-71F8-4E7B-958B-151FBE72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87A1-3B0F-47EF-B73B-3DCF1C01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C87B-14D9-4E62-A7E5-A4EB35AC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85FA-E59A-485F-B1FB-C7361BCA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9E95-83F5-462C-A9BC-6319FC9C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3290-C695-4FED-920F-D3290668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9343-0E87-4112-9975-C9AF52E0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125-B2D9-4CD3-BC41-84A69A80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41BC-EE5F-4DEE-A949-B48746F5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0566-2310-41A9-A05C-12AC720E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E5CA-50C4-4608-A99E-B16C12C4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F54A-5693-4B21-9EE5-E0935FB4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E2C9-A5A6-4277-AE40-DB2FA44E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E29-EB5F-4075-AF6F-526341D1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FCF-66B2-454F-B357-357456FB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C21-2ED3-4850-ADE2-C5A34A71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717-946E-4CEE-B40E-5656C2E0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F52-A946-48BD-A57C-0EDB6FE0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ABD-D979-470E-B73D-D0073762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438-FB40-405A-AB2C-91BE7275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1D45-1E38-4249-A6A3-B4ABE1B3D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EA53-D71F-4B4E-BDF3-F69AEED303A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nida.nih.gov/publications/drugfacts/vaping-devices-electronic-cigarette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fLp_vueUxY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nida.nih.gov/publications/drugfacts/vaping-devices-electronic-cigaret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mount of nicotine delivered by an e-cigarette is generally less than that delivered by a tobacco cigarette, but this varies based on device characteristics (e-cig power and e-liquid nicotine concentration), and user behavior.  More experienced users of e-cigarettes ingest more nicotine, about equivalent to a tobacco cigaret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erms of cancer risk?, cardiovascular ris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, what should we rememb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lood pressure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use nicotine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use e-cigarettes/vaporizers compared to cigaret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t’s watch and discu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yfLp_vueU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17, Monitoring the Future starts tracking va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/va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continues to us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vaping, chewing, sn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binds to nicotinic subtype of Acetylcholine (Ach) receptor (ionotrop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s in mesolimbic pathway, causes Dopamine (Da) release at the nucleus accumb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nicotinic Ach Receptors may be located on presynaptic DA, Ach, and Glutamate- secreting neurons and facilitate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ntidiuretic hormone (ADH)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 For vaping, 6-24 mg nicotine per cartridge or refi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9-20T15:35:03Z</dcterms:modified>
  <cp:revision>57</cp:revision>
  <dc:subject/>
  <dc:title>How do organisms adapt to change?</dc:title>
</cp:coreProperties>
</file>