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2CE-15D4-48AC-AA2C-3B6FF6F2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403-4B9B-4FB8-B5F7-EC520E11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C89-BF47-4BE3-9C5D-7D0EDB13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914-B30E-43AB-B368-B5A6A1C1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85C6-D6DA-4FE6-A82E-E40197A7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001B-0BEC-44B3-B83B-DDE46939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CAD3-8D26-4419-8867-6D02DEB8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C8B4-40F0-482E-9686-1E76E46D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8523-72B7-4A87-89FF-73BA74CC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E164-03A0-4462-A929-9D8816D3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E099-A1B9-426E-8EC1-E1C527BD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6D0-E3AA-4600-B0B2-D6EED6EC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0F60-F902-4CC7-95B7-794A211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6A82-D1CF-469A-9F78-4B40A87D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BDC4-46AF-47CF-B0A8-772604EB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7215-02B8-4A87-9BEB-CD91374E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71DB-D8E6-43E2-9106-1116B8E1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00F-AFEB-4352-97B3-6277B59C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AA1-4B2B-46DA-97DA-FF2F4A7E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1AF-63FF-40D4-9390-B8E9020C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0B3-1103-41B9-BA4C-333208C4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59B-6F67-43BC-AECE-D445094B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5B7-B971-4FB4-97D4-4D439EAB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586-5AD7-4E7B-A806-3F6EFBDA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4024-0FC5-40A3-A078-22BDD9215B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88BA-CBEC-49DE-A094-7BE2CF5C14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HnHXS51J4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cB1zttZmdY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inforcement and Avoidance The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is reinforcing if organism has been deprived of performing that behavior, below some baseline lev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(like which other theory?) sees reinforcer as a behavior/respo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inforcer response does NOT have to be more likely than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ism just has to be restricted from performing the reinforcer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explains how a low probability response can reinforce a high probability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more important to motivation of instrumental bx. than Premack princi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gative reinforcement shuttle box experi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goes off, animal gets shock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s out as escape, progresses to avoid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how can the absence of something provide reinforcement for instrumental bx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How can not getting something be reinforcing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subjects get that provides reinforcement for the avoidance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types of learning involved: Operant and Pavlov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nt learning is escaping the shock, which is negatively reinfor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ght going off becomes a CS associated with US of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light is a CS for f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really an escape from classically conditioned CS for fear (escape from dark compart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both processes really involve escape, which reduces shock and fear, and is negatively reinfor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al response is reinforced by a tangible event (fear reduction) rather than by absence of something (aversive stimula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time, the fear to the CS decreases, so why does avoidance contin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incredibly persistent; this is not predicted by 2 process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ance only involves operant lear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cape and avoidance both reduce aversive stimulation (shock frequenc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’s not escape from fear that causes avoidance bx, it’s reducing exposure to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response and aversive consequence is prevented, the response will ex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inforcement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reinforcers strengthen behavio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sms behave because of drives (motivational states or physiological need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imul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reduces a drive; this moves the organism closer to homeosta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orks well for primary reinforc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LHnHXS51J4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ust watch 1.00 to 2.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reinforcers do not reduce physiologic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ll’s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(secondary) reinforcers are reinforcing b/c of their association with primary reinforc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 analysi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well accepted b/c too many reinforcers don’t reduce drives or derive reinforcement from association with primary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behavi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esponse) that an organism is highly likely to per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strumental response is typically a low probability ac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t is much less likely to press a bar than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emack Princi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ny 2 responses, the more probable response will reinforce the less probable on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probability bx reinforces low probability b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relative values of different bxs determine their reinforcing prope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 activity can serve as a reinforcer if it is more likely than the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make low probability bxs high probability bxs and therefore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OcB1zttZm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asurement of response prob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w probability response can be used to reinforce a high probability response (if p is prevented from performing low probability bx for a wh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19-03-05T15:57:38Z</dcterms:modified>
  <cp:revision>47</cp:revision>
  <dc:subject/>
  <dc:title>Sensorimotor System</dc:title>
</cp:coreProperties>
</file>