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437-CDD0-4223-BC29-29EC7D1B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23E-514B-450E-A846-5C54898A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E59-CA2C-41A6-81EA-DA80DB63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5D5-7853-4EA8-9E58-CB6E638F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6205-5F32-4EE3-915C-2690E988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346E-78CA-4D4E-BD6A-C50418FC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F54B-016D-40CB-B54A-3D85B686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A289-8AA6-4200-B32E-255E604F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8308-C7F4-4798-843B-64835C6F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FFE3-72F6-4322-AC6C-9D35457F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5034-E0FE-49F6-86E2-71A0F147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4AC-25C5-4845-8B59-BB5FFB46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7633-674B-410F-9B0B-0824D7C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7FE9-3F07-4C5B-A49F-E898FD36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EB09-CFA5-4116-A31D-AD36FDC6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E280-FEA3-4CC5-9FFE-4F8842CA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5E7C-E282-49EC-A76C-322CD9A6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B04-D27A-4CBD-8959-80B5B142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0DF-9C51-4403-902B-A8184AB7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2ED-2AC5-4EDE-850C-1476DC7E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5C3-FDF3-4D90-B8C9-980E78EB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FEC-50CD-45A8-8E8B-E4FFDF0F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919-C8AF-4166-8683-FD1C3518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ECC-FEB4-4B09-BC5B-11A43196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D8DF-B7E3-4302-B6F7-745E583C52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19CA-C9E8-45C0-98A1-3A72D1187D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HnHXS51J4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cB1zttZmdY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inforcement and Avoidance The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is reinforcing if organism has been deprived of performing that behavior, below some baseline lev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(like which other theory?) sees reinforcer as a behavior/respo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inforcer response does NOT have to be more likely than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ism just has to be restricted from performing the reinforcer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explains how a low probability response can reinforce a high probability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more important to motivation of instrumental bx. than Premack princi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gative reinforcement shuttle box experi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goes off, animal gets shock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s out as escape, progresses to avoid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how can the absence of something provide reinforcement for instrumental bx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How can not getting something be reinforcing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subjects get that provides reinforcement for the avoidance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types of learning involved: Operant and Pavlov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nt learning is escaping the shock, which is negatively reinfor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ght going off becomes a CS associated with US of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light is a CS for f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really an escape from classically conditioned CS for fear (escape from dark compart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both processes really involve escape, which reduces shock and fear, and is negatively reinfor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al response is reinforced by a tangible event (fear reduction) rather than by absence of something (aversive stimula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time, the fear to the CS decreases, so why does avoidance contin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incredibly persistent; this is not predicted by 2 process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ance only involves operant lear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cape and avoidance both reduce aversive stimulation (shock frequenc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’s not escape from fear that causes avoidance bx, it’s reducing exposure to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response and aversive consequence is prevented, the response will ex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inforcement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reinforcers strengthen behavio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sms behave because of drives (motivational states or physiological need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imul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reduces a drive; this moves the organism closer to homeosta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orks well for primary reinforc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LHnHXS51J4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ust watch 1.00 to 2.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reinforcers do not reduce physiologic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ll’s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(secondary) reinforcers are reinforcing b/c of their association with primary reinforc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 analysi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well accepted b/c too many reinforcers don’t reduce drives or derive reinforcement from association with primary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behavi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esponse) that an organism is highly likely to per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strumental response is typically a low probability ac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t is much less likely to press a bar than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emack Princi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ny 2 responses, the more probable response will reinforce the less probable on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probability bx reinforces low probability b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relative values of different bxs determine their reinforcing prope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 activity can serve as a reinforcer if it is more likely than the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make low probability bxs high probability bxs and therefore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OcB1zttZm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asurement of response prob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w probability response can be used to reinforce a high probability response (if p is prevented from performing low probability bx for a wh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19-03-05T15:57:38Z</dcterms:modified>
  <cp:revision>47</cp:revision>
  <dc:subject/>
  <dc:title>Sensorimotor System</dc:title>
</cp:coreProperties>
</file>