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F5C3-0831-4601-B7F2-E75FBE7B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6395-C0C7-413C-8D90-B0E5EF82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D6C6-C296-4CA2-B12C-D01D51E8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59FB-971C-4A84-A00F-21FAB379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7DF4-53F0-4978-8C88-50AB11A9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9B59-92C6-4045-81DD-B6B8EBE8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5C2B-5BD4-4150-BF2B-1A5240CB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FD9A-5842-49C9-9581-E4DD7B36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5583-E9A0-4932-999E-614EA0ED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C98F-7F43-4A89-BDCF-5D0374E9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3C96-EB25-43C4-9F78-2AEE782E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8AB9-D2FF-4455-B679-4FBB7F3D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AF61-D514-4522-B4CF-04305C2EFDFF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Palestrina’s Catholic Contemporarie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A European Tour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8636040" y="4381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Summary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Victoria, </a:t>
            </a:r>
            <a:r>
              <a:rPr b="0" i="1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Missa O Magnum Mysterium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yrie 1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opening theme from motet + new but related ide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rist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Free counterpoi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yrie 2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theme that sets “iacentem” (motet, bar 27) in Cantus + 2nd new idea in Ten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Common Renaissance Mass Type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tus Firmus Mass [common mid 15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C]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ufay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ssa Se la face ay p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rody Mass [common late 15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/16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C]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osquin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ssa Pange ling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itation Mass [common 16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C]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ictoria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ssa O Magnum mysteri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ss [no pre-existing material used]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ckeghem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ssa prolation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_x0008_map.tiff                                                       000B1CC2&#9;Ruckers 3                      BC997BC3:"/>
          <p:cNvPicPr/>
          <p:nvPr/>
        </p:nvPicPr>
        <p:blipFill>
          <a:blip r:embed="rId1"/>
          <a:stretch/>
        </p:blipFill>
        <p:spPr>
          <a:xfrm>
            <a:off x="1698480" y="609480"/>
            <a:ext cx="5747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 Light"/>
                <a:ea typeface="ＭＳ Ｐゴシック"/>
              </a:rPr>
              <a:t>Orlande de Lassus (1532-94)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67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nowned late 16th-C compos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orn in modern Belg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smopolitan: traveled widely, knew all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osed all genres: chanson, madrigal, motet, and m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64-94: Chapel master to the Duke of Bav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_x000c_LASSOPOR.JPG                                                   000B1CC2&#9;Ruckers 3                      BC997BC3:"/>
          <p:cNvPicPr/>
          <p:nvPr/>
        </p:nvPicPr>
        <p:blipFill>
          <a:blip r:embed="rId1"/>
          <a:stretch/>
        </p:blipFill>
        <p:spPr>
          <a:xfrm>
            <a:off x="4648320" y="1752480"/>
            <a:ext cx="43354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Content Placeholder 2" descr="F10-08.jpg"/>
          <p:cNvPicPr/>
          <p:nvPr/>
        </p:nvPicPr>
        <p:blipFill>
          <a:blip r:embed="rId1"/>
          <a:srcRect l="-44093" t="0" r="-44093" b="0"/>
          <a:stretch/>
        </p:blipFill>
        <p:spPr>
          <a:xfrm>
            <a:off x="-4368960" y="-3733920"/>
            <a:ext cx="17704080" cy="12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assus, motet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Da pacem domin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”give peace, Lord”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s a short Latin hymn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cases Lassus’s clear, highly refined sty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k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 u="sng">
                <a:solidFill>
                  <a:srgbClr val="000000"/>
                </a:solidFill>
                <a:uFillTx/>
                <a:latin typeface="Calibri Light"/>
              </a:rPr>
              <a:t>Thomas Tallis (ca. 1505–1585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nglish composer and master of polyphon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~30 when the Reformation started in England, so he was well trained in the lush polyphony of the Continental Catholic sty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posed Anglican music as required, but many of his great works are Latin motets with a clear Catholic focu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allis’s monumental 40-part (!!!) motet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Spem in alium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“hope in any other”) (ca. 1570) is the crowning achievement of English Renaissance musi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deo he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A picture containing text, cup&#10;&#10;Description automatically generated"/>
          <p:cNvPicPr/>
          <p:nvPr/>
        </p:nvPicPr>
        <p:blipFill>
          <a:blip r:embed="rId1"/>
          <a:stretch/>
        </p:blipFill>
        <p:spPr>
          <a:xfrm>
            <a:off x="5943600" y="1155600"/>
            <a:ext cx="298944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 u="sng">
                <a:solidFill>
                  <a:srgbClr val="000000"/>
                </a:solidFill>
                <a:uFillTx/>
                <a:latin typeface="Calibri Light"/>
              </a:rPr>
              <a:t>William Byrd (1540–1623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erhaps the greatest English composer of the Renaissance (although his friend and teacher Thomas Tallis (1505–1585) has an argument!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orn during the early Reformation… never renounced the Catholic faith..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is marriage to Juliana Birley (an ardent Catholic) solidified his fait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oirmaster at Lincoln Cathedral 1563–157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cruited and trained choristers, served as organist, directed the choirs, and composed music for worshi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Gentleman of the Chapel Royal 1572–ca. 1594*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erformed as organist and singer; composing not an official duty, but he did provide some works for Anglican worshi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is recusancy was known, and his personal troubles varied over time (increasing in the 1590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e favor of Queen Elizabeth I was a major factor in Byrd’s continued care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mposed Latin motets and even Mass Ordinary setting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easier to do so after James I ascended the throne in 1603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yrd, </a:t>
            </a:r>
            <a:r>
              <a:rPr b="0" i="1" lang="en-US" sz="3300" spc="-1" strike="noStrike">
                <a:solidFill>
                  <a:srgbClr val="000000"/>
                </a:solidFill>
                <a:latin typeface="Calibri Light"/>
              </a:rPr>
              <a:t>Ave verum corpus 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(1605 collection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tting of a Eucharist hymn (”hail, true body”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ossibly composed earlier, but the selection of text shows Jesuit sympath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suit missionaries were being executed in England during Elizabeth’s reign; any connection to them would have been very radical (and secret!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hows a connection to Continental compositional practi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magnificent counterpoint recalls Palestrina, Lassus, and Victo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deo link he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Renewed National Style Divisions in late 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 Light"/>
                <a:ea typeface="ＭＳ Ｐゴシック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aly [Palestrina]: influenced by the Counter-Reform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rmany [Lasso]: influenced by Humanist idea that music should express the tex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ain [Victoria]: somewhere in the midd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gland [Tallis]: mastered the complex pre-Reformation Catholic style but simplified his style when needed (e.g., his Anglican work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gland [Byrd]: complicated! (other English composers were more “divorced” from Continental trend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 a Catholic, Byrd cherished the traditions of Latin polyphonic composi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 a pragmatist, he adopted the Anglican style when needed to produce works (services, anthems, etc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ver stopped composing Latin motets (famous published collections of 1589 and 1591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cretly supplied music for clandestine Catholic worship, including full Mass Ordinary settings and Propers (particularly those cherished by the Jesuits…) (the </a:t>
            </a:r>
            <a:r>
              <a:rPr b="0" i="1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radualia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 Light"/>
                <a:ea typeface="ＭＳ Ｐゴシック"/>
              </a:rPr>
              <a:t>Palestrina’s Contemporaries: Spain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anish composers influenced by Palestrina’s sty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lects connections between Spain and Ita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y Spanish composers study in Italy, model works on Franco-Flemish sty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Tomás Luis de Victoria (1548-1611)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udied in Rome, perhaps with Palestrin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71-77: Jesuit College in Rom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78 Returned to work in the chapel of the Empress of Spai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Victoria’s styl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bines Italian and Spanish qualit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lestrina’s careful approach to setting tex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w mass form: imitation m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22096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NAWM: Victoria, motet: </a:t>
            </a:r>
            <a:r>
              <a:rPr b="0" i="1" lang="en-US" sz="32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O magnum mysterium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Content Placeholder 3" descr="Victoria O magnum I.jpg"/>
          <p:cNvPicPr/>
          <p:nvPr/>
        </p:nvPicPr>
        <p:blipFill>
          <a:blip r:embed="rId1"/>
          <a:srcRect l="-27577" t="0" r="-27577" b="0"/>
          <a:stretch/>
        </p:blipFill>
        <p:spPr>
          <a:xfrm>
            <a:off x="363600" y="380880"/>
            <a:ext cx="10499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Summary: Victoria, </a:t>
            </a:r>
            <a:r>
              <a:rPr b="0" i="1" lang="en-US" sz="32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O magnum mysterium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4479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lestrinian qualit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rgely syllabic, but with some melis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e idea in text = one musical id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e imitation, but lots of homopho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+ Text Expression [typical types]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romaticism: Soprano line in D minor answered by Altos w/ Eb [“mystery”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 beata” (bar 39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sudden homopho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eluia”: triple meter + plagal ca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Imitation Mass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Victoria, </a:t>
            </a:r>
            <a:r>
              <a:rPr b="0" i="1" lang="en-US" sz="36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Missa O Magnum Mysterium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itation mass: develops themes/sections from another polyphonic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on 16th C technique for composing ma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685800" y="41148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deo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_x001d_Victoria O magnum line 1.tiff                                  00A8776B&#9;Ruckers 3                      BC9997E3:"/>
          <p:cNvPicPr/>
          <p:nvPr/>
        </p:nvPicPr>
        <p:blipFill>
          <a:blip r:embed="rId1"/>
          <a:stretch/>
        </p:blipFill>
        <p:spPr>
          <a:xfrm>
            <a:off x="2209680" y="0"/>
            <a:ext cx="6629400" cy="200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_x001a_Victoria Missa O mag 1.jpg                                     00A8776B&#9;Ruckers 3                      BC9997E3:"/>
          <p:cNvPicPr/>
          <p:nvPr/>
        </p:nvPicPr>
        <p:blipFill>
          <a:blip r:embed="rId2"/>
          <a:stretch/>
        </p:blipFill>
        <p:spPr>
          <a:xfrm>
            <a:off x="1368360" y="4321080"/>
            <a:ext cx="7775640" cy="25369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289080" y="334800"/>
            <a:ext cx="1844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Mot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AWM: Victoria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 Magnum Myste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040" y="3809880"/>
            <a:ext cx="1269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M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AWM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ictori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ssa 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gn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yste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3276720" y="5029200"/>
            <a:ext cx="2666880" cy="3808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257800" y="609480"/>
            <a:ext cx="3200400" cy="3812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4419720" y="0"/>
            <a:ext cx="2743200" cy="533520"/>
          </a:xfrm>
          <a:prstGeom prst="rect">
            <a:avLst/>
          </a:prstGeom>
          <a:noFill/>
          <a:ln w="22320">
            <a:solidFill>
              <a:srgbClr val="ff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2514600" y="4419720"/>
            <a:ext cx="2514600" cy="380880"/>
          </a:xfrm>
          <a:prstGeom prst="rect">
            <a:avLst/>
          </a:prstGeom>
          <a:noFill/>
          <a:ln w="22320">
            <a:solidFill>
              <a:srgbClr val="056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2518560" y="4114800"/>
            <a:ext cx="24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563c1"/>
                </a:solidFill>
                <a:latin typeface="Times New Roman"/>
                <a:ea typeface="ＭＳ Ｐゴシック"/>
              </a:rPr>
              <a:t>New contrapuntal partn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17"/>
          <p:cNvSpPr/>
          <p:nvPr/>
        </p:nvSpPr>
        <p:spPr>
          <a:xfrm flipV="1">
            <a:off x="5638680" y="990720"/>
            <a:ext cx="2286000" cy="4038480"/>
          </a:xfrm>
          <a:prstGeom prst="line">
            <a:avLst/>
          </a:prstGeom>
          <a:ln w="22320">
            <a:solidFill>
              <a:srgbClr val="ff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3355200" y="5486400"/>
            <a:ext cx="266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Imitation: Borrowed melo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3738600" y="19810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Original context: 2 imitative ent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1452960" y="2438280"/>
            <a:ext cx="46900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ss “imitates” mote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orrows contrapuntal su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mitation mas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_x0017_Victoria O magnum 3.jpg                                        00A8776B&#9;Ruckers 3                      BC9997E3:"/>
          <p:cNvPicPr/>
          <p:nvPr/>
        </p:nvPicPr>
        <p:blipFill>
          <a:blip r:embed="rId1"/>
          <a:stretch/>
        </p:blipFill>
        <p:spPr>
          <a:xfrm>
            <a:off x="2438280" y="0"/>
            <a:ext cx="6324840" cy="2293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&#10;staff.tiff                                                     00A8776B&#9;Ruckers 3                      BC9997E3:"/>
          <p:cNvPicPr/>
          <p:nvPr/>
        </p:nvPicPr>
        <p:blipFill>
          <a:blip r:embed="rId2"/>
          <a:stretch/>
        </p:blipFill>
        <p:spPr>
          <a:xfrm>
            <a:off x="2895480" y="2286000"/>
            <a:ext cx="436680" cy="251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_x0018_Victoria Missa K2 1.tiff                                       00A8776B&#9;Ruckers 3                      BC9997E3:"/>
          <p:cNvPicPr/>
          <p:nvPr/>
        </p:nvPicPr>
        <p:blipFill>
          <a:blip r:embed="rId3"/>
          <a:stretch/>
        </p:blipFill>
        <p:spPr>
          <a:xfrm>
            <a:off x="3352680" y="2351160"/>
            <a:ext cx="2743200" cy="2368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_x001e_Victoria Missa O mag K2 2.tiff                                 00A8776B&#9;Ruckers 3                      BC9997E3:"/>
          <p:cNvPicPr/>
          <p:nvPr/>
        </p:nvPicPr>
        <p:blipFill>
          <a:blip r:embed="rId4"/>
          <a:stretch/>
        </p:blipFill>
        <p:spPr>
          <a:xfrm>
            <a:off x="2502000" y="4538520"/>
            <a:ext cx="6642000" cy="2319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209160" y="30240"/>
            <a:ext cx="236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ictoria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 Mag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r 26-7: “iacentem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380160" y="2666880"/>
            <a:ext cx="199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ictoria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ssa 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g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Kyrie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4038480" y="2362320"/>
            <a:ext cx="2057400" cy="5331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6553080" y="1752480"/>
            <a:ext cx="1676520" cy="5335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14"/>
          <p:cNvSpPr/>
          <p:nvPr/>
        </p:nvSpPr>
        <p:spPr>
          <a:xfrm flipV="1">
            <a:off x="6095880" y="2286000"/>
            <a:ext cx="457200" cy="76320"/>
          </a:xfrm>
          <a:prstGeom prst="line">
            <a:avLst/>
          </a:prstGeom>
          <a:ln w="22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6460920" y="249084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[rhythm altered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3:24:24Z</dcterms:created>
  <dc:creator>Don Fader</dc:creator>
  <dc:description/>
  <dc:language>en-US</dc:language>
  <cp:lastModifiedBy>Jones, Tyler T</cp:lastModifiedBy>
  <dcterms:modified xsi:type="dcterms:W3CDTF">2022-10-18T23:47:11Z</dcterms:modified>
  <cp:revision>108</cp:revision>
  <dc:subject/>
  <dc:title>Musical Humanism in the Renaissance</dc:title>
</cp:coreProperties>
</file>