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235-E858-453F-B392-50C9AA37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1AE-EAA3-4FA6-B3E8-8C0FE964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E08-6E1D-4E7D-90C1-8A98F233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70F-CC36-421C-AE4E-A436C98E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C9B-85AF-4484-BC1D-CC87DC9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8AD-13E5-4857-8AD3-654FFE1E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816-BBE8-43CF-BD2E-6F74CFB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1B2-2972-4530-9A0F-1C527140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785-355D-4AD5-BA7D-B6EE4122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EE0-1B6F-4F91-8886-40C6F785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9E4-5470-4E31-A31E-6B94260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3DF-1063-4BEB-A13A-DA44684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101-6CF8-487E-8F2D-8D5907E7A6B4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Palestrina’s Catholic Contemporari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A European Tou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636040" y="438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1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opening theme from motet + new but related id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ist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Free counterpo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theme that sets “iacentem” (motet, bar 27) in Cantus + 2nd new idea in Ten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Common Renaissance Mass Typ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tus Firmus Mass [common mid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fay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Se la face ay p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ody Mass [common late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squi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ange lin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 [common 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ctoria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O Magnum myster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s [no pre-existing material used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ckeghem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rolation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_x0008_map.tiff    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1698480" y="609480"/>
            <a:ext cx="574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Orlande de Lassus (1532-94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nowned late 16th-C compo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rn in modern Belg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mopolitan: traveled widely, knew all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sed all genres: chanson, madrigal, motet, and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64-94: Chapel master to the Duke of Bav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_x000c_LASSOPOR.JPG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4648320" y="1752480"/>
            <a:ext cx="4335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F10-08.jpg"/>
          <p:cNvPicPr/>
          <p:nvPr/>
        </p:nvPicPr>
        <p:blipFill>
          <a:blip r:embed="rId1"/>
          <a:srcRect l="-44093" t="0" r="-44093" b="0"/>
          <a:stretch/>
        </p:blipFill>
        <p:spPr>
          <a:xfrm>
            <a:off x="-4368960" y="-3733920"/>
            <a:ext cx="17704080" cy="12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sus,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 pacem domin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”give peace, Lord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s a short Latin hymn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cases Lassus’s clear, highly refined 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Thomas Tallis (ca. 1505–1585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glish composer and master of polypho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~30 when the Reformation started in England, so he was well trained in the lush polyphony of the Continental Catholic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sed Anglican music as required, but many of his great works are Latin motets with a clear Catholic focu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allis’s monumental 40-part (!!!)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pem in alium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“hope in any other”) (ca. 1570) is the crowning achievement of English Renaissance mus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A picture containing text, cup&#10;&#10;Description automatically generated"/>
          <p:cNvPicPr/>
          <p:nvPr/>
        </p:nvPicPr>
        <p:blipFill>
          <a:blip r:embed="rId1"/>
          <a:stretch/>
        </p:blipFill>
        <p:spPr>
          <a:xfrm>
            <a:off x="5943600" y="1155600"/>
            <a:ext cx="29894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illiam Byrd (1540–1623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haps the greatest English composer of the Renaissance (although his friend and teacher Thomas Tallis (1505–1585) has an argument!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rn during the early Reformation… never renounced the Catholic faith..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marriage to Juliana Birley (an ardent Catholic) solidified his fait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irmaster at Lincoln Cathedral 1563–15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ruited and trained choristers, served as organist, directed the choirs, and composed music for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ntleman of the Chapel Royal 1572–ca. 1594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erformed as organist and singer; composing not an official duty, but he did provide some works for Anglican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recusancy was known, and his personal troubles varied over time (increasing in the 1590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favor of Queen Elizabeth I was a major factor in Byrd’s continued care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osed Latin motets and even Mass Ordinary sett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asier to do so after James I ascended the throne in 1603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yrd, </a:t>
            </a:r>
            <a:r>
              <a:rPr b="0" i="1" lang="en-US" sz="3300" spc="-1" strike="noStrike">
                <a:solidFill>
                  <a:srgbClr val="000000"/>
                </a:solidFill>
                <a:latin typeface="Calibri Light"/>
              </a:rPr>
              <a:t>Ave verum corpus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(1605 collection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tting of a Eucharist hymn (”hail, true body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y composed earlier, but the selection of text shows Jesuit sympath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suit missionaries were being executed in England during Elizabeth’s reign; any connection to them would have been very radical (and secret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hows a connection to Continental compositional pract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gnificent counterpoint recalls Palestrina, Lassus, and Vic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link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Renewed National Style Divisions in lat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ＭＳ Ｐゴシック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aly [Palestrina]: influenced by the Counter-Re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 [Lasso]: influenced by Humanist idea that music should express the tex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in [Victoria]: somewhere in the midd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Tallis]: mastered the complex pre-Reformation Catholic style but simplified his style when needed (e.g., his Anglican work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Byrd]: complicated! (other English composers were more “divorced” from Continental trend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Catholic, Byrd cherished the traditions of Latin polyphonic composi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pragmatist, he adopted the Anglican style when needed to produce works (services, anthems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ver stopped composing Latin motets (famous published collections of 1589 and 159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retly supplied music for clandestine Catholic worship, including full Mass Ordinary settings and Propers (particularly those cherished by the Jesuits…) (the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duali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Palestrina’s Contemporaries: Sp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nish composers influenced by Palestrina’s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lects connections between Spain and Ita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Spanish composers study in Italy, model works on Franco-Flemish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Tomás Luis de Victoria (1548-1611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ied in Rome, perhaps with Palestri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1-77: Jesuit College in R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8 Returned to work in the chapel of the Empress of S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’s sty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bines Italian and Spanish quali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a’s careful approach to setting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mass form: imitation m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22096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NAWM: Victoria, motet: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Content Placeholder 3" descr="Victoria O magnum I.jpg"/>
          <p:cNvPicPr/>
          <p:nvPr/>
        </p:nvPicPr>
        <p:blipFill>
          <a:blip r:embed="rId1"/>
          <a:srcRect l="-27577" t="0" r="-27577" b="0"/>
          <a:stretch/>
        </p:blipFill>
        <p:spPr>
          <a:xfrm>
            <a:off x="363600" y="380880"/>
            <a:ext cx="1049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Victoria,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ian qual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rgely syllabic, but with some melis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idea in text = one musical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imitation, but lots of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Text Expression [typical types]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aticism: Soprano line in D minor answered by Altos w/ Eb [“mystery”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 beata” (bar 39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udden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eluia”: triple meter + plagal ca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Imitation Mas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: develops themes/sections from another polyphonic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16th C technique for composing m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685800" y="4114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_x001d_Victoria O magnum line 1.tiff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209680" y="0"/>
            <a:ext cx="66294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_x001a_Victoria Missa O mag 1.jpg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1368360" y="4321080"/>
            <a:ext cx="7775640" cy="2536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289080" y="334800"/>
            <a:ext cx="184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ot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 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040" y="3809880"/>
            <a:ext cx="126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276720" y="5029200"/>
            <a:ext cx="2666880" cy="3808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257800" y="609480"/>
            <a:ext cx="3200400" cy="3812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419720" y="0"/>
            <a:ext cx="2743200" cy="533520"/>
          </a:xfrm>
          <a:prstGeom prst="rect">
            <a:avLst/>
          </a:prstGeom>
          <a:noFill/>
          <a:ln w="22320">
            <a:solidFill>
              <a:srgbClr val="ff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2514600" y="4419720"/>
            <a:ext cx="2514600" cy="380880"/>
          </a:xfrm>
          <a:prstGeom prst="rect">
            <a:avLst/>
          </a:prstGeom>
          <a:noFill/>
          <a:ln w="2232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518560" y="411480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63c1"/>
                </a:solidFill>
                <a:latin typeface="Times New Roman"/>
                <a:ea typeface="ＭＳ Ｐゴシック"/>
              </a:rPr>
              <a:t>New contrapuntal part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5638680" y="990720"/>
            <a:ext cx="2286000" cy="4038480"/>
          </a:xfrm>
          <a:prstGeom prst="line">
            <a:avLst/>
          </a:prstGeom>
          <a:ln w="223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355200" y="548640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mitation: Borrowed melo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738600" y="19810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riginal context: 2 imitative e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1452960" y="2438280"/>
            <a:ext cx="4690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ss “imitates” mot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rrows contrapuntal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itation m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_x0017_Victoria O magnum 3.jpg      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438280" y="0"/>
            <a:ext cx="6324840" cy="229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&#10;staff.tiff                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2895480" y="2286000"/>
            <a:ext cx="43668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_x0018_Victoria Missa K2 1.tiff                                       00A8776B&#9;Ruckers 3                      BC9997E3:"/>
          <p:cNvPicPr/>
          <p:nvPr/>
        </p:nvPicPr>
        <p:blipFill>
          <a:blip r:embed="rId3"/>
          <a:stretch/>
        </p:blipFill>
        <p:spPr>
          <a:xfrm>
            <a:off x="3352680" y="2351160"/>
            <a:ext cx="2743200" cy="23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_x001e_Victoria Missa O mag K2 2.tiff                                 00A8776B&#9;Ruckers 3                      BC9997E3:"/>
          <p:cNvPicPr/>
          <p:nvPr/>
        </p:nvPicPr>
        <p:blipFill>
          <a:blip r:embed="rId4"/>
          <a:stretch/>
        </p:blipFill>
        <p:spPr>
          <a:xfrm>
            <a:off x="2502000" y="4538520"/>
            <a:ext cx="6642000" cy="23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09160" y="30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r 26-7: “iacent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80160" y="266688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Kyri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038480" y="2362320"/>
            <a:ext cx="2057400" cy="53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553080" y="1752480"/>
            <a:ext cx="167652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 flipV="1">
            <a:off x="6095880" y="2286000"/>
            <a:ext cx="457200" cy="7632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460920" y="24908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rhythm altered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24:24Z</dcterms:created>
  <dc:creator>Don Fader</dc:creator>
  <dc:description/>
  <dc:language>en-US</dc:language>
  <cp:lastModifiedBy>Jones, Tyler T</cp:lastModifiedBy>
  <dcterms:modified xsi:type="dcterms:W3CDTF">2022-10-18T23:47:11Z</dcterms:modified>
  <cp:revision>108</cp:revision>
  <dc:subject/>
  <dc:title>Musical Humanism in the Renaissance</dc:title>
</cp:coreProperties>
</file>