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AF3-B136-4F22-9523-FE7AB754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118-7B5C-4F70-838E-2407D30F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360-89C7-4A25-A757-A15F894E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80F-E817-4A37-8D09-30C1F7F7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8C1-02A6-46CD-919A-D40796BF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9309-E59E-48A9-94C0-7F133D87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831A-C593-4A64-A5F4-5DCA91E6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A945-E215-4A0D-9527-35DDFD23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0570-6CDF-4A65-A6A7-7A7C65F8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841C-ACE4-4020-A60E-3F2667E8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0D1E-FC21-4CF2-A37B-C7233ED3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61F-955D-496F-AB78-04A5267D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77F1-656A-414E-93F5-2202784C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CEDD-9970-4842-A1D2-770C798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6CE6-0810-44BA-A2D5-A3DD0F15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3A49-A3D2-474F-BFF0-80E4910F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8626-C028-47E1-B53F-B87C5FDF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A6B-F143-4B72-B7D7-12A181E7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E11-12A8-4C93-B5DC-246DE945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A1C-C403-4967-84E8-0984ADB7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AFF-7DC2-4A43-AED6-F47C246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DC5-323C-4BD3-8F22-3EEF93DC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C7D-CC37-4A7F-AB72-A7E4D30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21B-758C-4DA9-9ECB-7952AB63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333E-5FA0-411A-BF3F-FC9083A06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5519-9404-4DC2-852B-86CD11DD241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0ucxOrPQ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MttQHMjbJo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wDL-IMbPS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i2rlymfLb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cal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gher Order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 a neutral stimulus with an established 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vlov paired a black square with a metronome that was a CS for CR of salivation, now black square =&gt; sal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US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→ C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ample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ats study p. 63 on emotion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Donalds golden ar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-381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1448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222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en has conditioning occurred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R happens after CS, but befor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est trials (or probe tri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in a while, give CS but don’t give US and see if CR occ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 of 10 test trials, how many times did CR occur?  Can measure this as training goes on.  The frequency of the CR should incr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seudo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a strong US (e.g. shock) can lead to CR like responses to a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 US sensitizes organism to other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you tell if actual conditioning has occurred or if response is pseudoconditio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to use a control procedure (random or explicitly unpaired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CR after presentation of CS alone.  Higher percentage after CC than pseudocond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7010280" y="444600"/>
            <a:ext cx="170820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ys to pair CS and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ed conditioning (short or lo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e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taneous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ward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results in best lea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iff. Class. Cond. Procedures Chart.jpg"/>
          <p:cNvPicPr/>
          <p:nvPr/>
        </p:nvPicPr>
        <p:blipFill>
          <a:blip r:embed="rId1"/>
          <a:stretch/>
        </p:blipFill>
        <p:spPr>
          <a:xfrm>
            <a:off x="1219320" y="0"/>
            <a:ext cx="653544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-US Contin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unt of learning depends on how reliable CS predicts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-US Contigu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  value can depend on procedure and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imuli are better CSs tha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 stimuli (2 or more stimuli presented simultaneous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shad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timulus overshadows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a strong or intense stimulus is an effective C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US; CR to C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 CR to C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stimuli are not effective C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be light/click of operant 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experience with CS and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nt Inhibition (CS pre-exposure eff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 stimuli are better CSs than stimuli that have been encountered without the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sier to form taste aversion to new food than familiar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ovel stimulus is presented in a compound with an effective CS =&gt; no conditioning to novel sti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S1 &amp; US; CS1/CS2 &amp; US; little lrng to C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ter clicker is established, now say good with click, won’t respond to g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 experience with CS and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 Pre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timulus will become a CS more quickly if it has previously been paired with a stimulus that has since become a C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US; now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→ C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thunder and lightning, lightning strike, now thunder causes f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 other and perfume/cologne, now just smell makes you hap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CS-US pai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a decelerating cur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trial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trials (one CS-US pairing is a tr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-30 seconds is generally a good I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, temperament, stress level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van Pavlov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n Physi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d physiology of di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atory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ic secretion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543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tin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edly present CS without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will decline, maybe even c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is forgetting?  NO! organism learns that CS no longer predicts US; also, can reestablish CR more read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ppearance of CR after extinction and passage of time (second day of ext, if still re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ories of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ov’s Stimulus Substitution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 connection is formed between the CS center  and the US center in the b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R = the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 comes to substitute for US and elicit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CR is different or even opposite 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ories of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ory Response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allows organism to learn a response (CR) that prepares them for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nsatory Response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tion of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xplains cases where CR is opposite of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explain tolerance and overdose to drugs if established CSs are no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corla-Wagner Mod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a limit to amount of conditioning that can occur in the pairing of two stimu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imit depends on characteristics of the CS and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ch successive pairing produces less le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can be stated in a formula that subtracts the amount of learning as of the previous trial from the maximum amount that can occur and multiplying that number by a constant representing the conditionability of the stimuli pai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 formula p. 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theory accounts for several aspects of conditioning and has stimulated much resear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Operant and Pavlovian Learning Compare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ome instances, Pavlovian and operant procedures are so intertwined that it is hard to say where one begins and the other ends.” p. 141 Ch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lab – magazine training is really a type of 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Xt0ucxOrPQ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treat conditioned f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er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atic Desensitization – imagine a weak form of CS while relax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GMttQHMjb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itioned Sup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tion in rate of ongoing behavior due to exposure to an aversive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measure amount of fear with conditioned suppression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 responding/CS responding + pre-CS respo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s from zero (most fear) to .5 (least f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judice/Ha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most likely a C.E.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ats &amp; Staats, 19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is is a result of conditioning, then why isn’t education likely to change t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an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vertis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s pair products with stimuli that reliably elicit positive e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to support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awDL-IMb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sic Ter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– elicits a response without prio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 – automatic response to US without prio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 – originally neutral, after paired with US several times, it elicits a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 – response to CS afte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raphil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can explain strange sexual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vlov’s stud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ck followed by food, shock loses aversive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shoes repeatedly paired with sexual stimulation/arousal =&gt; shoe fetis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sion therapy (pair CS with US that elicits naus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itioned Taste Aver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CTA differ from most other forms of C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requires one pairing of CS and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al between CS and US can be several minutes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Latent Inhibi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for chemothera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itioned Immunosuppre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pair a CS with a drug that decreases immune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also be able to condition boosts in immune system (cond. Immunofacilit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Addi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–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 – response to drug (high, analgesia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 – anything associated with the drug (paraphernalia, people, setting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 – physiological changes that prepare body for drug, e.g. increased sensitivity to 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Addi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an explain tolerance and withdrawal.  H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bsence of drug have withdrawal and strong cravings for the dru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high frequency of relap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sion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inction of conditioned stimuli (can use virtual reality for th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erant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Picture 4" descr="ClassCond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9i2rlymfL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 in mov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y is C.C. import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organisms to predict things in thei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ers a survival ad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organisms to learn what is associated with what and prepare for result (although this doesn’t necessarily require awaren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2 Things to Remember About C.C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e involved is often a reflex or relatively simple response, e.g. salivating, blinking, startl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10-31T21:09:08Z</dcterms:modified>
  <cp:revision>66</cp:revision>
  <dc:subject/>
  <dc:title>How do organisms adapt to change?</dc:title>
</cp:coreProperties>
</file>