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AEB-A0D0-4EDA-8D86-BDA7E0D4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9E4-9EE3-483F-82F7-8A03FB4F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AC6-398E-4F9D-A44C-B3F0EFF8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6AA-F39F-4BAB-8CC6-C768466A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5370-AA70-4B0A-B977-3250B659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9764-B3A6-432F-A5C1-590DCB95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33F0-334B-45A7-BF93-B8CEFF5E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162D-A4A7-48E5-882F-8D98C69E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B407-FE5A-42A5-ABC9-5DDB37CB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9BF3-33DF-4CF4-8306-37927A09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D57C-0E50-4D9F-9A1B-653F1DF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506-FB04-48B3-8204-D2AAB103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DE96-73AC-41D8-9A81-7C872F1D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A35E-F1B7-4D21-BF63-63363134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088B-C603-47D3-948F-BB222136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B346-4EDD-4551-A659-7DED92FC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C799-5BA1-4B42-9CD6-B2123F7E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BE7-545D-4F84-A343-465BD2C7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A33-A8AC-4F9F-A1DC-83312EB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DE4-1240-4F47-AFB4-C6101C41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ACD-7398-45C9-B15F-53567821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B27-E576-4AB0-8BBC-D9164910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7BF-4A32-41EA-A222-0A6B9051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7CD-8882-4851-A333-DBF4410D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A882-CED2-40A8-95E6-F554119D7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769C-8B4B-45FE-BAA9-1111E003D35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0ucxOrPQ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MttQHMjbJo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wDL-IMbPS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i2rlymfLb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cal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gher Order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 a neutral stimulus with an established 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vlov paired a black square with a metronome that was a CS for CR of salivation, now black square =&gt; sal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US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→ C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ample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ats study p. 63 on emotion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Donalds golden ar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-381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1448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222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en has conditioning occurred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R happens after CS, but befor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est trials (or probe tri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in a while, give CS but don’t give US and see if CR occ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 of 10 test trials, how many times did CR occur?  Can measure this as training goes on.  The frequency of the CR should incr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seudo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a strong US (e.g. shock) can lead to CR like responses to a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 US sensitizes organism to other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you tell if actual conditioning has occurred or if response is pseudoconditio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to use a control procedure (random or explicitly unpaired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CR after presentation of CS alone.  Higher percentage after CC than pseudocond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7010280" y="444600"/>
            <a:ext cx="170820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ys to pair CS and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ed conditioning (short or lo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e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taneous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ward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results in best lea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iff. Class. Cond. Procedures Chart.jpg"/>
          <p:cNvPicPr/>
          <p:nvPr/>
        </p:nvPicPr>
        <p:blipFill>
          <a:blip r:embed="rId1"/>
          <a:stretch/>
        </p:blipFill>
        <p:spPr>
          <a:xfrm>
            <a:off x="1219320" y="0"/>
            <a:ext cx="653544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-US Contin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unt of learning depends on how reliable CS predicts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-US Contigu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  value can depend on procedure and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imuli are better CSs tha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 stimuli (2 or more stimuli presented simultaneous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shad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timulus overshadows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a strong or intense stimulus is an effective C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US; CR to C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 CR to C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stimuli are not effective C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be light/click of operant 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experience with CS and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nt Inhibition (CS pre-exposure eff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 stimuli are better CSs than stimuli that have been encountered without the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sier to form taste aversion to new food than familiar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ovel stimulus is presented in a compound with an effective CS =&gt; no conditioning to novel sti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S1 &amp; US; CS1/CS2 &amp; US; little lrng to C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ter clicker is established, now say good with click, won’t respond to g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 experience with CS and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 Pre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timulus will become a CS more quickly if it has previously been paired with a stimulus that has since become a C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US; now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→ C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thunder and lightning, lightning strike, now thunder causes f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 other and perfume/cologne, now just smell makes you hap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CS-US pai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a decelerating cur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trial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trials (one CS-US pairing is a tr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-30 seconds is generally a good I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, temperament, stress level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van Pavlov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n Physi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d physiology of di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atory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ic secretion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543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tin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edly present CS without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will decline, maybe even c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is forgetting?  NO! organism learns that CS no longer predicts US; also, can reestablish CR more read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ppearance of CR after extinction and passage of time (second day of ext, if still re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ories of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ov’s Stimulus Substitution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 connection is formed between the CS center  and the US center in the b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R = the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 comes to substitute for US and elicit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CR is different or even opposite 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ories of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ory Response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allows organism to learn a response (CR) that prepares them for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nsatory Response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tion of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xplains cases where CR is opposite of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explain tolerance and overdose to drugs if established CSs are no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corla-Wagner Mod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a limit to amount of conditioning that can occur in the pairing of two stimu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imit depends on characteristics of the CS and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ch successive pairing produces less le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can be stated in a formula that subtracts the amount of learning as of the previous trial from the maximum amount that can occur and multiplying that number by a constant representing the conditionability of the stimuli pai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 formula p. 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theory accounts for several aspects of conditioning and has stimulated much resear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Operant and Pavlovian Learning Compare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ome instances, Pavlovian and operant procedures are so intertwined that it is hard to say where one begins and the other ends.” p. 141 Ch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lab – magazine training is really a type of 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Xt0ucxOrPQ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treat conditioned f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er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atic Desensitization – imagine a weak form of CS while relax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GMttQHMjb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itioned Sup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tion in rate of ongoing behavior due to exposure to an aversive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measure amount of fear with conditioned suppression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 responding/CS responding + pre-CS respo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s from zero (most fear) to .5 (least f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judice/Ha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most likely a C.E.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ats &amp; Staats, 19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is is a result of conditioning, then why isn’t education likely to change t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an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vertis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s pair products with stimuli that reliably elicit positive e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to support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awDL-IMb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sic Ter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– elicits a response without prio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 – automatic response to US without prio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 – originally neutral, after paired with US several times, it elicits a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 – response to CS afte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raphil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can explain strange sexual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vlov’s stud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ck followed by food, shock loses aversive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shoes repeatedly paired with sexual stimulation/arousal =&gt; shoe fetis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sion therapy (pair CS with US that elicits naus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itioned Taste Aver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CTA differ from most other forms of C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requires one pairing of CS and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al between CS and US can be several minutes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Latent Inhibi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for chemothera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itioned Immunosuppre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pair a CS with a drug that decreases immune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also be able to condition boosts in immune system (cond. Immunofacilit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Addi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–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 – response to drug (high, analgesia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 – anything associated with the drug (paraphernalia, people, setting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 – physiological changes that prepare body for drug, e.g. increased sensitivity to 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Addi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an explain tolerance and withdrawal.  H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bsence of drug have withdrawal and strong cravings for the dru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high frequency of relap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sion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inction of conditioned stimuli (can use virtual reality for th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erant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Picture 4" descr="ClassCond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9i2rlymfL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 in mov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y is C.C. import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organisms to predict things in thei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ers a survival ad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organisms to learn what is associated with what and prepare for result (although this doesn’t necessarily require awaren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2 Things to Remember About C.C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e involved is often a reflex or relatively simple response, e.g. salivating, blinking, startl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10-31T21:09:08Z</dcterms:modified>
  <cp:revision>66</cp:revision>
  <dc:subject/>
  <dc:title>How do organisms adapt to change?</dc:title>
</cp:coreProperties>
</file>