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213E-6FE8-4858-9FD0-0B3BD6C05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80B-C0B7-4CA9-AD9F-260E1C0D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390-E1C9-4E23-9784-CE689E5B8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6853-7BC6-4F4C-8F70-C35DEEEB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71C9-01FE-45E8-AE3A-9973AA90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8195-6D2B-4CCB-B327-0723C6318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4D5-635D-4FD4-A3A7-19FA0346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E5E-5252-40BA-B02B-C8284B43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CB0-D956-4A0A-9883-048BFBB2F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0657-6C5A-4FE3-9E84-4AB290965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E095-2A5C-42B8-ADF3-0EAEA9C5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79BD-EBB4-4835-9B02-4873341F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8DC-1AD4-4DDB-8FAB-C897D9D8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C51-FEC5-4C2B-AD70-2C8C48D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9A9-C4DC-4B30-8C1C-EE4F2FFD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F2B3-F718-4F3E-8902-F57A72C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7A7-379A-4136-B4E2-2DA0A0A8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BCD5-B140-4A6B-8E81-C902795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72C-E6AC-43AB-8117-345CEF01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F425-2547-4077-97B3-08DB555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66C-DA9C-4BFC-8654-8215D40D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5C7-C3E8-4612-A457-F06134F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8D78-C2D1-4A6F-AC65-C915C59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3DE-2FA4-4AC3-889A-69A16E34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E8E-8508-4963-9FFF-768211F1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0A28-2024-41D6-BD85-09EA07EFB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ins of the Sectional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0-18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mot Prov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C. Calh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sovereign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Soil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00000a3"/>
          <p:cNvPicPr/>
          <p:nvPr/>
        </p:nvPicPr>
        <p:blipFill>
          <a:blip r:embed="rId1"/>
          <a:stretch/>
        </p:blipFill>
        <p:spPr>
          <a:xfrm>
            <a:off x="4572000" y="1752480"/>
            <a:ext cx="3763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ute and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e of 1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fornia admitted as a fre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border dispute with New Mexico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xico and Utah territories organized under popular sovereig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lish slave trade i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gitive Slav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705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00000089"/>
          <p:cNvPicPr/>
          <p:nvPr/>
        </p:nvPicPr>
        <p:blipFill>
          <a:blip r:embed="rId1"/>
          <a:stretch/>
        </p:blipFill>
        <p:spPr>
          <a:xfrm>
            <a:off x="1066680" y="2338560"/>
            <a:ext cx="78487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fest Dest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u17_05"/>
          <p:cNvPicPr/>
          <p:nvPr/>
        </p:nvPicPr>
        <p:blipFill>
          <a:blip r:embed="rId1"/>
          <a:stretch/>
        </p:blipFill>
        <p:spPr>
          <a:xfrm>
            <a:off x="1828800" y="1905120"/>
            <a:ext cx="58672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ding 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ri24362_m1301"/>
          <p:cNvPicPr/>
          <p:nvPr/>
        </p:nvPicPr>
        <p:blipFill>
          <a:blip r:embed="rId1"/>
          <a:stretch/>
        </p:blipFill>
        <p:spPr>
          <a:xfrm>
            <a:off x="990720" y="1295280"/>
            <a:ext cx="717840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ansionist polit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K. Po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0000098"/>
          <p:cNvPicPr/>
          <p:nvPr/>
        </p:nvPicPr>
        <p:blipFill>
          <a:blip r:embed="rId1"/>
          <a:stretch/>
        </p:blipFill>
        <p:spPr>
          <a:xfrm>
            <a:off x="4191120" y="1676520"/>
            <a:ext cx="3330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OREGON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xican War (1846-4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u17_18"/>
          <p:cNvPicPr/>
          <p:nvPr/>
        </p:nvPicPr>
        <p:blipFill>
          <a:blip r:embed="rId1"/>
          <a:stretch/>
        </p:blipFill>
        <p:spPr>
          <a:xfrm>
            <a:off x="1600200" y="175248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1625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7:31:25Z</dcterms:created>
  <dc:creator>evo136</dc:creator>
  <dc:description/>
  <dc:language>en-US</dc:language>
  <cp:lastModifiedBy>Victoria</cp:lastModifiedBy>
  <dcterms:modified xsi:type="dcterms:W3CDTF">2012-09-25T22:42:23Z</dcterms:modified>
  <cp:revision>12</cp:revision>
  <dc:subject/>
  <dc:title>Origins of the Sectional Conflict</dc:title>
</cp:coreProperties>
</file>