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8DFD-11D9-40AE-9A0A-916FA769F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C493-A992-4ACF-A639-253743179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0D42-89DF-428A-A21A-0218DEC90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8C2D-025C-40E0-9B13-F428450BC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3962-1D5C-484E-91EA-B64D351D6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A72D-71AD-4D8C-9E83-077879956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910D-D1B9-4B98-B39F-9C4A1E226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6D70-8348-453D-875A-993D8077C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EA24-5C01-4133-BA75-CE336B4D9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6842-FAF6-4FEF-AF96-BE0158EE1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F0D5-9D3C-4C31-AA9E-F1F7954AD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7517-548F-48F8-8705-227480D9D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8199-D01F-4FCE-B1B8-0387D150B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5869-7573-42C4-B790-30DD51EC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926C-09F6-45A7-81D3-5FA201B2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83E-DA8F-4EB2-B4C9-E1F54B3B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7F15-72DD-49D3-8840-2B64E91B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4C2-5905-4F8B-B252-A7AA0961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9C3-7E90-4D51-9D6E-6264EC23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30FF-ADD9-41AA-A6C6-F307B8FD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E61-F0D1-41CF-8912-9C2B97A0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01C-2665-4F54-A320-EC73DB9E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D9D5-9EA0-4FD1-8C0D-2B288C19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206-2403-4F76-BFF7-7A556620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88B-093C-4B6F-8A34-2F575F23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58F3-BCD7-4F3A-A8A7-2C5E89A97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s of the Sectional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0-18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ute and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mot Prov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C. Calho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 sovereign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Soil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000000a3"/>
          <p:cNvPicPr/>
          <p:nvPr/>
        </p:nvPicPr>
        <p:blipFill>
          <a:blip r:embed="rId1"/>
          <a:stretch/>
        </p:blipFill>
        <p:spPr>
          <a:xfrm>
            <a:off x="4572000" y="1752480"/>
            <a:ext cx="3763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ute and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omise of 18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fornia admitted as a fre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as border dispute with New Mexico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exico and Utah territories organized under popular sovereig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lish slave trade in D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gitive Slave La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8580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Sec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ouri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705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Sec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ification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00000089"/>
          <p:cNvPicPr/>
          <p:nvPr/>
        </p:nvPicPr>
        <p:blipFill>
          <a:blip r:embed="rId1"/>
          <a:stretch/>
        </p:blipFill>
        <p:spPr>
          <a:xfrm>
            <a:off x="1066680" y="2338560"/>
            <a:ext cx="784872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fest Dest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u17_05"/>
          <p:cNvPicPr/>
          <p:nvPr/>
        </p:nvPicPr>
        <p:blipFill>
          <a:blip r:embed="rId1"/>
          <a:stretch/>
        </p:blipFill>
        <p:spPr>
          <a:xfrm>
            <a:off x="1828800" y="1905120"/>
            <a:ext cx="58672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ding Sett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ri24362_m1301"/>
          <p:cNvPicPr/>
          <p:nvPr/>
        </p:nvPicPr>
        <p:blipFill>
          <a:blip r:embed="rId1"/>
          <a:stretch/>
        </p:blipFill>
        <p:spPr>
          <a:xfrm>
            <a:off x="990720" y="1295280"/>
            <a:ext cx="71784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sionist politic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K. Po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0000098"/>
          <p:cNvPicPr/>
          <p:nvPr/>
        </p:nvPicPr>
        <p:blipFill>
          <a:blip r:embed="rId1"/>
          <a:stretch/>
        </p:blipFill>
        <p:spPr>
          <a:xfrm>
            <a:off x="4191120" y="1676520"/>
            <a:ext cx="33303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OREGON"/>
          <p:cNvPicPr/>
          <p:nvPr/>
        </p:nvPicPr>
        <p:blipFill>
          <a:blip r:embed="rId1"/>
          <a:stretch/>
        </p:blipFill>
        <p:spPr>
          <a:xfrm>
            <a:off x="762120" y="1295280"/>
            <a:ext cx="784836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exican War (1846-4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u17_18"/>
          <p:cNvPicPr/>
          <p:nvPr/>
        </p:nvPicPr>
        <p:blipFill>
          <a:blip r:embed="rId1"/>
          <a:stretch/>
        </p:blipFill>
        <p:spPr>
          <a:xfrm>
            <a:off x="1600200" y="1752480"/>
            <a:ext cx="548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1625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7:31:25Z</dcterms:created>
  <dc:creator>evo136</dc:creator>
  <dc:description/>
  <dc:language>en-US</dc:language>
  <cp:lastModifiedBy>Victoria</cp:lastModifiedBy>
  <dcterms:modified xsi:type="dcterms:W3CDTF">2012-09-25T22:42:23Z</dcterms:modified>
  <cp:revision>12</cp:revision>
  <dc:subject/>
  <dc:title>Origins of the Sectional Conflict</dc:title>
</cp:coreProperties>
</file>