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FF58-D7D8-47A3-9EC8-03A314F69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EDAE-50B3-494F-B992-17CC8EC35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D881-DCF9-4AF7-BBC5-8510F0642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B56B-E08D-48A6-A1E9-ACE32288B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9795-BFA3-459B-84D2-6A03ABDC1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A5D6-3651-4F2E-85A5-5695231DB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5440-7EC4-45D6-946F-8B49B7292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F580-3D77-4933-80FF-798C5DC41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81D9-B490-4370-B7E0-4B1C44631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7E5F-F1B9-4D36-A195-47EEC71B2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232F-7D73-4466-81AF-53EB62F64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47DB-79C0-45A0-897D-ABA7369DB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8DE1-9B32-4D30-89D0-39DEAD06F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6203-3B03-46A0-BC11-6B0C83C8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915-D6EE-44C9-8281-58FA42E8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A94-7534-4268-9A82-60C4A668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7C7-57CC-4F0A-8FDD-2E941523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671-9984-408A-B6ED-A311273D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FD1-EFC8-4DE9-9912-8AD0476E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5149-E02D-46DC-9F1E-1276BC59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4D2-DF4E-4B58-984A-F763D99B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910-5A97-4235-AB45-61729FA8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E87-C365-4103-BBA8-717080F3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CC0-E9F2-4D89-A027-7C8DD2A1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2AC9-01A9-43E0-9E8F-6F062704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3FFC-DA7A-41BB-ADB3-6DEFE4D31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s of the Sectional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0-18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ute and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mot Prov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C. Calho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 sovereign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Soil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000000a3"/>
          <p:cNvPicPr/>
          <p:nvPr/>
        </p:nvPicPr>
        <p:blipFill>
          <a:blip r:embed="rId1"/>
          <a:stretch/>
        </p:blipFill>
        <p:spPr>
          <a:xfrm>
            <a:off x="4572000" y="1752480"/>
            <a:ext cx="3763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ute and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omise of 18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fornia admitted as a fre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as border dispute with New Mexico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exico and Utah territories organized under popular sovereig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lish slave trade in D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gitive Slave La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8580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Sec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ouri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705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Sec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ification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00000089"/>
          <p:cNvPicPr/>
          <p:nvPr/>
        </p:nvPicPr>
        <p:blipFill>
          <a:blip r:embed="rId1"/>
          <a:stretch/>
        </p:blipFill>
        <p:spPr>
          <a:xfrm>
            <a:off x="1066680" y="2338560"/>
            <a:ext cx="784872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fest Dest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u17_05"/>
          <p:cNvPicPr/>
          <p:nvPr/>
        </p:nvPicPr>
        <p:blipFill>
          <a:blip r:embed="rId1"/>
          <a:stretch/>
        </p:blipFill>
        <p:spPr>
          <a:xfrm>
            <a:off x="1828800" y="1905120"/>
            <a:ext cx="58672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ding Sett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ri24362_m1301"/>
          <p:cNvPicPr/>
          <p:nvPr/>
        </p:nvPicPr>
        <p:blipFill>
          <a:blip r:embed="rId1"/>
          <a:stretch/>
        </p:blipFill>
        <p:spPr>
          <a:xfrm>
            <a:off x="990720" y="1295280"/>
            <a:ext cx="71784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sionist politic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K. Po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0000098"/>
          <p:cNvPicPr/>
          <p:nvPr/>
        </p:nvPicPr>
        <p:blipFill>
          <a:blip r:embed="rId1"/>
          <a:stretch/>
        </p:blipFill>
        <p:spPr>
          <a:xfrm>
            <a:off x="4191120" y="1676520"/>
            <a:ext cx="33303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OREGON"/>
          <p:cNvPicPr/>
          <p:nvPr/>
        </p:nvPicPr>
        <p:blipFill>
          <a:blip r:embed="rId1"/>
          <a:stretch/>
        </p:blipFill>
        <p:spPr>
          <a:xfrm>
            <a:off x="762120" y="1295280"/>
            <a:ext cx="784836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exican War (1846-4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u17_18"/>
          <p:cNvPicPr/>
          <p:nvPr/>
        </p:nvPicPr>
        <p:blipFill>
          <a:blip r:embed="rId1"/>
          <a:stretch/>
        </p:blipFill>
        <p:spPr>
          <a:xfrm>
            <a:off x="1600200" y="1752480"/>
            <a:ext cx="548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1625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7:31:25Z</dcterms:created>
  <dc:creator>evo136</dc:creator>
  <dc:description/>
  <dc:language>en-US</dc:language>
  <cp:lastModifiedBy>Victoria</cp:lastModifiedBy>
  <dcterms:modified xsi:type="dcterms:W3CDTF">2012-09-25T22:42:23Z</dcterms:modified>
  <cp:revision>12</cp:revision>
  <dc:subject/>
  <dc:title>Origins of the Sectional Conflict</dc:title>
</cp:coreProperties>
</file>