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E98F-8780-4F2E-8DAF-DDE833DC7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DA7D-07F9-4412-9192-825AB8191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6DBE-C6A4-403C-8D2C-37CB8119B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7AE9-A4CA-4263-8192-E76857D9E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AC6D-9878-41BD-8720-3450CAA09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0A6D-981A-48F6-86D1-E15325C3C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B058-0CD5-4210-AEC4-AEF91FEF4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9AC7-590E-4B13-8E7B-B09A27BB1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AEB7-AAA5-4D89-B796-AF209BB32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FCFF-7BDC-4E96-9825-921688982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A3D4-9B6C-4605-BEDF-DFD8DB55A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3509-FC0F-4861-A677-995EE5E9F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7A56-EAE6-4491-BFDA-D5323333F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DC2-DA33-434B-B62D-5DB4A90D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4D4D-F30F-47BA-8BD2-37FAAFF7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63F-C95E-4C13-BDE4-CA5E6F4E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9F33-568B-487E-8820-26EEDA87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FD92-734B-417D-BE80-A23A6A11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35E4-709C-48F7-AC24-86C9D07D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145-41C2-4A6E-92E9-D095BA6B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7B3-B931-429A-9CC0-9644E56A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8044-42AF-46DD-A88C-46C24820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0934-2413-4092-8A1E-ECD36699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D53-26E2-4730-B820-67854B82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9F7B-EBF2-439A-9203-4BDC2D0D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8C41-81BC-4519-B850-5AD1744C1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s of the Sectional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0-18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ute and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mot Prov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C. Calho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 sovereign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Soil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000000a3"/>
          <p:cNvPicPr/>
          <p:nvPr/>
        </p:nvPicPr>
        <p:blipFill>
          <a:blip r:embed="rId1"/>
          <a:stretch/>
        </p:blipFill>
        <p:spPr>
          <a:xfrm>
            <a:off x="4572000" y="1752480"/>
            <a:ext cx="3763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ute and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omise of 18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fornia admitted as a fre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as border dispute with New Mexico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exico and Utah territories organized under popular sovereig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lish slave trade in D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gitive Slave La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8580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Sec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ouri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705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Sec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ification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00000089"/>
          <p:cNvPicPr/>
          <p:nvPr/>
        </p:nvPicPr>
        <p:blipFill>
          <a:blip r:embed="rId1"/>
          <a:stretch/>
        </p:blipFill>
        <p:spPr>
          <a:xfrm>
            <a:off x="1066680" y="2338560"/>
            <a:ext cx="784872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fest Dest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u17_05"/>
          <p:cNvPicPr/>
          <p:nvPr/>
        </p:nvPicPr>
        <p:blipFill>
          <a:blip r:embed="rId1"/>
          <a:stretch/>
        </p:blipFill>
        <p:spPr>
          <a:xfrm>
            <a:off x="1828800" y="1905120"/>
            <a:ext cx="58672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ding Sett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ri24362_m1301"/>
          <p:cNvPicPr/>
          <p:nvPr/>
        </p:nvPicPr>
        <p:blipFill>
          <a:blip r:embed="rId1"/>
          <a:stretch/>
        </p:blipFill>
        <p:spPr>
          <a:xfrm>
            <a:off x="990720" y="1295280"/>
            <a:ext cx="71784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sionist politic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K. Po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0000098"/>
          <p:cNvPicPr/>
          <p:nvPr/>
        </p:nvPicPr>
        <p:blipFill>
          <a:blip r:embed="rId1"/>
          <a:stretch/>
        </p:blipFill>
        <p:spPr>
          <a:xfrm>
            <a:off x="4191120" y="1676520"/>
            <a:ext cx="33303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OREGON"/>
          <p:cNvPicPr/>
          <p:nvPr/>
        </p:nvPicPr>
        <p:blipFill>
          <a:blip r:embed="rId1"/>
          <a:stretch/>
        </p:blipFill>
        <p:spPr>
          <a:xfrm>
            <a:off x="762120" y="1295280"/>
            <a:ext cx="784836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exican War (1846-4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u17_18"/>
          <p:cNvPicPr/>
          <p:nvPr/>
        </p:nvPicPr>
        <p:blipFill>
          <a:blip r:embed="rId1"/>
          <a:stretch/>
        </p:blipFill>
        <p:spPr>
          <a:xfrm>
            <a:off x="1600200" y="1752480"/>
            <a:ext cx="548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1625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7:31:25Z</dcterms:created>
  <dc:creator>evo136</dc:creator>
  <dc:description/>
  <dc:language>en-US</dc:language>
  <cp:lastModifiedBy>Victoria</cp:lastModifiedBy>
  <dcterms:modified xsi:type="dcterms:W3CDTF">2012-09-25T22:42:23Z</dcterms:modified>
  <cp:revision>12</cp:revision>
  <dc:subject/>
  <dc:title>Origins of the Sectional Conflict</dc:title>
</cp:coreProperties>
</file>