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DCB-F472-49B3-BD50-9770D715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70F-6178-45A3-A757-2B835D82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EEB-9BAF-425F-BE8F-20A207F6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6AE-9040-483D-8C21-53571873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412-8B81-4C97-AB51-224510BF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C84-E442-49C9-8E4C-718B6E1C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606-D02F-4507-9A2C-FE06842A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C0D-1DB5-4EEF-BA6C-5532CF75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152-0B83-4D77-BAFC-D9F97B54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571-76B0-4A21-B8A7-1EA5013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7F2-D723-4CF9-8857-9BA357B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891-B534-4416-9F26-BE7E18A8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32B7-074B-4660-A4CD-CD722BBECD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sidential vs. Congressional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63-7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gressional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66680" y="939960"/>
            <a:ext cx="73152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dmis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867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mpeach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ure of Off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War Edwin Sta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t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johnsonimpeach"/>
          <p:cNvPicPr/>
          <p:nvPr/>
        </p:nvPicPr>
        <p:blipFill>
          <a:blip r:embed="rId1"/>
          <a:stretch/>
        </p:blipFill>
        <p:spPr>
          <a:xfrm>
            <a:off x="3505320" y="2971800"/>
            <a:ext cx="54100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 of the Civil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happen to the Sou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lee2"/>
          <p:cNvPicPr/>
          <p:nvPr/>
        </p:nvPicPr>
        <p:blipFill>
          <a:blip r:embed="rId1"/>
          <a:stretch/>
        </p:blipFill>
        <p:spPr>
          <a:xfrm>
            <a:off x="1981080" y="3352680"/>
            <a:ext cx="1246320" cy="315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jeffdavis"/>
          <p:cNvPicPr/>
          <p:nvPr/>
        </p:nvPicPr>
        <p:blipFill>
          <a:blip r:embed="rId2"/>
          <a:stretch/>
        </p:blipFill>
        <p:spPr>
          <a:xfrm>
            <a:off x="5029200" y="3429000"/>
            <a:ext cx="2619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unn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s (DuBois dissenter of the “tragic lege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revis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hearsal for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percent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de-Davis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hearsal for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4" descr="fordstheatre"/>
          <p:cNvPicPr/>
          <p:nvPr/>
        </p:nvPicPr>
        <p:blipFill>
          <a:blip r:embed="rId1"/>
          <a:stretch/>
        </p:blipFill>
        <p:spPr>
          <a:xfrm>
            <a:off x="2590920" y="1447920"/>
            <a:ext cx="4348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drew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ice-President from Tennes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lan for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-Confederates resp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cod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Brigadi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sh with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men’s Bureau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sh with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eenth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 all native-born or naturalized persons, as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d rights and protection under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al reduction of states that vio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qualified ex-Confede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ional power to en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gressional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on 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lish existing gover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five military distri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al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-Confede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o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00:15Z</dcterms:created>
  <dc:creator>evo136</dc:creator>
  <dc:description/>
  <dc:language>en-US</dc:language>
  <cp:lastModifiedBy>vott</cp:lastModifiedBy>
  <dcterms:modified xsi:type="dcterms:W3CDTF">2008-11-13T21:57:26Z</dcterms:modified>
  <cp:revision>11</cp:revision>
  <dc:subject/>
  <dc:title>Presidential vs. Congressional Reconstruction</dc:title>
</cp:coreProperties>
</file>