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35F6-A974-4BD8-9042-B49E6896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D6D-DE45-4F30-A04B-E6E4063F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E43-D1BE-4E1A-9274-52FE5BE6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6DB-0DB4-4056-B8EE-D96ADBA5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7AA-88D3-4BB0-84BE-B49CC7C7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A11-E6A7-4397-8575-9CDBC6BA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40E-4382-43AA-9255-1D8B0D00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B15-8122-429A-8A55-C2A8FEE1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7B8-AB57-4638-BE09-8609E9B3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CCA-1547-4291-8660-C5E97B59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A73-68E2-4E72-A849-0D82DF48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AC7-C9FD-4E73-8E04-F9482C6E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9E20-277E-4962-AF36-99606F6C69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esidential vs. Congressional Reconstr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863-7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gressional Pl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066680" y="939960"/>
            <a:ext cx="73152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admis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mend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867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mpeach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ure of Office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y of War Edwin Stan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t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7" descr="johnsonimpeach"/>
          <p:cNvPicPr/>
          <p:nvPr/>
        </p:nvPicPr>
        <p:blipFill>
          <a:blip r:embed="rId1"/>
          <a:stretch/>
        </p:blipFill>
        <p:spPr>
          <a:xfrm>
            <a:off x="3505320" y="2971800"/>
            <a:ext cx="54100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end of the Civil W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s 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ill happen to the Sou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lee2"/>
          <p:cNvPicPr/>
          <p:nvPr/>
        </p:nvPicPr>
        <p:blipFill>
          <a:blip r:embed="rId1"/>
          <a:stretch/>
        </p:blipFill>
        <p:spPr>
          <a:xfrm>
            <a:off x="1981080" y="3352680"/>
            <a:ext cx="1246320" cy="315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jeffdavis"/>
          <p:cNvPicPr/>
          <p:nvPr/>
        </p:nvPicPr>
        <p:blipFill>
          <a:blip r:embed="rId2"/>
          <a:stretch/>
        </p:blipFill>
        <p:spPr>
          <a:xfrm>
            <a:off x="5029200" y="3429000"/>
            <a:ext cx="2619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constr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i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unning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s (DuBois dissenter of the “tragic legen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sion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revision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hearsal for Reconstr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percent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de-Davis B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mend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hearsal for Reconstr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Picture 4" descr="fordstheatre"/>
          <p:cNvPicPr/>
          <p:nvPr/>
        </p:nvPicPr>
        <p:blipFill>
          <a:blip r:embed="rId1"/>
          <a:stretch/>
        </p:blipFill>
        <p:spPr>
          <a:xfrm>
            <a:off x="2590920" y="1447920"/>
            <a:ext cx="4348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drew Johns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ice-President from Tennes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lan for Re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-Confederates resp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cod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ederate Brigadi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ash with Johns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men’s Bureau B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 Rights B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3886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ash with Johns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eenth Amend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d all native-born or naturalized persons, as citiz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aranteed rights and protection under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al reduction of states that vio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qualified ex-Confede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ional power to en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gressional Pl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struction 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lish existing gover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five military distri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al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-Confede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constit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00:15Z</dcterms:created>
  <dc:creator>evo136</dc:creator>
  <dc:description/>
  <dc:language>en-US</dc:language>
  <cp:lastModifiedBy>vott</cp:lastModifiedBy>
  <dcterms:modified xsi:type="dcterms:W3CDTF">2008-11-13T21:57:26Z</dcterms:modified>
  <cp:revision>11</cp:revision>
  <dc:subject/>
  <dc:title>Presidential vs. Congressional Reconstruction</dc:title>
</cp:coreProperties>
</file>