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4DD-F7DC-4D4C-95D7-B85E7E4E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7D8-35F0-4717-A760-1A0AAEC3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6D0-DA67-4597-91AA-ECF4C1B3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69D-FC4A-47FE-ADAB-620F918F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8BE-2B1D-40A4-9D18-196759E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75D-FA4D-4ABE-B146-6869412D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F05-63A5-4C96-B9EC-7CFFFFD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BB9-797E-47B2-B628-A837170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B0E-5368-43CF-BB4C-F4502DC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A92-AC92-4611-B06C-C9495F8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C71-2457-4EBD-81DF-8DD5278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594-3AEE-4821-AE3D-60AF4204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B9D1-397A-44C8-8AB9-A5FFEFE9F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residential vs. Congressional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63-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66680" y="939960"/>
            <a:ext cx="7315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admis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War Edwin Sta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t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johnsonimpeach"/>
          <p:cNvPicPr/>
          <p:nvPr/>
        </p:nvPicPr>
        <p:blipFill>
          <a:blip r:embed="rId1"/>
          <a:stretch/>
        </p:blipFill>
        <p:spPr>
          <a:xfrm>
            <a:off x="3505320" y="2971800"/>
            <a:ext cx="5410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 of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happen to the Sou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lee2"/>
          <p:cNvPicPr/>
          <p:nvPr/>
        </p:nvPicPr>
        <p:blipFill>
          <a:blip r:embed="rId1"/>
          <a:stretch/>
        </p:blipFill>
        <p:spPr>
          <a:xfrm>
            <a:off x="1981080" y="3352680"/>
            <a:ext cx="1246320" cy="315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jeffdavis"/>
          <p:cNvPicPr/>
          <p:nvPr/>
        </p:nvPicPr>
        <p:blipFill>
          <a:blip r:embed="rId2"/>
          <a:stretch/>
        </p:blipFill>
        <p:spPr>
          <a:xfrm>
            <a:off x="5029200" y="3429000"/>
            <a:ext cx="2619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nn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(DuBois dissenter of the “tragic lege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revis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perc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e-Davis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hearsal for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4" descr="fordstheatre"/>
          <p:cNvPicPr/>
          <p:nvPr/>
        </p:nvPicPr>
        <p:blipFill>
          <a:blip r:embed="rId1"/>
          <a:stretch/>
        </p:blipFill>
        <p:spPr>
          <a:xfrm>
            <a:off x="2590920" y="1447920"/>
            <a:ext cx="4348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drew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ce-President from Tennes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lan for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Confederates resp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od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Brigadi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men’s Bureau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ash with Johns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all native-born or naturalized persons, as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d rights and protection under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reduction of states that vi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qualified ex-Confede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power to en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gressional Pl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sh existing gover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five military distr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-Confede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00:15Z</dcterms:created>
  <dc:creator>evo136</dc:creator>
  <dc:description/>
  <dc:language>en-US</dc:language>
  <cp:lastModifiedBy>vott</cp:lastModifiedBy>
  <dcterms:modified xsi:type="dcterms:W3CDTF">2008-11-13T21:57:26Z</dcterms:modified>
  <cp:revision>11</cp:revision>
  <dc:subject/>
  <dc:title>Presidential vs. Congressional Reconstruction</dc:title>
</cp:coreProperties>
</file>