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DA8-A936-421C-846D-542E60BC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AFB-B5CC-4CAE-B3DF-ACD7DAC1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259-0059-4725-A1C4-8324A056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C33-DB2E-4C1F-9750-9C855548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FA5-7833-4A33-8FA1-CC1AADB5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F0A-EA81-433F-8185-D624B50A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BF8-7FC8-414C-B7EE-05965A81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0EA-4DA5-41B5-A586-EB22B1D7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799-1202-45F9-B0D4-646552A5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56B-4FE4-4EF1-842A-C6882B59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759-B6A3-4A52-93A1-F84E90FA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A41-4DBC-4A57-8D8D-FC66073D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330C-6A1D-4FFF-9585-8214F6E074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esidential vs. Congressional 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63-7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gressional Pl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066680" y="939960"/>
            <a:ext cx="73152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admis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867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mpeach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ure of Office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y of War Edwin Stan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t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johnsonimpeach"/>
          <p:cNvPicPr/>
          <p:nvPr/>
        </p:nvPicPr>
        <p:blipFill>
          <a:blip r:embed="rId1"/>
          <a:stretch/>
        </p:blipFill>
        <p:spPr>
          <a:xfrm>
            <a:off x="3505320" y="2971800"/>
            <a:ext cx="54100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 of the Civil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ill happen to the Sou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lee2"/>
          <p:cNvPicPr/>
          <p:nvPr/>
        </p:nvPicPr>
        <p:blipFill>
          <a:blip r:embed="rId1"/>
          <a:stretch/>
        </p:blipFill>
        <p:spPr>
          <a:xfrm>
            <a:off x="1981080" y="3352680"/>
            <a:ext cx="1246320" cy="315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jeffdavis"/>
          <p:cNvPicPr/>
          <p:nvPr/>
        </p:nvPicPr>
        <p:blipFill>
          <a:blip r:embed="rId2"/>
          <a:stretch/>
        </p:blipFill>
        <p:spPr>
          <a:xfrm>
            <a:off x="5029200" y="3429000"/>
            <a:ext cx="2619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unning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s (DuBois dissenter of the “tragic lege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sion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revision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hearsal for 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percent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de-Davis B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hearsal for 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Picture 4" descr="fordstheatre"/>
          <p:cNvPicPr/>
          <p:nvPr/>
        </p:nvPicPr>
        <p:blipFill>
          <a:blip r:embed="rId1"/>
          <a:stretch/>
        </p:blipFill>
        <p:spPr>
          <a:xfrm>
            <a:off x="2590920" y="1447920"/>
            <a:ext cx="4348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drew John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ice-President from Tennes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lan for 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-Confederates resp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cod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derate Brigadi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ash with John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men’s Bureau B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Rights B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3886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ash with John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eenth Amend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d all native-born or naturalized persons, as citiz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anteed rights and protection under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al reduction of states that vio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qualified ex-Confede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ional power to en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gressional Pl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struction 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lish existing gover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five military distri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al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-Confede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constit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00:15Z</dcterms:created>
  <dc:creator>evo136</dc:creator>
  <dc:description/>
  <dc:language>en-US</dc:language>
  <cp:lastModifiedBy>vott</cp:lastModifiedBy>
  <dcterms:modified xsi:type="dcterms:W3CDTF">2008-11-13T21:57:26Z</dcterms:modified>
  <cp:revision>11</cp:revision>
  <dc:subject/>
  <dc:title>Presidential vs. Congressional Reconstruction</dc:title>
</cp:coreProperties>
</file>