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C8AA-3980-4091-8CC1-88718928F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1F75-BC22-471B-8DA7-3AA7D234CD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102E-97B0-4D8E-A345-B4717E5E68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95CB-4E9A-4C5D-B488-E52A447DC1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AA80-724D-4239-91EB-52B5275C86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103B-4EBF-4ED4-B1C9-81B836B30A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51B3-7781-459F-88A0-A2D05F481B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343E-C75E-4825-B5DE-DB750EC4E1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0E40-F798-44D7-A52A-A4FD1B7A11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DE3-CE1E-46A1-9E66-48B5740E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886-3464-48FB-8E5B-7D7A2768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ECA-F1BB-4F24-B613-008B20C4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714-640F-40BF-AD9A-19490CA5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CC2-87D0-4DFB-8E1F-8879880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A8C-1F78-4D8A-9AA6-5BC6B0C3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05F-43F2-4FE3-B510-4FBA9BA1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B7C-4935-40E3-8EEB-74BB9EB1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29D-00E1-492E-A698-D47074DD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CE4-BDF5-4CCC-A3B8-509794F3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AF1-BEB2-40A5-8F4E-1D971DAC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279-B32C-49D5-BAEB-CAEEFD2B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3AF8-61FF-48EF-B068-E8A2ABFEE4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en of the Old So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sm and the cult of true woman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“big” pi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slavery shape “proper” womanhood in the Old Sou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ideals of womanhood inform women’s daily l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ere slave women excluded from the “southern lady” ide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ere women unable to forge a sisterh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outhern La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of women in southern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ce i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degrad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her glor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21873_w"/>
          <p:cNvPicPr/>
          <p:nvPr/>
        </p:nvPicPr>
        <p:blipFill>
          <a:blip r:embed="rId1"/>
          <a:stretch/>
        </p:blipFill>
        <p:spPr>
          <a:xfrm>
            <a:off x="4724280" y="3025800"/>
            <a:ext cx="3905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 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southern-belle-harpers"/>
          <p:cNvPicPr/>
          <p:nvPr/>
        </p:nvPicPr>
        <p:blipFill>
          <a:blip r:embed="rId1"/>
          <a:stretch/>
        </p:blipFill>
        <p:spPr>
          <a:xfrm>
            <a:off x="5486400" y="1752480"/>
            <a:ext cx="25052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 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laveholding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cold1"/>
          <p:cNvPicPr/>
          <p:nvPr/>
        </p:nvPicPr>
        <p:blipFill>
          <a:blip r:embed="rId1"/>
          <a:stretch/>
        </p:blipFill>
        <p:spPr>
          <a:xfrm>
            <a:off x="1981080" y="3429000"/>
            <a:ext cx="4572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s between northern and southern white wo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 between plantation master/mistress and slave wo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 Boykin Chest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photographs tell a st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within the ideals of “proper” woman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ce of race vs.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riet Jac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m-1707"/>
          <p:cNvPicPr/>
          <p:nvPr/>
        </p:nvPicPr>
        <p:blipFill>
          <a:blip r:embed="rId1"/>
          <a:stretch/>
        </p:blipFill>
        <p:spPr>
          <a:xfrm>
            <a:off x="4495680" y="35812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9:24:52Z</dcterms:created>
  <dc:creator>Information Technology</dc:creator>
  <dc:description/>
  <dc:language>en-US</dc:language>
  <cp:lastModifiedBy>Victoria</cp:lastModifiedBy>
  <dcterms:modified xsi:type="dcterms:W3CDTF">2016-03-04T03:11:20Z</dcterms:modified>
  <cp:revision>9</cp:revision>
  <dc:subject/>
  <dc:title>Women of the Old South</dc:title>
</cp:coreProperties>
</file>