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6CE4-99E6-4B25-B8D6-325307509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C6C-C507-4BAF-AAD0-C7D7E5382D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A8F0-2972-4883-93F2-D719AD2618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B18E-45D2-4B28-A44A-77F7E3C7D4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8CD5-FE36-4891-8320-3C1AD9440D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3B62-7755-44B2-A671-D46D54A29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B937-B3E3-47DA-A460-DCF14BBC16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DE83-7403-405B-BA7C-6EE2352E2B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4667-37F8-4D8D-B140-B09EF979FB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C3E-C4B4-46B1-B4FB-8322985A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904-BC52-44A4-AEB9-D789E755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5E7-BA8C-4045-85F7-ADFDE720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4A0-8E69-4211-935D-B4EC289E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BB4-1DD3-4F60-AB00-DD7AB0D7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1E3-2FA4-40DE-A6AE-ECCE0263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66B-1B52-407D-9763-BD27E5E3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EFC-A0A2-4ECF-B284-78654CDF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3BA-6D04-4A0E-9A8E-CD50C916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394-8F47-439E-872B-CD0C850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719-30C6-4D2C-89FA-0B43F92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CD3-3081-413C-86E5-A432216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689E-F026-4180-9EC1-68F2E2798D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en of the Old S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sm and the cult of true woman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“big” pi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slavery shape “proper” womanhood in the Old Sou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ideals of womanhood inform women’s daily l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ere slave women excluded from the “southern lady” ide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ere women unable to forge a sisterh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uthern La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f women in southern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c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degra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her glo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21873_w"/>
          <p:cNvPicPr/>
          <p:nvPr/>
        </p:nvPicPr>
        <p:blipFill>
          <a:blip r:embed="rId1"/>
          <a:stretch/>
        </p:blipFill>
        <p:spPr>
          <a:xfrm>
            <a:off x="4724280" y="3025800"/>
            <a:ext cx="3905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southern-belle-harpers"/>
          <p:cNvPicPr/>
          <p:nvPr/>
        </p:nvPicPr>
        <p:blipFill>
          <a:blip r:embed="rId1"/>
          <a:stretch/>
        </p:blipFill>
        <p:spPr>
          <a:xfrm>
            <a:off x="5486400" y="1752480"/>
            <a:ext cx="25052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laveholdi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cold1"/>
          <p:cNvPicPr/>
          <p:nvPr/>
        </p:nvPicPr>
        <p:blipFill>
          <a:blip r:embed="rId1"/>
          <a:stretch/>
        </p:blipFill>
        <p:spPr>
          <a:xfrm>
            <a:off x="1981080" y="3429000"/>
            <a:ext cx="45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en’s l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 between northern and southern white wo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between plantation master/mistress and slave wo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Boykin Chest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photographs tell a st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within the ideals of “proper” woman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race vs.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riet Jac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m-1707"/>
          <p:cNvPicPr/>
          <p:nvPr/>
        </p:nvPicPr>
        <p:blipFill>
          <a:blip r:embed="rId1"/>
          <a:stretch/>
        </p:blipFill>
        <p:spPr>
          <a:xfrm>
            <a:off x="4495680" y="3581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9:24:52Z</dcterms:created>
  <dc:creator>Information Technology</dc:creator>
  <dc:description/>
  <dc:language>en-US</dc:language>
  <cp:lastModifiedBy>Victoria</cp:lastModifiedBy>
  <dcterms:modified xsi:type="dcterms:W3CDTF">2016-03-04T03:11:20Z</dcterms:modified>
  <cp:revision>9</cp:revision>
  <dc:subject/>
  <dc:title>Women of the Old South</dc:title>
</cp:coreProperties>
</file>