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1F76-EE37-4877-B9B0-CA5D89133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7C9A-13A9-4C19-9141-BFD8D7CCE5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2465-06B6-4477-A1DA-7CBC09E99D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2DC3-1A3B-4BBA-BAA0-09EDB39B25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3C8D-A9CA-41EC-B308-3AE7180194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64AE-4BD1-4B6D-9DE7-C5840DC01D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4B47-324D-412E-8DAA-7C4B5118F6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2744-1502-4931-B44D-1C07485EBD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4A52-6487-4CD6-89E3-8C7952F609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66A6-A0AD-4627-A8FD-760F2C31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165-C611-41C8-920B-9F9E2A23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ECED-A2FA-450D-9B7A-AF9892BE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698E-48AC-4DC0-A4B6-F817D549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81EB-AE4B-4C62-94C5-08341F12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1368-0CEE-4937-B76E-B05FFD02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49F1-9F8A-4FD0-B251-4DD2E3D2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04DD-DE3B-492C-80F5-824A2828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6F25-8083-46ED-94A4-B57D4FE4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24F-D1D9-4D22-B9FA-96D8E608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0D6-2863-48B9-991B-67486B96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2B27-0870-4637-B565-56F0DEB0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E2D2-8DBA-4A42-8BEE-405977F1E9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men of the Old Sou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sm and the cult of true woman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“big” pi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slavery shape “proper” womanhood in the Old Sou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ideals of womanhood inform women’s daily liv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ere slave women excluded from the “southern lady” ide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were women unable to forge a sisterhoo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outhern La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of women in southern soc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ence is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degrad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her glor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21873_w"/>
          <p:cNvPicPr/>
          <p:nvPr/>
        </p:nvPicPr>
        <p:blipFill>
          <a:blip r:embed="rId1"/>
          <a:stretch/>
        </p:blipFill>
        <p:spPr>
          <a:xfrm>
            <a:off x="4724280" y="3025800"/>
            <a:ext cx="39052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te women’s l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southern-belle-harpers"/>
          <p:cNvPicPr/>
          <p:nvPr/>
        </p:nvPicPr>
        <p:blipFill>
          <a:blip r:embed="rId1"/>
          <a:stretch/>
        </p:blipFill>
        <p:spPr>
          <a:xfrm>
            <a:off x="5486400" y="1752480"/>
            <a:ext cx="25052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te women’s l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slaveholding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cold1"/>
          <p:cNvPicPr/>
          <p:nvPr/>
        </p:nvPicPr>
        <p:blipFill>
          <a:blip r:embed="rId1"/>
          <a:stretch/>
        </p:blipFill>
        <p:spPr>
          <a:xfrm>
            <a:off x="1981080" y="3429000"/>
            <a:ext cx="45720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men’s l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s between northern and southern white wom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ship between plantation master/mistress and slave wom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 Boykin Chestn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photographs tell a sto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lave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within the ideals of “proper” woman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ificance of race vs. g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riet Jac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m-1707"/>
          <p:cNvPicPr/>
          <p:nvPr/>
        </p:nvPicPr>
        <p:blipFill>
          <a:blip r:embed="rId1"/>
          <a:stretch/>
        </p:blipFill>
        <p:spPr>
          <a:xfrm>
            <a:off x="4495680" y="35812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lave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9:24:52Z</dcterms:created>
  <dc:creator>Information Technology</dc:creator>
  <dc:description/>
  <dc:language>en-US</dc:language>
  <cp:lastModifiedBy>Victoria</cp:lastModifiedBy>
  <dcterms:modified xsi:type="dcterms:W3CDTF">2016-03-04T03:11:20Z</dcterms:modified>
  <cp:revision>9</cp:revision>
  <dc:subject/>
  <dc:title>Women of the Old South</dc:title>
</cp:coreProperties>
</file>