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6C5F-4B60-49ED-A267-3EA55094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C412-9674-4824-B5E0-185B9451B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3E98-8637-4A56-B312-DC95403A16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0C35-D627-4C58-A2D6-51C60ED107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16E5-542B-460C-8848-BF0F74959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C3A2-FFEE-4217-84B7-C9C3CC81C0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F5A8-FF98-44E6-A2EB-ABCE8366D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46C1-56F7-40E6-9CCA-92DD91F534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37B3-7DAD-41DF-90DC-860BF140FB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B5B-CF2D-4D31-A20F-ED2C88CE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CA1-79F4-40CE-8DDB-0296D559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3D0-0A8D-4F64-8CB2-7058C7DE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39A-27C4-47A9-9276-1EE5E665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E18-E6B6-454C-A677-0E5E4DBF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03C-AE1E-4855-B489-94D4C614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4A3-8D62-4AC9-AD60-F0D67099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B8F-BA33-490C-952A-747449B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7BE-BF26-462A-B9B7-1C820C53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6B8-5473-4A70-BC8C-3C6C9F0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F5A-A0E8-4027-9120-CB27BDB9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9F7-064C-4D8A-934D-7BB1FAF5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EA9-0D62-4756-AB06-530EB0D5AC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en of the Old S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sm and the cult of true woman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“big” pi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slavery shape “proper” womanhood in the Old Sou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ideals of womanhood inform women’s daily l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re slave women excluded from the “southern lady” ide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ere women unable to forge a sisterh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uthern La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f women in southern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c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degra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her glo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21873_w"/>
          <p:cNvPicPr/>
          <p:nvPr/>
        </p:nvPicPr>
        <p:blipFill>
          <a:blip r:embed="rId1"/>
          <a:stretch/>
        </p:blipFill>
        <p:spPr>
          <a:xfrm>
            <a:off x="4724280" y="3025800"/>
            <a:ext cx="3905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southern-belle-harpers"/>
          <p:cNvPicPr/>
          <p:nvPr/>
        </p:nvPicPr>
        <p:blipFill>
          <a:blip r:embed="rId1"/>
          <a:stretch/>
        </p:blipFill>
        <p:spPr>
          <a:xfrm>
            <a:off x="5486400" y="1752480"/>
            <a:ext cx="25052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laveholdi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cold1"/>
          <p:cNvPicPr/>
          <p:nvPr/>
        </p:nvPicPr>
        <p:blipFill>
          <a:blip r:embed="rId1"/>
          <a:stretch/>
        </p:blipFill>
        <p:spPr>
          <a:xfrm>
            <a:off x="1981080" y="3429000"/>
            <a:ext cx="45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 between northern and southern white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between plantation master/mistress and slave wo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Boykin Chest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photographs tell a st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within the ideals of “proper” woman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race vs.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riet Jac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m-1707"/>
          <p:cNvPicPr/>
          <p:nvPr/>
        </p:nvPicPr>
        <p:blipFill>
          <a:blip r:embed="rId1"/>
          <a:stretch/>
        </p:blipFill>
        <p:spPr>
          <a:xfrm>
            <a:off x="4495680" y="3581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9:24:52Z</dcterms:created>
  <dc:creator>Information Technology</dc:creator>
  <dc:description/>
  <dc:language>en-US</dc:language>
  <cp:lastModifiedBy>Victoria</cp:lastModifiedBy>
  <dcterms:modified xsi:type="dcterms:W3CDTF">2016-03-04T03:11:20Z</dcterms:modified>
  <cp:revision>9</cp:revision>
  <dc:subject/>
  <dc:title>Women of the Old South</dc:title>
</cp:coreProperties>
</file>