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EA6-B100-406A-BC00-EAAA3E02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312-0FC1-4F6E-8B76-491313E040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A541-35F1-4B12-AD8E-D90FB8B67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5385-DAF1-4204-A81C-4158FF08A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B45-6143-4CCD-BF29-E7567BA976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BAE4-E43D-428B-921A-A307B0DAD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667-68C1-4C55-814C-34021C678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6379-F255-4116-A030-98E7CB738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FB2-48CD-4DE2-8F73-9F096255EE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373D-4A36-4985-BB7E-C2237C7D53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6CC0-9C03-485A-9388-08FF0ED93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876-BA57-4516-B9CB-93A6A0B6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0D7-12A8-4BFD-8A22-14B9AAD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C79-0EC9-427C-A1A2-5066E25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C92-2847-4B9B-B704-C80EAC5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612-A2FD-4B00-BFDA-CA95DDFC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1FD-2D42-4A14-B064-81948FA1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AA5-CF69-47BD-A6C1-9C176A1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A68-0F73-4EF3-B7A3-D35AE3EB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165-7264-4726-808E-7AE5CE3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6CC-E5F8-4822-844E-3D8FE8F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4B0-4EA2-4B0C-A285-1E94C0E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A50-5F6C-4530-BDB3-E1768A3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A8F-707B-4DDE-9384-19B0A2411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women seize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emancipated-slaves-1500"/>
          <p:cNvPicPr/>
          <p:nvPr/>
        </p:nvPicPr>
        <p:blipFill>
          <a:blip r:embed="rId1"/>
          <a:stretch/>
        </p:blipFill>
        <p:spPr>
          <a:xfrm>
            <a:off x="1828800" y="2901960"/>
            <a:ext cx="5524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women contribute to the course of the Civil W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women alter their self-perceptions as well as their own ideas about their “place” in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mpending cri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standers or particip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HarrietBeecherStowe.jpg"/>
          <p:cNvPicPr/>
          <p:nvPr/>
        </p:nvPicPr>
        <p:blipFill>
          <a:blip r:embed="rId1"/>
          <a:stretch/>
        </p:blipFill>
        <p:spPr>
          <a:xfrm>
            <a:off x="1066680" y="2446200"/>
            <a:ext cx="3048120" cy="382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essie.jpg"/>
          <p:cNvPicPr/>
          <p:nvPr/>
        </p:nvPicPr>
        <p:blipFill>
          <a:blip r:embed="rId2"/>
          <a:stretch/>
        </p:blipFill>
        <p:spPr>
          <a:xfrm>
            <a:off x="5257800" y="2438280"/>
            <a:ext cx="3165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conomic ro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hold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Sanitary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’ aid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a Ba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order no.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u22_10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women’s political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new-orleans-cartoon.jpg"/>
          <p:cNvPicPr/>
          <p:nvPr/>
        </p:nvPicPr>
        <p:blipFill>
          <a:blip r:embed="rId1"/>
          <a:stretch/>
        </p:blipFill>
        <p:spPr>
          <a:xfrm>
            <a:off x="838080" y="2666880"/>
            <a:ext cx="3295800" cy="327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eneral-butler-cartoon.jpg"/>
          <p:cNvPicPr/>
          <p:nvPr/>
        </p:nvPicPr>
        <p:blipFill>
          <a:blip r:embed="rId2"/>
          <a:stretch/>
        </p:blipFill>
        <p:spPr>
          <a:xfrm>
            <a:off x="4800600" y="2666880"/>
            <a:ext cx="333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an’s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oman’s Loyal Le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susancady"/>
          <p:cNvPicPr/>
          <p:nvPr/>
        </p:nvPicPr>
        <p:blipFill>
          <a:blip r:embed="rId1"/>
          <a:stretch/>
        </p:blipFill>
        <p:spPr>
          <a:xfrm>
            <a:off x="4724280" y="1752480"/>
            <a:ext cx="3119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litary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es and cou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zabeth Van L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 sold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Wak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419720" y="1189080"/>
            <a:ext cx="3916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ing fr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mond Bread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Federal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mp087"/>
          <p:cNvPicPr/>
          <p:nvPr/>
        </p:nvPicPr>
        <p:blipFill>
          <a:blip r:embed="rId1"/>
          <a:stretch/>
        </p:blipFill>
        <p:spPr>
          <a:xfrm>
            <a:off x="1600200" y="2992320"/>
            <a:ext cx="6019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2:20:33Z</dcterms:created>
  <dc:creator>Information Technology</dc:creator>
  <dc:description/>
  <dc:language>en-US</dc:language>
  <cp:lastModifiedBy>Victoria</cp:lastModifiedBy>
  <dcterms:modified xsi:type="dcterms:W3CDTF">2016-03-04T03:38:40Z</dcterms:modified>
  <cp:revision>6</cp:revision>
  <dc:subject/>
  <dc:title>Women in the Civil War</dc:title>
</cp:coreProperties>
</file>