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0A5C-666E-4BA0-B9B3-712FA2E1D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FC8B-036D-49C7-BD06-0676CCFCBA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228D-EEE9-4353-B138-76C88E2A75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D49F-F14A-440F-8B58-E2C2EFFE5C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3A31-C0EB-49D4-AFEE-F1205462EE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4F84-9A29-4A9B-9831-EB9D0E9B27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2E62-2ECD-4FE6-B76F-4D2EC55EE2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B49A-FC30-4F65-B21F-2D48315795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359C-5A7C-4E89-AFA8-8F28BFD57D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E85B-04B9-4405-895B-9955CEFF1D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5626-FF65-4F82-9DCC-45D0450C6D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234A-3515-43C5-A8AD-B60D9FE01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3547-E6D4-4A23-9A76-927C36C9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A14B-044F-45DC-8000-236B8B219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1C1E-A96D-4074-AD93-BF68F01E1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8692-11FA-450B-935C-E5EFB8B4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9AEC-34DA-4E4A-8B74-3EBD472B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C79A-3C28-4ACD-97B0-7884F0AA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EDBF-697C-4BC8-8165-763A3F0D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5658-776F-45F5-9B98-FE6F841B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261C-75B4-4297-90ED-6FC40B41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D5F2-E609-4F6D-BA49-E67E6F4C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C651-9794-49F3-ACA2-BFB77423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C8E0-6959-4776-BBEE-C0109982B0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omen in the Civil Wa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 Turning Poi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rican American women seize new opportun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4" descr="emancipated-slaves-1500"/>
          <p:cNvPicPr/>
          <p:nvPr/>
        </p:nvPicPr>
        <p:blipFill>
          <a:blip r:embed="rId1"/>
          <a:stretch/>
        </p:blipFill>
        <p:spPr>
          <a:xfrm>
            <a:off x="1828800" y="2901960"/>
            <a:ext cx="552456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big question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id women contribute to the course of the Civil Wa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women alter their self-perceptions as well as their own ideas about their “place” in socie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impending crisi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standers or participa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3" descr="HarrietBeecherStowe.jpg"/>
          <p:cNvPicPr/>
          <p:nvPr/>
        </p:nvPicPr>
        <p:blipFill>
          <a:blip r:embed="rId1"/>
          <a:stretch/>
        </p:blipFill>
        <p:spPr>
          <a:xfrm>
            <a:off x="1066680" y="2446200"/>
            <a:ext cx="3048120" cy="3821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jessie.jpg"/>
          <p:cNvPicPr/>
          <p:nvPr/>
        </p:nvPicPr>
        <p:blipFill>
          <a:blip r:embed="rId2"/>
          <a:stretch/>
        </p:blipFill>
        <p:spPr>
          <a:xfrm>
            <a:off x="5257800" y="2438280"/>
            <a:ext cx="316548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conomic rol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usehold ec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vernment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4495680" y="2743200"/>
            <a:ext cx="42674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ivic Participa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ted States Sanitary Commi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diers’ aid socie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r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ra Bar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al order no. 9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" descr="u22_10"/>
          <p:cNvPicPr/>
          <p:nvPr/>
        </p:nvPicPr>
        <p:blipFill>
          <a:blip r:embed="rId1"/>
          <a:stretch/>
        </p:blipFill>
        <p:spPr>
          <a:xfrm>
            <a:off x="4038480" y="1828800"/>
            <a:ext cx="48769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ivic Participa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ern women’s political ag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3" descr="new-orleans-cartoon.jpg"/>
          <p:cNvPicPr/>
          <p:nvPr/>
        </p:nvPicPr>
        <p:blipFill>
          <a:blip r:embed="rId1"/>
          <a:stretch/>
        </p:blipFill>
        <p:spPr>
          <a:xfrm>
            <a:off x="838080" y="2666880"/>
            <a:ext cx="3295800" cy="3279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general-butler-cartoon.jpg"/>
          <p:cNvPicPr/>
          <p:nvPr/>
        </p:nvPicPr>
        <p:blipFill>
          <a:blip r:embed="rId2"/>
          <a:stretch/>
        </p:blipFill>
        <p:spPr>
          <a:xfrm>
            <a:off x="4800600" y="2666880"/>
            <a:ext cx="33354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oman’s Rights Move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 Woman’s Loyal Leag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4" descr="susancady"/>
          <p:cNvPicPr/>
          <p:nvPr/>
        </p:nvPicPr>
        <p:blipFill>
          <a:blip r:embed="rId1"/>
          <a:stretch/>
        </p:blipFill>
        <p:spPr>
          <a:xfrm>
            <a:off x="4724280" y="1752480"/>
            <a:ext cx="311940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litary participa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ies and cour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izabeth Van L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male sold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rah Wake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4419720" y="1189080"/>
            <a:ext cx="391608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 Turning Poi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unting frust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chmond Bread Rio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position to Federal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4" descr="mp087"/>
          <p:cNvPicPr/>
          <p:nvPr/>
        </p:nvPicPr>
        <p:blipFill>
          <a:blip r:embed="rId1"/>
          <a:stretch/>
        </p:blipFill>
        <p:spPr>
          <a:xfrm>
            <a:off x="1600200" y="2992320"/>
            <a:ext cx="601992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2T22:20:33Z</dcterms:created>
  <dc:creator>Information Technology</dc:creator>
  <dc:description/>
  <dc:language>en-US</dc:language>
  <cp:lastModifiedBy>Victoria</cp:lastModifiedBy>
  <dcterms:modified xsi:type="dcterms:W3CDTF">2016-03-04T03:38:40Z</dcterms:modified>
  <cp:revision>6</cp:revision>
  <dc:subject/>
  <dc:title>Women in the Civil War</dc:title>
</cp:coreProperties>
</file>