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E82D-1239-4309-99F4-D15EE2313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66F6-D060-4CE1-AA9B-65394309B1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8547-BE44-47BB-8447-45DB9F7478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FDE1-C2F7-489D-890B-ED112C69F5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7EA8-3D9D-43C4-AA51-7142CEB940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43E2-31C5-462D-9455-5FB053609A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01EB-E7D9-48CA-908E-CB1776EDA4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AB93-D6A1-4BFA-8849-C87D74E7B9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69BA-79F4-4DDD-993D-B4D627EDD1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2F92-9B3E-4B99-B182-9059C35ABE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7B9A-CF7A-489B-9906-E3B50F6849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5084-49AD-4488-87FE-96E9D639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CF1B-1DF9-4213-94FE-11AE1C8A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D53-72F0-40E1-8C52-D6D0240B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3BD5-89DD-4B2C-A559-8FED6451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E08-74A4-4291-A7C5-4A2E71DD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79E-D952-4DCF-AB06-053398B9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49C3-A7CA-47C9-88E5-7A0955A4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85A7-D0B4-43BA-A243-8CCFDEA2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07E9-9584-4010-9EC8-91696046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9483-430F-4F07-8CA5-59AE4D6A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3BD5-A253-46DD-8F8F-3929C644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803-3008-413E-BB8C-561195AB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95A0-F70F-4939-859A-2662DDE2BD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omen in the Civil Wa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Turning Poi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American women seize new opport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4" descr="emancipated-slaves-1500"/>
          <p:cNvPicPr/>
          <p:nvPr/>
        </p:nvPicPr>
        <p:blipFill>
          <a:blip r:embed="rId1"/>
          <a:stretch/>
        </p:blipFill>
        <p:spPr>
          <a:xfrm>
            <a:off x="1828800" y="2901960"/>
            <a:ext cx="55245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big ques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women contribute to the course of the Civil W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women alter their self-perceptions as well as their own ideas about their “place” in socie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impending crisi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standers or participa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HarrietBeecherStowe.jpg"/>
          <p:cNvPicPr/>
          <p:nvPr/>
        </p:nvPicPr>
        <p:blipFill>
          <a:blip r:embed="rId1"/>
          <a:stretch/>
        </p:blipFill>
        <p:spPr>
          <a:xfrm>
            <a:off x="1066680" y="2446200"/>
            <a:ext cx="3048120" cy="382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jessie.jpg"/>
          <p:cNvPicPr/>
          <p:nvPr/>
        </p:nvPicPr>
        <p:blipFill>
          <a:blip r:embed="rId2"/>
          <a:stretch/>
        </p:blipFill>
        <p:spPr>
          <a:xfrm>
            <a:off x="5257800" y="2438280"/>
            <a:ext cx="31654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conomic ro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sehold 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267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ivic Particip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ed States Sanitary Com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diers’ aid socie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ra Bar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order no. 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u22_10"/>
          <p:cNvPicPr/>
          <p:nvPr/>
        </p:nvPicPr>
        <p:blipFill>
          <a:blip r:embed="rId1"/>
          <a:stretch/>
        </p:blipFill>
        <p:spPr>
          <a:xfrm>
            <a:off x="4038480" y="1828800"/>
            <a:ext cx="4876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ivic Particip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women’s political ag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new-orleans-cartoon.jpg"/>
          <p:cNvPicPr/>
          <p:nvPr/>
        </p:nvPicPr>
        <p:blipFill>
          <a:blip r:embed="rId1"/>
          <a:stretch/>
        </p:blipFill>
        <p:spPr>
          <a:xfrm>
            <a:off x="838080" y="2666880"/>
            <a:ext cx="3295800" cy="3279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general-butler-cartoon.jpg"/>
          <p:cNvPicPr/>
          <p:nvPr/>
        </p:nvPicPr>
        <p:blipFill>
          <a:blip r:embed="rId2"/>
          <a:stretch/>
        </p:blipFill>
        <p:spPr>
          <a:xfrm>
            <a:off x="4800600" y="2666880"/>
            <a:ext cx="3335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oman’s Rights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Woman’s Loyal Lea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susancady"/>
          <p:cNvPicPr/>
          <p:nvPr/>
        </p:nvPicPr>
        <p:blipFill>
          <a:blip r:embed="rId1"/>
          <a:stretch/>
        </p:blipFill>
        <p:spPr>
          <a:xfrm>
            <a:off x="4724280" y="1752480"/>
            <a:ext cx="31194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litary particip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es and cour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zabeth Van L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male sold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rah Wake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419720" y="1189080"/>
            <a:ext cx="39160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 Turning Poi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nting frus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mond Bread Ri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ition to Federal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4" descr="mp087"/>
          <p:cNvPicPr/>
          <p:nvPr/>
        </p:nvPicPr>
        <p:blipFill>
          <a:blip r:embed="rId1"/>
          <a:stretch/>
        </p:blipFill>
        <p:spPr>
          <a:xfrm>
            <a:off x="1600200" y="2992320"/>
            <a:ext cx="60199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22:20:33Z</dcterms:created>
  <dc:creator>Information Technology</dc:creator>
  <dc:description/>
  <dc:language>en-US</dc:language>
  <cp:lastModifiedBy>Victoria</cp:lastModifiedBy>
  <dcterms:modified xsi:type="dcterms:W3CDTF">2016-03-04T03:38:40Z</dcterms:modified>
  <cp:revision>6</cp:revision>
  <dc:subject/>
  <dc:title>Women in the Civil War</dc:title>
</cp:coreProperties>
</file>