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864F-02EC-49F4-8986-4A5B21118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0702-6754-4B79-A54D-7517CB5910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FEF6-6C31-44F6-811B-7862C833F6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56B1-6AB2-455B-9F54-D8F900A59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F62C-5104-4D46-9721-5CA13C7A0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20C4-920E-4776-B06C-D9D08225A9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E842-0035-46F2-A42F-C0D76E9648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5D18-8D50-4658-AEF3-36242670B8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1F35-3D5F-4C8B-AF18-B82980D1B3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1969-8157-45A4-991A-C11ABB6FB7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9277-3792-4F8D-9E4C-BF26C8DC6F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689-66A1-4FDA-BD9D-B9BFC1DA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69A-5428-4FCB-97D1-D78F1CC1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1EA-4CEF-44F0-B378-CCC5E4F2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154-C879-498C-A0A8-22C70806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21E-40C5-42F5-B708-7E2167FA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B2F-9BE5-411E-8F1D-E3F38BEE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1D0-35AB-4AA8-B3C8-F9A59DAB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B65-DC19-4911-AE1A-6007D78B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723-BAD1-4926-8C21-5FC338B3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855-1960-4398-B234-812B2B64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5EB-7D97-43DC-AB35-545B8803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91A-4683-4830-9D61-E493CAA9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1B0F-5193-4DBC-86FC-1F19E3E809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en in the Civil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Turning Poi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 women seize new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emancipated-slaves-1500"/>
          <p:cNvPicPr/>
          <p:nvPr/>
        </p:nvPicPr>
        <p:blipFill>
          <a:blip r:embed="rId1"/>
          <a:stretch/>
        </p:blipFill>
        <p:spPr>
          <a:xfrm>
            <a:off x="1828800" y="2901960"/>
            <a:ext cx="55245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ig ques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women contribute to the course of the Civil W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women alter their self-perceptions as well as their own ideas about their “place” in socie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impending cri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standers or participa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HarrietBeecherStowe.jpg"/>
          <p:cNvPicPr/>
          <p:nvPr/>
        </p:nvPicPr>
        <p:blipFill>
          <a:blip r:embed="rId1"/>
          <a:stretch/>
        </p:blipFill>
        <p:spPr>
          <a:xfrm>
            <a:off x="1066680" y="2446200"/>
            <a:ext cx="3048120" cy="382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essie.jpg"/>
          <p:cNvPicPr/>
          <p:nvPr/>
        </p:nvPicPr>
        <p:blipFill>
          <a:blip r:embed="rId2"/>
          <a:stretch/>
        </p:blipFill>
        <p:spPr>
          <a:xfrm>
            <a:off x="5257800" y="2438280"/>
            <a:ext cx="31654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conomic ro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hold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267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vic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States Sanitary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’ aid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a Bar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order no. 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u22_10"/>
          <p:cNvPicPr/>
          <p:nvPr/>
        </p:nvPicPr>
        <p:blipFill>
          <a:blip r:embed="rId1"/>
          <a:stretch/>
        </p:blipFill>
        <p:spPr>
          <a:xfrm>
            <a:off x="4038480" y="1828800"/>
            <a:ext cx="4876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vic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women’s political ag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new-orleans-cartoon.jpg"/>
          <p:cNvPicPr/>
          <p:nvPr/>
        </p:nvPicPr>
        <p:blipFill>
          <a:blip r:embed="rId1"/>
          <a:stretch/>
        </p:blipFill>
        <p:spPr>
          <a:xfrm>
            <a:off x="838080" y="2666880"/>
            <a:ext cx="3295800" cy="327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general-butler-cartoon.jpg"/>
          <p:cNvPicPr/>
          <p:nvPr/>
        </p:nvPicPr>
        <p:blipFill>
          <a:blip r:embed="rId2"/>
          <a:stretch/>
        </p:blipFill>
        <p:spPr>
          <a:xfrm>
            <a:off x="4800600" y="2666880"/>
            <a:ext cx="3335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an’s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Woman’s Loyal Lea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susancady"/>
          <p:cNvPicPr/>
          <p:nvPr/>
        </p:nvPicPr>
        <p:blipFill>
          <a:blip r:embed="rId1"/>
          <a:stretch/>
        </p:blipFill>
        <p:spPr>
          <a:xfrm>
            <a:off x="4724280" y="1752480"/>
            <a:ext cx="31194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litary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es and cou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zabeth Van L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ale sold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ah Wake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419720" y="1189080"/>
            <a:ext cx="39160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Turning Poi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ing fr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mond Bread Ri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to Federal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mp087"/>
          <p:cNvPicPr/>
          <p:nvPr/>
        </p:nvPicPr>
        <p:blipFill>
          <a:blip r:embed="rId1"/>
          <a:stretch/>
        </p:blipFill>
        <p:spPr>
          <a:xfrm>
            <a:off x="1600200" y="2992320"/>
            <a:ext cx="60199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2:20:33Z</dcterms:created>
  <dc:creator>Information Technology</dc:creator>
  <dc:description/>
  <dc:language>en-US</dc:language>
  <cp:lastModifiedBy>Victoria</cp:lastModifiedBy>
  <dcterms:modified xsi:type="dcterms:W3CDTF">2016-03-04T03:38:40Z</dcterms:modified>
  <cp:revision>6</cp:revision>
  <dc:subject/>
  <dc:title>Women in the Civil War</dc:title>
</cp:coreProperties>
</file>