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384-3D2A-4578-9B1D-F79B07EA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D08-C1D7-4714-932E-78DBCF9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C7D-8A5B-4452-ACD8-856A61C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105-39EC-457F-AF39-5F545317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E32-7C2C-4C96-BE75-6A27A91B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89A-11CC-4A0D-9788-DB3247E3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C73-15A2-4166-A295-F22C8A0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2C1-8A83-4C59-A123-C1582C83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6C0-0540-4DB0-AB6A-22456E6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E8F-4290-4D0D-BFEE-923BD6F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400-805B-4795-8421-411AACA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429-DD9D-4044-8BBE-FEDF279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308-0EE9-4739-B229-303939CAF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employment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: 2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: 3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 and ethn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ing labor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democratic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keley Car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y Hayden, “Position Pap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haydenc"/>
          <p:cNvPicPr/>
          <p:nvPr/>
        </p:nvPicPr>
        <p:blipFill>
          <a:blip r:embed="rId1"/>
          <a:stretch/>
        </p:blipFill>
        <p:spPr>
          <a:xfrm>
            <a:off x="5867280" y="2666880"/>
            <a:ext cx="2711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hospitable toward women by mid-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tnam and anti-d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volution and the 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jelinek-a"/>
          <p:cNvPicPr/>
          <p:nvPr/>
        </p:nvPicPr>
        <p:blipFill>
          <a:blip r:embed="rId1"/>
          <a:stretch/>
        </p:blipFill>
        <p:spPr>
          <a:xfrm>
            <a:off x="2666880" y="3886200"/>
            <a:ext cx="3473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nw_BoomerCover_05"/>
          <p:cNvPicPr/>
          <p:nvPr/>
        </p:nvPicPr>
        <p:blipFill>
          <a:blip r:embed="rId2"/>
          <a:stretch/>
        </p:blipFill>
        <p:spPr>
          <a:xfrm>
            <a:off x="6400800" y="1523880"/>
            <a:ext cx="25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ac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Packinghouse Workers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gue of Women Vo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trike f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strike_peace_psd"/>
          <p:cNvPicPr/>
          <p:nvPr/>
        </p:nvPicPr>
        <p:blipFill>
          <a:blip r:embed="rId1"/>
          <a:stretch/>
        </p:blipFill>
        <p:spPr>
          <a:xfrm>
            <a:off x="2133720" y="3276720"/>
            <a:ext cx="476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Rights and New Left Move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toward a feminist consci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s did women play in the Civil Rights movement?  How did they shape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bstacles did they encount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the Civil Rights movement and the women’s liberation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young women of sisterh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war midd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f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’s empty moral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th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ith vs. Allwr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4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own vs. Board of Education of Topeka, Kans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gomery Bus boycott (1955-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femal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roots 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 Ann Gibson Rob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Baker “Bigger than a Hamburg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e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view towar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participation after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Moody and vote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nie Lou Hamer and the Mississippi Freedom Democratic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-rac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ian Leburg Roth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319-52b"/>
          <p:cNvPicPr/>
          <p:nvPr/>
        </p:nvPicPr>
        <p:blipFill>
          <a:blip r:embed="rId1"/>
          <a:stretch/>
        </p:blipFill>
        <p:spPr>
          <a:xfrm>
            <a:off x="1905120" y="3011400"/>
            <a:ext cx="5562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57:32Z</dcterms:created>
  <dc:creator>Information Technology</dc:creator>
  <dc:description/>
  <dc:language>en-US</dc:language>
  <cp:lastModifiedBy>Ott, Victoria E.</cp:lastModifiedBy>
  <dcterms:modified xsi:type="dcterms:W3CDTF">2017-05-03T15:51:21Z</dcterms:modified>
  <cp:revision>9</cp:revision>
  <dc:subject/>
  <dc:title>Women in the Civil Rights and New Left Movements</dc:title>
</cp:coreProperties>
</file>