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D58-832A-40C7-BA11-BA7FE0B4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35F-BDFF-498C-849F-CAE1DC7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DE1-EA7D-4461-A788-5770F085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03F-12D6-4C4E-A927-BBFF59BB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F88-6D5D-4D00-8228-990EB874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674-326E-4A93-BC02-726DC273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083-52D9-44CD-8F80-6BB1D419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D10-5AE2-46F1-8F26-3C6D6A14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09E-51C5-4FA0-B67C-EF1C23DE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23D-F852-44C5-AB66-793C2E4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31D-A897-4DC6-B100-6BB6588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E49-BD58-48AA-90CF-CACA069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CC25-FB8E-4B29-A60B-9EFCCAC372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employment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: 2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: 3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al and ethn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ing labor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of democratic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keley Car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y Hayden, “Position Pap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haydenc"/>
          <p:cNvPicPr/>
          <p:nvPr/>
        </p:nvPicPr>
        <p:blipFill>
          <a:blip r:embed="rId1"/>
          <a:stretch/>
        </p:blipFill>
        <p:spPr>
          <a:xfrm>
            <a:off x="5867280" y="2666880"/>
            <a:ext cx="2711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hospitable toward women by mid-19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tnam and anti-d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revolution and the p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jelinek-a"/>
          <p:cNvPicPr/>
          <p:nvPr/>
        </p:nvPicPr>
        <p:blipFill>
          <a:blip r:embed="rId1"/>
          <a:stretch/>
        </p:blipFill>
        <p:spPr>
          <a:xfrm>
            <a:off x="2666880" y="3886200"/>
            <a:ext cx="347364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nw_BoomerCover_05"/>
          <p:cNvPicPr/>
          <p:nvPr/>
        </p:nvPicPr>
        <p:blipFill>
          <a:blip r:embed="rId2"/>
          <a:stretch/>
        </p:blipFill>
        <p:spPr>
          <a:xfrm>
            <a:off x="6400800" y="1523880"/>
            <a:ext cx="25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ac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Packinghouse Workers of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gue of Women Vo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trike for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strike_peace_psd"/>
          <p:cNvPicPr/>
          <p:nvPr/>
        </p:nvPicPr>
        <p:blipFill>
          <a:blip r:embed="rId1"/>
          <a:stretch/>
        </p:blipFill>
        <p:spPr>
          <a:xfrm>
            <a:off x="2133720" y="3276720"/>
            <a:ext cx="4768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Rights and New Left Move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toward a feminist consci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s did women play in the Civil Rights movement?  How did they shape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bstacles did they encount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nection between the Civil Rights movement and the women’s liberation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young women of sisterh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war midd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mat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f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’s empty moral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th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ith vs. Allwr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4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rown vs. Board of Education of Topeka, Kans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5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gomery Bus boycott (1955-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femal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sroots 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 Ann Gibson Rob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Baker “Bigger than a Hamburg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ne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view towar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participation after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 Moody and vote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nie Lou Hamer and the Mississippi Freedom Democratic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-raci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ian Leburg Roths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319-52b"/>
          <p:cNvPicPr/>
          <p:nvPr/>
        </p:nvPicPr>
        <p:blipFill>
          <a:blip r:embed="rId1"/>
          <a:stretch/>
        </p:blipFill>
        <p:spPr>
          <a:xfrm>
            <a:off x="1905120" y="3011400"/>
            <a:ext cx="5562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57:32Z</dcterms:created>
  <dc:creator>Information Technology</dc:creator>
  <dc:description/>
  <dc:language>en-US</dc:language>
  <cp:lastModifiedBy>Ott, Victoria E.</cp:lastModifiedBy>
  <dcterms:modified xsi:type="dcterms:W3CDTF">2017-05-03T15:51:21Z</dcterms:modified>
  <cp:revision>9</cp:revision>
  <dc:subject/>
  <dc:title>Women in the Civil Rights and New Left Movements</dc:title>
</cp:coreProperties>
</file>