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06F-51F1-486D-AEDA-5C6064B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B3A-3E41-407A-9DE6-E91114C1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16A-C35B-4ED2-A43A-9C0DE1EA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C91-B226-456F-A09E-EE3A71ED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366-9A1D-4390-96C5-5E789ABD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A36-BBED-43F2-99D4-2791EB4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11E-4B2E-478C-8A8F-968C4BD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17E-AD59-4818-9E4B-FE60575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B9A-8445-4C68-BA15-03B879E3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CEC-90F2-452F-B1C2-846B024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2E6-D2E8-4730-8636-5CDE493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36F-CD98-44E0-90A2-7418935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A40-71FB-4B52-B28C-54D500F22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employment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: 2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: 3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 and ethn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ing labor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democratic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keley Car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y Hayden, “Position Pap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haydenc"/>
          <p:cNvPicPr/>
          <p:nvPr/>
        </p:nvPicPr>
        <p:blipFill>
          <a:blip r:embed="rId1"/>
          <a:stretch/>
        </p:blipFill>
        <p:spPr>
          <a:xfrm>
            <a:off x="5867280" y="2666880"/>
            <a:ext cx="2711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hospitable toward women by mid-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tnam and anti-d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volution and the 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jelinek-a"/>
          <p:cNvPicPr/>
          <p:nvPr/>
        </p:nvPicPr>
        <p:blipFill>
          <a:blip r:embed="rId1"/>
          <a:stretch/>
        </p:blipFill>
        <p:spPr>
          <a:xfrm>
            <a:off x="2666880" y="3886200"/>
            <a:ext cx="3473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nw_BoomerCover_05"/>
          <p:cNvPicPr/>
          <p:nvPr/>
        </p:nvPicPr>
        <p:blipFill>
          <a:blip r:embed="rId2"/>
          <a:stretch/>
        </p:blipFill>
        <p:spPr>
          <a:xfrm>
            <a:off x="6400800" y="1523880"/>
            <a:ext cx="25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ac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Packinghouse Workers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gue of Women Vo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trike f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strike_peace_psd"/>
          <p:cNvPicPr/>
          <p:nvPr/>
        </p:nvPicPr>
        <p:blipFill>
          <a:blip r:embed="rId1"/>
          <a:stretch/>
        </p:blipFill>
        <p:spPr>
          <a:xfrm>
            <a:off x="2133720" y="3276720"/>
            <a:ext cx="476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Rights and New Left Move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toward a feminist consci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s did women play in the Civil Rights movement?  How did they shape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bstacles did they encount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the Civil Rights movement and the women’s liberation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young women of sisterh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war midd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f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’s empty moral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th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ith vs. Allwr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4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own vs. Board of Education of Topeka, Kans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gomery Bus boycott (1955-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femal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roots 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 Ann Gibson Rob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Baker “Bigger than a Hamburg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e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view towar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participation after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Moody and vote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nie Lou Hamer and the Mississippi Freedom Democratic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-rac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ian Leburg Roth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319-52b"/>
          <p:cNvPicPr/>
          <p:nvPr/>
        </p:nvPicPr>
        <p:blipFill>
          <a:blip r:embed="rId1"/>
          <a:stretch/>
        </p:blipFill>
        <p:spPr>
          <a:xfrm>
            <a:off x="1905120" y="3011400"/>
            <a:ext cx="5562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57:32Z</dcterms:created>
  <dc:creator>Information Technology</dc:creator>
  <dc:description/>
  <dc:language>en-US</dc:language>
  <cp:lastModifiedBy>Ott, Victoria E.</cp:lastModifiedBy>
  <dcterms:modified xsi:type="dcterms:W3CDTF">2017-05-03T15:51:21Z</dcterms:modified>
  <cp:revision>9</cp:revision>
  <dc:subject/>
  <dc:title>Women in the Civil Rights and New Left Movements</dc:title>
</cp:coreProperties>
</file>