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0BA-AF6B-4D19-A618-09634E60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280-9159-42D8-B739-2DCA9721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D36-7D2C-49E0-A4CC-88210C49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66A-93A4-4627-BF23-EE67EC6B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BD8-FEE6-4FB2-A29C-AB812C58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012-AC7D-4675-A833-D3F5B7A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738-B2F6-4CAC-BBF0-28EEB6CC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632-EC62-4605-A647-18D5ECE1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EC3-4D63-471B-AD0F-92CC1473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877-9534-4278-923B-20D349F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0B6-8E20-44A5-835C-61D49C6D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EF0-E15D-4DDB-A8BE-C8C916B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5CAB-DAFE-4C0E-BE51-2364F49AFD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cH2ppft2Gw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ing conform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employment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: 25 percent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: 35 percent wo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al and ethn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modating labor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ustrated over sex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of democratic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keley Car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y Hayden, “Position Pap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haydenc"/>
          <p:cNvPicPr/>
          <p:nvPr/>
        </p:nvPicPr>
        <p:blipFill>
          <a:blip r:embed="rId1"/>
          <a:stretch/>
        </p:blipFill>
        <p:spPr>
          <a:xfrm>
            <a:off x="5867280" y="2666880"/>
            <a:ext cx="27115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rustrated over sex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hospitable toward women by mid-19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tnam and anti-d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revolution and the p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jelinek-a"/>
          <p:cNvPicPr/>
          <p:nvPr/>
        </p:nvPicPr>
        <p:blipFill>
          <a:blip r:embed="rId1"/>
          <a:stretch/>
        </p:blipFill>
        <p:spPr>
          <a:xfrm>
            <a:off x="2666880" y="3886200"/>
            <a:ext cx="347364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nw_BoomerCover_05"/>
          <p:cNvPicPr/>
          <p:nvPr/>
        </p:nvPicPr>
        <p:blipFill>
          <a:blip r:embed="rId2"/>
          <a:stretch/>
        </p:blipFill>
        <p:spPr>
          <a:xfrm>
            <a:off x="6400800" y="1523880"/>
            <a:ext cx="2552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New Left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s://www.youtube.com/watch?v=XcH2ppft2G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bookstore001_larger"/>
          <p:cNvPicPr/>
          <p:nvPr/>
        </p:nvPicPr>
        <p:blipFill>
          <a:blip r:embed="rId2"/>
          <a:stretch/>
        </p:blipFill>
        <p:spPr>
          <a:xfrm>
            <a:off x="2438280" y="2898720"/>
            <a:ext cx="4876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ing conform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 activ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Packinghouse Workers of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gue of Women Vo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Strike for Pe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strike_peace_psd"/>
          <p:cNvPicPr/>
          <p:nvPr/>
        </p:nvPicPr>
        <p:blipFill>
          <a:blip r:embed="rId1"/>
          <a:stretch/>
        </p:blipFill>
        <p:spPr>
          <a:xfrm>
            <a:off x="2133720" y="3276720"/>
            <a:ext cx="4768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men in the Civil Rights and New Left Move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toward a feminist consci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ig ques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oles did women play in the Civil Rights movement?  How did they shape the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obstacles did they encounte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onnection between the Civil Rights movement and the women’s liberation mov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young women of sisterhoo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war midd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mater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of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’s empty moral cl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the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A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mith vs. Allwrigh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4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rown vs. Board of Education of Topeka, Kans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5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gomery Bus boycott (1955-5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femal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ssroots mo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 Ann Gibson Rob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a Baker “Bigger than a Hamburg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ne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 view toward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participation after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e Moody and vote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nie Lou Hamer and the Mississippi Freedom Democratic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Civil Rights Mov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-raci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ian Leburg Roths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319-52b"/>
          <p:cNvPicPr/>
          <p:nvPr/>
        </p:nvPicPr>
        <p:blipFill>
          <a:blip r:embed="rId1"/>
          <a:stretch/>
        </p:blipFill>
        <p:spPr>
          <a:xfrm>
            <a:off x="1905120" y="3011400"/>
            <a:ext cx="5562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7:57:32Z</dcterms:created>
  <dc:creator>Information Technology</dc:creator>
  <dc:description/>
  <dc:language>en-US</dc:language>
  <cp:lastModifiedBy>Ott, Victoria E.</cp:lastModifiedBy>
  <dcterms:modified xsi:type="dcterms:W3CDTF">2017-05-03T15:51:21Z</dcterms:modified>
  <cp:revision>9</cp:revision>
  <dc:subject/>
  <dc:title>Women in the Civil Rights and New Left Movements</dc:title>
</cp:coreProperties>
</file>