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07A7-AD82-4878-B552-C0C133DA4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9208-2E63-461A-A034-EB82BA4B0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D6D8-A11E-4B83-B6D3-A7255B20A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3086-3039-4B7B-8E60-DED130E46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C5C6-4502-4164-A5D6-C18B575EE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BC6C-3AFE-4202-961C-FA4984F43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41A8-88C2-4E69-857E-5C74D89BE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A1BB-0BEE-437A-AE00-17C1EC75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6ACC-AA7F-49B0-A25D-0B9CE529C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7A52-F410-46F6-B7F3-F825DC62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C83E-A776-49ED-83DF-43FE1360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DFFA-FE05-4418-97E4-A351C89D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8F87E-007C-4F43-B7A6-A8D357C6E3E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oLkcxzy4NXI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XcH2ppft2Gw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Women’s Liberation Mov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ther gai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mate of reform” leads to equity la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es in edu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ployment trends 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cklas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ig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ervative r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i-civil rights/social activism senti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firmative 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pposition to the 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OP-E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yllis Schlaf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www.youtube.com/watch?v=oLkcxzy4NX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sons for oppos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Rostker v. Goldbe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198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4" descr="20051102-phyllis-schlafly"/>
          <p:cNvPicPr/>
          <p:nvPr/>
        </p:nvPicPr>
        <p:blipFill>
          <a:blip r:embed="rId2"/>
          <a:stretch/>
        </p:blipFill>
        <p:spPr>
          <a:xfrm>
            <a:off x="5257800" y="3581280"/>
            <a:ext cx="355608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4" descr="exhibitcartoon5"/>
          <p:cNvPicPr/>
          <p:nvPr/>
        </p:nvPicPr>
        <p:blipFill>
          <a:blip r:embed="rId1"/>
          <a:stretch/>
        </p:blipFill>
        <p:spPr>
          <a:xfrm>
            <a:off x="2057400" y="0"/>
            <a:ext cx="4762440" cy="64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4" descr="exhibit%20cartoon2"/>
          <p:cNvPicPr/>
          <p:nvPr/>
        </p:nvPicPr>
        <p:blipFill>
          <a:blip r:embed="rId1"/>
          <a:stretch/>
        </p:blipFill>
        <p:spPr>
          <a:xfrm>
            <a:off x="2190600" y="309600"/>
            <a:ext cx="4762800" cy="62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ti-Abortion mov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is of the movem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of traditionalis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4" descr="antiRoe"/>
          <p:cNvPicPr/>
          <p:nvPr/>
        </p:nvPicPr>
        <p:blipFill>
          <a:blip r:embed="rId1"/>
          <a:stretch/>
        </p:blipFill>
        <p:spPr>
          <a:xfrm>
            <a:off x="1752480" y="2971800"/>
            <a:ext cx="541044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eminism in the 1990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men in the milit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4" descr="riot-pic"/>
          <p:cNvPicPr/>
          <p:nvPr/>
        </p:nvPicPr>
        <p:blipFill>
          <a:blip r:embed="rId1"/>
          <a:stretch/>
        </p:blipFill>
        <p:spPr>
          <a:xfrm>
            <a:off x="609480" y="3346560"/>
            <a:ext cx="4724640" cy="2811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Walker"/>
          <p:cNvPicPr/>
          <p:nvPr/>
        </p:nvPicPr>
        <p:blipFill>
          <a:blip r:embed="rId2"/>
          <a:stretch/>
        </p:blipFill>
        <p:spPr>
          <a:xfrm>
            <a:off x="5599080" y="2514600"/>
            <a:ext cx="324000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eminism’s fu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4" descr="0000001789_20060919151402"/>
          <p:cNvPicPr/>
          <p:nvPr/>
        </p:nvPicPr>
        <p:blipFill>
          <a:blip r:embed="rId1"/>
          <a:stretch/>
        </p:blipFill>
        <p:spPr>
          <a:xfrm>
            <a:off x="1295280" y="1295280"/>
            <a:ext cx="647712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ig ques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would these social movements direct women toward a feminist consciousnes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was this consciousness manifest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ere the long-term effec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urces of growt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ences in WW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ustrations and excitements of Civil Rights and New Left mov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iedan’s theoretical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lems with the EEO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ion of the National Organization for Women (NOW) in 196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ree components of the Second Wav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ciousness-rai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minist The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al 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4" descr="200px-Friedan"/>
          <p:cNvPicPr/>
          <p:nvPr/>
        </p:nvPicPr>
        <p:blipFill>
          <a:blip r:embed="rId1"/>
          <a:stretch/>
        </p:blipFill>
        <p:spPr>
          <a:xfrm>
            <a:off x="5715000" y="2133720"/>
            <a:ext cx="31561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New Left Mov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s://www.youtube.com/watch?v=XcH2ppft2G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4" descr="bookstore001_larger"/>
          <p:cNvPicPr/>
          <p:nvPr/>
        </p:nvPicPr>
        <p:blipFill>
          <a:blip r:embed="rId2"/>
          <a:stretch/>
        </p:blipFill>
        <p:spPr>
          <a:xfrm>
            <a:off x="2438280" y="2898720"/>
            <a:ext cx="48769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tional politic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qual Rights Amendment (ER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quality of rights under the law shall not be denied or abridged by the United States or any State on the basis of sex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70-71 passes House and Sen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1973, 30 states passed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tional politic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4" descr="ERAactivists"/>
          <p:cNvPicPr/>
          <p:nvPr/>
        </p:nvPicPr>
        <p:blipFill>
          <a:blip r:embed="rId1"/>
          <a:stretch/>
        </p:blipFill>
        <p:spPr>
          <a:xfrm>
            <a:off x="228600" y="1427040"/>
            <a:ext cx="845820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4" descr="ERAmap"/>
          <p:cNvPicPr/>
          <p:nvPr/>
        </p:nvPicPr>
        <p:blipFill>
          <a:blip r:embed="rId1"/>
          <a:stretch/>
        </p:blipFill>
        <p:spPr>
          <a:xfrm>
            <a:off x="990720" y="457200"/>
            <a:ext cx="6781680" cy="61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productive righ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65, all states had bans on abor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, legal abor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ght to priva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Roe v. Wad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197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4" descr="Weddington"/>
          <p:cNvPicPr/>
          <p:nvPr/>
        </p:nvPicPr>
        <p:blipFill>
          <a:blip r:embed="rId1"/>
          <a:stretch/>
        </p:blipFill>
        <p:spPr>
          <a:xfrm>
            <a:off x="5029200" y="2438280"/>
            <a:ext cx="251460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16:50:28Z</dcterms:created>
  <dc:creator>Information Technology</dc:creator>
  <dc:description/>
  <dc:language>en-US</dc:language>
  <cp:lastModifiedBy>Ott, Victoria E.</cp:lastModifiedBy>
  <dcterms:modified xsi:type="dcterms:W3CDTF">2017-05-15T18:02:42Z</dcterms:modified>
  <cp:revision>18</cp:revision>
  <dc:subject/>
  <dc:title>Feminism and Backlash</dc:title>
</cp:coreProperties>
</file>