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9E7-506F-47A8-8222-AAC3C0F4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218-CDD8-4CF2-BDE6-A62FAE42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A6B-D210-4B40-9B90-E170B3BA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1C7-A59D-46D0-AB38-F3B62B9A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EFB-0787-4B21-9419-21240F18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17E-411A-49B6-AE0A-A88B9BC3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52E-EDDD-4603-AAA2-92666652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011-C1A3-48F5-8B73-02D84F0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FC2-66F4-4205-BB92-C101ACF1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91A-7234-4ECC-BC69-DCA0FA38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354-1CC5-485C-95A4-025F5AF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8CF-595C-4412-B496-BFDDFED4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7CC1-E843-40DD-B53E-1EE583A734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Lkcxzy4NXI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cH2ppft2Gw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omen’s Liberation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ga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 of reform” leads to equity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trends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l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v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-civil rights/social activism sent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position to the 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-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llis Schla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youtube.com/watch?v=oLkcxzy4N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for op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stker v. Gold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198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20051102-phyllis-schlafly"/>
          <p:cNvPicPr/>
          <p:nvPr/>
        </p:nvPicPr>
        <p:blipFill>
          <a:blip r:embed="rId2"/>
          <a:stretch/>
        </p:blipFill>
        <p:spPr>
          <a:xfrm>
            <a:off x="5257800" y="3581280"/>
            <a:ext cx="35560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exhibitcartoon5"/>
          <p:cNvPicPr/>
          <p:nvPr/>
        </p:nvPicPr>
        <p:blipFill>
          <a:blip r:embed="rId1"/>
          <a:stretch/>
        </p:blipFill>
        <p:spPr>
          <a:xfrm>
            <a:off x="2057400" y="0"/>
            <a:ext cx="476244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exhibit%20cartoon2"/>
          <p:cNvPicPr/>
          <p:nvPr/>
        </p:nvPicPr>
        <p:blipFill>
          <a:blip r:embed="rId1"/>
          <a:stretch/>
        </p:blipFill>
        <p:spPr>
          <a:xfrm>
            <a:off x="2190600" y="309600"/>
            <a:ext cx="47628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-Abortion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s of the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aditionalis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antiRoe"/>
          <p:cNvPicPr/>
          <p:nvPr/>
        </p:nvPicPr>
        <p:blipFill>
          <a:blip r:embed="rId1"/>
          <a:stretch/>
        </p:blipFill>
        <p:spPr>
          <a:xfrm>
            <a:off x="1752480" y="2971800"/>
            <a:ext cx="54104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minism in the 1990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in the mil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riot-pic"/>
          <p:cNvPicPr/>
          <p:nvPr/>
        </p:nvPicPr>
        <p:blipFill>
          <a:blip r:embed="rId1"/>
          <a:stretch/>
        </p:blipFill>
        <p:spPr>
          <a:xfrm>
            <a:off x="609480" y="3346560"/>
            <a:ext cx="4724640" cy="281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Walker"/>
          <p:cNvPicPr/>
          <p:nvPr/>
        </p:nvPicPr>
        <p:blipFill>
          <a:blip r:embed="rId2"/>
          <a:stretch/>
        </p:blipFill>
        <p:spPr>
          <a:xfrm>
            <a:off x="5599080" y="2514600"/>
            <a:ext cx="3240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minism’s 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0000001789_20060919151402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these social movements direct women toward a feminist conscious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as this consciousness manifes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long-term effe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of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s in WW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strations and excitements of Civil Rights and New Left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dan’s theoretical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with the EE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 of the National Organization for Women (NOW) in 19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components of the Second W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ciousness-ra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inist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200px-Friedan"/>
          <p:cNvPicPr/>
          <p:nvPr/>
        </p:nvPicPr>
        <p:blipFill>
          <a:blip r:embed="rId1"/>
          <a:stretch/>
        </p:blipFill>
        <p:spPr>
          <a:xfrm>
            <a:off x="5715000" y="2133720"/>
            <a:ext cx="3156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Left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s://www.youtube.com/watch?v=XcH2ppft2G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bookstore001_larger"/>
          <p:cNvPicPr/>
          <p:nvPr/>
        </p:nvPicPr>
        <p:blipFill>
          <a:blip r:embed="rId2"/>
          <a:stretch/>
        </p:blipFill>
        <p:spPr>
          <a:xfrm>
            <a:off x="2438280" y="2898720"/>
            <a:ext cx="4876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qual Rights Amendment (E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ty of rights under the law shall not be denied or abridged by the United States or any State on the basis of sex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0-71 passes House and Se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73, 30 states passed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ERAactivists"/>
          <p:cNvPicPr/>
          <p:nvPr/>
        </p:nvPicPr>
        <p:blipFill>
          <a:blip r:embed="rId1"/>
          <a:stretch/>
        </p:blipFill>
        <p:spPr>
          <a:xfrm>
            <a:off x="228600" y="1427040"/>
            <a:ext cx="8458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ERAmap"/>
          <p:cNvPicPr/>
          <p:nvPr/>
        </p:nvPicPr>
        <p:blipFill>
          <a:blip r:embed="rId1"/>
          <a:stretch/>
        </p:blipFill>
        <p:spPr>
          <a:xfrm>
            <a:off x="990720" y="457200"/>
            <a:ext cx="67816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oductive r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, all states had bans on ab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, legal abor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o priv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e v. W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9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Weddington"/>
          <p:cNvPicPr/>
          <p:nvPr/>
        </p:nvPicPr>
        <p:blipFill>
          <a:blip r:embed="rId1"/>
          <a:stretch/>
        </p:blipFill>
        <p:spPr>
          <a:xfrm>
            <a:off x="5029200" y="2438280"/>
            <a:ext cx="2514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6:50:28Z</dcterms:created>
  <dc:creator>Information Technology</dc:creator>
  <dc:description/>
  <dc:language>en-US</dc:language>
  <cp:lastModifiedBy>Ott, Victoria E.</cp:lastModifiedBy>
  <dcterms:modified xsi:type="dcterms:W3CDTF">2017-05-15T18:02:42Z</dcterms:modified>
  <cp:revision>18</cp:revision>
  <dc:subject/>
  <dc:title>Feminism and Backlash</dc:title>
</cp:coreProperties>
</file>