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European Civilization I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Nationalism; Italian and German Un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Picture 4" descr="New Logo"/>
          <p:cNvPicPr/>
          <p:nvPr/>
        </p:nvPicPr>
        <p:blipFill>
          <a:blip r:embed="rId1"/>
          <a:stretch/>
        </p:blipFill>
        <p:spPr>
          <a:xfrm>
            <a:off x="685800" y="533520"/>
            <a:ext cx="525780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pic269"/>
          <p:cNvPicPr/>
          <p:nvPr/>
        </p:nvPicPr>
        <p:blipFill>
          <a:blip r:embed="rId1"/>
          <a:stretch/>
        </p:blipFill>
        <p:spPr>
          <a:xfrm>
            <a:off x="1116000" y="944640"/>
            <a:ext cx="3456000" cy="4694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4907160" y="1447920"/>
            <a:ext cx="3990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Giuseppe Mazzin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(1805-187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The Duties of Ma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undefined"/>
          <p:cNvPicPr/>
          <p:nvPr/>
        </p:nvPicPr>
        <p:blipFill>
          <a:blip r:embed="rId1"/>
          <a:stretch/>
        </p:blipFill>
        <p:spPr>
          <a:xfrm>
            <a:off x="914400" y="800280"/>
            <a:ext cx="382896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5351400" y="1447920"/>
            <a:ext cx="32529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millo Benso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unt of Cavo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vour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810-186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What do Heavy Metal music and Giuseppe Garibaldi have in common? Find out  it here! – Ladies in ROCK"/>
          <p:cNvPicPr/>
          <p:nvPr/>
        </p:nvPicPr>
        <p:blipFill>
          <a:blip r:embed="rId1"/>
          <a:stretch/>
        </p:blipFill>
        <p:spPr>
          <a:xfrm>
            <a:off x="990720" y="609480"/>
            <a:ext cx="3897360" cy="5029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5125680" y="1676520"/>
            <a:ext cx="3746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useppe Garibald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807-188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pic270"/>
          <p:cNvPicPr/>
          <p:nvPr/>
        </p:nvPicPr>
        <p:blipFill>
          <a:blip r:embed="rId1"/>
          <a:stretch/>
        </p:blipFill>
        <p:spPr>
          <a:xfrm>
            <a:off x="2441520" y="330120"/>
            <a:ext cx="4291200" cy="629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Italian Unific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at were some of the problems with the new Italian stat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German Unific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4" name="Picture 3" descr="pic268"/>
          <p:cNvPicPr/>
          <p:nvPr/>
        </p:nvPicPr>
        <p:blipFill>
          <a:blip r:embed="rId1"/>
          <a:stretch/>
        </p:blipFill>
        <p:spPr>
          <a:xfrm>
            <a:off x="685800" y="1085760"/>
            <a:ext cx="3505320" cy="4907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4779360" y="2057400"/>
            <a:ext cx="3658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tto von Bismar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815-189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German unific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at was the stumbling block to German unific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German unific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Danish War (186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Austro-Prussian War (186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North German Confed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Franco-Prussian War (1870-7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Wilhelm of Prussia proclaimed the first German emperor – archive, 1871 |  Germany | The Guardian"/>
          <p:cNvPicPr/>
          <p:nvPr/>
        </p:nvPicPr>
        <p:blipFill>
          <a:blip r:embed="rId1"/>
          <a:stretch/>
        </p:blipFill>
        <p:spPr>
          <a:xfrm>
            <a:off x="127080" y="762120"/>
            <a:ext cx="8889840" cy="533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at is nationalism?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(common feature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) consciousness of the uniqueness or peculiarity of a group or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) emphasis on shared scio-cultural attitudes and historical mem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3) a sense of common 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4) disrespect or animosity towards other peo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German unific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y was the unification of Germany “the single most important development in Europe between 1848 and 1914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483840" y="1295280"/>
            <a:ext cx="847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Calibri"/>
                <a:ea typeface="Calibri"/>
              </a:rPr>
              <a:t>“</a:t>
            </a:r>
            <a:r>
              <a:rPr b="0" lang="en-US" sz="3200" spc="-1" strike="noStrike">
                <a:solidFill>
                  <a:srgbClr val="fafd00"/>
                </a:solidFill>
                <a:latin typeface="Calibri"/>
                <a:ea typeface="Calibri"/>
              </a:rPr>
              <a:t>a state of mind which gives ‘national’ messag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Calibri"/>
                <a:ea typeface="Calibri"/>
              </a:rPr>
              <a:t>memories, and images a preferred status in so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Calibri"/>
                <a:ea typeface="Calibri"/>
              </a:rPr>
              <a:t>communication and greater weight in m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Calibri"/>
                <a:ea typeface="Calibri"/>
              </a:rPr>
              <a:t>decision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alibri"/>
                <a:ea typeface="Calibri"/>
              </a:rPr>
              <a:t>Karl W. Deuts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43640" y="838080"/>
            <a:ext cx="909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alibri"/>
                <a:ea typeface="Calibri"/>
              </a:rPr>
              <a:t>Both an ideology and a political movement which ho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alibri"/>
                <a:ea typeface="Calibri"/>
              </a:rPr>
              <a:t>the sovereign nation-state to be crucial indwelling valu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alibri"/>
                <a:ea typeface="Calibri"/>
              </a:rPr>
              <a:t>and which manages to mobilize the political will of the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alibri"/>
                <a:ea typeface="Calibri"/>
              </a:rPr>
              <a:t>or a large section of the population. Nationalism is h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alibri"/>
                <a:ea typeface="Calibri"/>
              </a:rPr>
              <a:t>taken to be a largely dynamic principle capable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alibri"/>
                <a:ea typeface="Calibri"/>
              </a:rPr>
              <a:t>engendering hopes, emotions, and action; it is a vehicle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alibri"/>
                <a:ea typeface="Calibri"/>
              </a:rPr>
              <a:t>activating human beings and creating political solid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alibri"/>
                <a:ea typeface="Calibri"/>
              </a:rPr>
              <a:t>amongst them for the purpose of achieving a common go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Calibri"/>
                <a:ea typeface="Calibri"/>
              </a:rPr>
              <a:t>Peter Alter </a:t>
            </a:r>
            <a:r>
              <a:rPr b="0" i="1" lang="en-US" sz="2800" spc="-1" strike="noStrike">
                <a:solidFill>
                  <a:srgbClr val="fafd00"/>
                </a:solidFill>
                <a:latin typeface="Calibri"/>
                <a:ea typeface="Calibri"/>
              </a:rPr>
              <a:t>Nation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Calibri"/>
                <a:ea typeface="Calibri"/>
              </a:rPr>
              <a:t>Factors sustaining national solidarit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)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) 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3) historical conscious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4) m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5) social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6) relig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7) political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Cultural nations v. political nati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Types of nationalis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) Risorgimento national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) Reform national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3) Radical (extreme, militant, etc.) national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Italian Unific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Italian unification Cavour Garibaldi unification Italy essay"/>
          <p:cNvPicPr/>
          <p:nvPr/>
        </p:nvPicPr>
        <p:blipFill>
          <a:blip r:embed="rId1"/>
          <a:stretch/>
        </p:blipFill>
        <p:spPr>
          <a:xfrm>
            <a:off x="2286000" y="228600"/>
            <a:ext cx="4995720" cy="640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6T08:13:12Z</dcterms:created>
  <dc:creator>The Lester Family</dc:creator>
  <dc:description/>
  <cp:keywords/>
  <dc:language>en-US</dc:language>
  <cp:lastModifiedBy>Microsoft Office User</cp:lastModifiedBy>
  <dcterms:modified xsi:type="dcterms:W3CDTF">2021-03-08T23:58:45Z</dcterms:modified>
  <cp:revision>20</cp:revision>
  <dc:subject/>
  <dc:title>European Civilization II</dc:title>
</cp:coreProperties>
</file>