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Moder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e clash of science and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nti-sem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emi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British Association for the Advancement of Sci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University of Oxford -- Museum of Natural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une 18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2784600" cy="489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 flipH="1">
            <a:off x="6011640" y="380880"/>
            <a:ext cx="1500120" cy="489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48840" y="5398920"/>
            <a:ext cx="465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ishop Samuel Wilber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1805-187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345920" y="2190600"/>
            <a:ext cx="101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fd00"/>
                </a:solidFill>
                <a:latin typeface="Calibri"/>
                <a:ea typeface="Calibri"/>
              </a:rPr>
              <a:t>v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860080" y="5398920"/>
            <a:ext cx="214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. H. Hux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1825-189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is “social Darwinism”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Herbert Spencer (1820-19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170680" y="1600200"/>
            <a:ext cx="289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Herbert Spe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1820-190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2" descr="Herbert Spencer - Wikipedia"/>
          <p:cNvPicPr/>
          <p:nvPr/>
        </p:nvPicPr>
        <p:blipFill>
          <a:blip r:embed="rId1"/>
          <a:stretch/>
        </p:blipFill>
        <p:spPr>
          <a:xfrm>
            <a:off x="1062000" y="914400"/>
            <a:ext cx="3510000" cy="54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ocial Darwin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iological laws govern all of nature, including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Malthusian population pressure produces a struggle for ex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physical and mental traits providing an advantage to individuals or species would sp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selection and inheritance would produce new species and eleminat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) natural laws (including 1-4) apply to human social ex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is the counter-argument to “social Darwinism”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. H. Huxley (1825-189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014720" cy="347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Rac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434840" y="1503360"/>
            <a:ext cx="3877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Arthur de Gobin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1816-188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604760" y="3733920"/>
            <a:ext cx="404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Essay on the Inequa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f the Human R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(185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2" descr="Joseph Arthur de Gobineau"/>
          <p:cNvPicPr/>
          <p:nvPr/>
        </p:nvPicPr>
        <p:blipFill>
          <a:blip r:embed="rId1"/>
          <a:stretch/>
        </p:blipFill>
        <p:spPr>
          <a:xfrm>
            <a:off x="380880" y="888840"/>
            <a:ext cx="3810240" cy="508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428000" y="1752480"/>
            <a:ext cx="30564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Houston Stewa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hamber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1855-192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2" descr="Houston Stewart Chamberlain | British-German political philosopher |  Britannica"/>
          <p:cNvPicPr/>
          <p:nvPr/>
        </p:nvPicPr>
        <p:blipFill>
          <a:blip r:embed="rId1"/>
          <a:stretch/>
        </p:blipFill>
        <p:spPr>
          <a:xfrm>
            <a:off x="609480" y="1001880"/>
            <a:ext cx="3365640" cy="525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Certain anthropologists would fain teach us that all races are equally gifted; we point to history and answer: that is a lie!  The races of mankind are markedly different in the nature and also the extent of their gift, 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</a:t>
            </a: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H. S. Chamberl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tate of Alabam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!!!!!!!WARNING !!!!!!!!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is textbook [lecture] discusses evolution, a controversial theory some scientists present as a scientific explanation for the origin of living things, such as plants, animals and humans.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No one was present when life first appeared on earth.  Therefore, any statement about life’s origins should be considered as theory, not fact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Anti-semit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Richard Wag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udaism in Musi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1030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2906640" cy="400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Zion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3886200" cy="3454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4083840" y="5753160"/>
            <a:ext cx="48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eodore Herzl (1860-19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Femin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difference between women’s history and feminist hi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doctrine of the separate spher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were some of the limitations for wom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y did so many women oppose their own emancipatio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28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8036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Next session: Imperialis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imperial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is meant by “new” imperial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What factors caused the rise of imperialism in the late 19th centu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Charles Darwin (1809-188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468600" cy="419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105520" y="298440"/>
            <a:ext cx="3078000" cy="6261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560" y="1447920"/>
            <a:ext cx="4286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Alfred Russell Wal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1823-19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365200" y="108000"/>
            <a:ext cx="4413600" cy="664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as Darwin’s and Wallace’s theory of natural selectio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728880" cy="624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are the problems people had with the theory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Required no guiding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) There was no “purpose” in organic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) Contradicted the literal Biblical 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) Undermined even Deistic arg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3-11T19:12:42Z</dcterms:modified>
  <cp:revision>16</cp:revision>
  <dc:subject/>
  <dc:title>European Civilization II</dc:title>
</cp:coreProperties>
</file>