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6d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European Civilization II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Origins of World War 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" name="Picture 4" descr="New Logo"/>
          <p:cNvPicPr/>
          <p:nvPr/>
        </p:nvPicPr>
        <p:blipFill>
          <a:blip r:embed="rId1"/>
          <a:stretch/>
        </p:blipFill>
        <p:spPr>
          <a:xfrm>
            <a:off x="1981080" y="609480"/>
            <a:ext cx="5257800" cy="1371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1904-5 Russo-Japanese Wa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61" name="Content Placeholder 3" descr=""/>
          <p:cNvPicPr/>
          <p:nvPr/>
        </p:nvPicPr>
        <p:blipFill>
          <a:blip r:embed="rId1"/>
          <a:stretch/>
        </p:blipFill>
        <p:spPr>
          <a:xfrm>
            <a:off x="685800" y="2044800"/>
            <a:ext cx="7772400" cy="3987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1904 – </a:t>
            </a:r>
            <a:r>
              <a:rPr b="0" i="1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Entente Cordia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63" name="Content Placeholder 3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5381640" cy="3450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1905-6 Moroccan Crisi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65" name="Content Placeholder 3" descr=""/>
          <p:cNvPicPr/>
          <p:nvPr/>
        </p:nvPicPr>
        <p:blipFill>
          <a:blip r:embed="rId1"/>
          <a:stretch/>
        </p:blipFill>
        <p:spPr>
          <a:xfrm>
            <a:off x="914400" y="2076480"/>
            <a:ext cx="7010280" cy="4102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1907 – Anglo-French naval conversa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67" name="Content Placeholder 3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5356080" cy="3641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1907 – Anglo-Russian </a:t>
            </a:r>
            <a:r>
              <a:rPr b="0" i="1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Entent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69" name="Content Placeholder 3" descr=""/>
          <p:cNvPicPr/>
          <p:nvPr/>
        </p:nvPicPr>
        <p:blipFill>
          <a:blip r:embed="rId1"/>
          <a:stretch/>
        </p:blipFill>
        <p:spPr>
          <a:xfrm>
            <a:off x="2297160" y="1981080"/>
            <a:ext cx="454968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1908 – First Bosnian Crisi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71" name="Picture 4" descr="ww12"/>
          <p:cNvPicPr/>
          <p:nvPr/>
        </p:nvPicPr>
        <p:blipFill>
          <a:blip r:embed="rId1"/>
          <a:stretch/>
        </p:blipFill>
        <p:spPr>
          <a:xfrm>
            <a:off x="1828800" y="2057400"/>
            <a:ext cx="5257800" cy="4141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1911- Agadir Crisi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73" name="Content Placeholder 3" descr=""/>
          <p:cNvPicPr/>
          <p:nvPr/>
        </p:nvPicPr>
        <p:blipFill>
          <a:blip r:embed="rId1"/>
          <a:stretch/>
        </p:blipFill>
        <p:spPr>
          <a:xfrm>
            <a:off x="1600200" y="2163600"/>
            <a:ext cx="6095880" cy="3657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1912-13 – First and Second Balkan War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ww12"/>
          <p:cNvPicPr/>
          <p:nvPr/>
        </p:nvPicPr>
        <p:blipFill>
          <a:blip r:embed="rId1"/>
          <a:stretch/>
        </p:blipFill>
        <p:spPr>
          <a:xfrm>
            <a:off x="609480" y="177840"/>
            <a:ext cx="8024760" cy="6321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The road to wa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Bismarck’s foreign policy after 1871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1) no further territorial ga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2) peace with Fr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3) prepare for the wor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8160" y="64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1) Archduke Francis Ferdinand assassina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Picture 4" descr="pic40"/>
          <p:cNvPicPr/>
          <p:nvPr/>
        </p:nvPicPr>
        <p:blipFill>
          <a:blip r:embed="rId1"/>
          <a:stretch/>
        </p:blipFill>
        <p:spPr>
          <a:xfrm>
            <a:off x="1870200" y="2286000"/>
            <a:ext cx="5367240" cy="3792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pic41"/>
          <p:cNvPicPr/>
          <p:nvPr/>
        </p:nvPicPr>
        <p:blipFill>
          <a:blip r:embed="rId1"/>
          <a:stretch/>
        </p:blipFill>
        <p:spPr>
          <a:xfrm>
            <a:off x="2355840" y="609480"/>
            <a:ext cx="4264200" cy="5867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3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2) German “blank check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660680" y="324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4640" y="11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3) Austria declares war on Serb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(July 28, 1914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976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4) Russia partially mobilizes against Aust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5) Austria orders general mobiliz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(July 30, 1914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6) Russia orders full mobiliz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7)  British call for a conference -- reje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8) Germans mobilize and put von Schlieffin plan into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9) Germany invades Belgium -- Britain joins the All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2560" y="41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1879 – Dual Allianc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256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Germany and Austria (later in 1882 with Italy becomes the Triple Allian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4900680" cy="3170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1887 - German Reinsurance Treaty with Russi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47" name="Content Placeholder 1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7086600" cy="3335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What happens to the delicate Bismarckisn system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Picture 4" descr="pic22"/>
          <p:cNvPicPr/>
          <p:nvPr/>
        </p:nvPicPr>
        <p:blipFill>
          <a:blip r:embed="rId1"/>
          <a:stretch/>
        </p:blipFill>
        <p:spPr>
          <a:xfrm>
            <a:off x="1676520" y="1981080"/>
            <a:ext cx="5486400" cy="4575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1888 - Wilhelm II becomes Kais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Picture 4" descr="pic7"/>
          <p:cNvPicPr/>
          <p:nvPr/>
        </p:nvPicPr>
        <p:blipFill>
          <a:blip r:embed="rId1"/>
          <a:stretch/>
        </p:blipFill>
        <p:spPr>
          <a:xfrm>
            <a:off x="3103560" y="1957320"/>
            <a:ext cx="2784600" cy="4467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1890 – German reinsurance treat with Russia not renewed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819520" y="2286000"/>
            <a:ext cx="3124080" cy="3905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1894 – Franco-Russian Allianc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57" name="Content Placeholder 5" descr=""/>
          <p:cNvPicPr/>
          <p:nvPr/>
        </p:nvPicPr>
        <p:blipFill>
          <a:blip r:embed="rId1"/>
          <a:stretch/>
        </p:blipFill>
        <p:spPr>
          <a:xfrm>
            <a:off x="2666880" y="1981080"/>
            <a:ext cx="3449880" cy="4594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1902 – Anglo-Japanese Allianc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59" name="Content Placeholder 3" descr=""/>
          <p:cNvPicPr/>
          <p:nvPr/>
        </p:nvPicPr>
        <p:blipFill>
          <a:blip r:embed="rId1"/>
          <a:stretch/>
        </p:blipFill>
        <p:spPr>
          <a:xfrm>
            <a:off x="3048120" y="1863720"/>
            <a:ext cx="2971800" cy="4464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6T08:13:12Z</dcterms:created>
  <dc:creator>The Lester Family</dc:creator>
  <dc:description/>
  <cp:keywords/>
  <dc:language>en-US</dc:language>
  <cp:lastModifiedBy>Microsoft Office User</cp:lastModifiedBy>
  <dcterms:modified xsi:type="dcterms:W3CDTF">2021-03-17T21:29:11Z</dcterms:modified>
  <cp:revision>23</cp:revision>
  <dc:subject/>
  <dc:title>European Civilization II</dc:title>
</cp:coreProperties>
</file>