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Historians and the Origins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World War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C:\DOCUMENT\Marketing\New Logo.jpg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Fritz Fischer (196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y prepared to launch war to be a great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y encouraged Austrian war with Serbia even when it appeared it could not be local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nce war started, Germany had clear aims (though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the war) -- territorial gains in central and eastern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Ritter response to Fisch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y stumbled into war by supporting Austria-Hungary -- mistaken policy but essentially defe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John Röhl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upports Fischer 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 plan as early as the Agadir Crisis (191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http://imagelib.sussex.ac.uk/gallery2/d/5989-2/Rohl1.jpg"/>
          <p:cNvPicPr/>
          <p:nvPr/>
        </p:nvPicPr>
        <p:blipFill>
          <a:blip r:embed="rId1"/>
          <a:stretch/>
        </p:blipFill>
        <p:spPr>
          <a:xfrm>
            <a:off x="6172200" y="40384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gmont Zechlin and Karl Erdman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ethmann Hollweg took a “calculated risk” in July 1914 in order to gain a diplomatic victory, or, failing this, to fight a “defensive preventative war” with extremely limited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5" descr="http://www.ostdeutsche-biographie.de/images/zecheg96.jpg"/>
          <p:cNvPicPr/>
          <p:nvPr/>
        </p:nvPicPr>
        <p:blipFill>
          <a:blip r:embed="rId1"/>
          <a:stretch/>
        </p:blipFill>
        <p:spPr>
          <a:xfrm>
            <a:off x="3124080" y="3962520"/>
            <a:ext cx="2086200" cy="27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Other theor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nature of the international system -- all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war by tim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nation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imperialism (colonial rival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) economic rivalry (Marxist the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6) destruction of the Austr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Next session: World War I; the Russian Revolu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\\Storage\staff\Mark Lester\Pictures\pic21.bmp"/>
          <p:cNvPicPr/>
          <p:nvPr/>
        </p:nvPicPr>
        <p:blipFill>
          <a:blip r:embed="rId1"/>
          <a:stretch/>
        </p:blipFill>
        <p:spPr>
          <a:xfrm>
            <a:off x="2327400" y="0"/>
            <a:ext cx="44877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y did Germany lose World War 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were the causes of the Russian R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y was Lenin successful in establishinmg Bolshevik rule in Russ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Caus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Historiograph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has been historians’ views of the causes of World War I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Official Report (1919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ar was premeditated by Germany and her allies -- “acts deliberately committed to make the war unavoida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y and Austria-Hungary deliberately worked to defeat “all the many conciliatory proposals made by the Entente powers to avoid wa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rich Brandenburg (1920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lamed Russia for wanting to control the Balk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lamed France for wanting revenge for the loss of Alsace-Lor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1752480" cy="227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idney Fay (1930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o European power wanted war in 19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ll must share bl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6019920" y="3084480"/>
            <a:ext cx="2133360" cy="319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Gerhard Ritter (195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e documents do not permit attributing a premeditated desire for a European War on the part of any government or people in 1914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ar was inevi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each accepted the risk of w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security in alliance systems and ar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5" descr="http://blogs.ua.es/niccolomachiavelli/files/2010/05/gerhard_ritter.jpg"/>
          <p:cNvPicPr/>
          <p:nvPr/>
        </p:nvPicPr>
        <p:blipFill>
          <a:blip r:embed="rId1"/>
          <a:stretch/>
        </p:blipFill>
        <p:spPr>
          <a:xfrm>
            <a:off x="7086600" y="3733920"/>
            <a:ext cx="191916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rmany's Aims in the First World War: Fritz Fischer, Hajo Holborn, James  Joll: 8601404390531: Amazon.com: Books"/>
          <p:cNvPicPr/>
          <p:nvPr/>
        </p:nvPicPr>
        <p:blipFill>
          <a:blip r:embed="rId1"/>
          <a:stretch/>
        </p:blipFill>
        <p:spPr>
          <a:xfrm>
            <a:off x="2451240" y="260280"/>
            <a:ext cx="4241520" cy="633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3-24T18:00:39Z</dcterms:modified>
  <cp:revision>59</cp:revision>
  <dc:subject/>
  <dc:title>European Civilization II</dc:title>
</cp:coreProperties>
</file>