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6d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European Civilization II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The Paris Peace Settl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" name="Picture 4" descr=""/>
          <p:cNvPicPr/>
          <p:nvPr/>
        </p:nvPicPr>
        <p:blipFill>
          <a:blip r:embed="rId1"/>
          <a:stretch/>
        </p:blipFill>
        <p:spPr>
          <a:xfrm>
            <a:off x="1981080" y="609480"/>
            <a:ext cx="5257800" cy="1371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How was the reparations issue handled?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How were the Eastern boarders settled?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731960" y="0"/>
            <a:ext cx="508644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What were some of problems with the League of Nations?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In what ways was the Treaty of Versailles unsatisfactory?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752480" y="306360"/>
            <a:ext cx="6019920" cy="5873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Next session: The inter-war years: France, Britain, Italy and Eastern Europ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What were Germany’s immediate goals at the close of the wa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Wilson’s “Fourteen Points”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2484360" y="1752480"/>
            <a:ext cx="4041720" cy="4724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38080" y="923760"/>
            <a:ext cx="7543800" cy="4959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What was the “climate” as the conference began?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Gordon A. Craig “The Revolution in War and Diplomacy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What were some of the differences between the Paris Conference and the Congress of Vienna?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What were France’s goals at the conference?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84200" y="342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3141720" y="0"/>
            <a:ext cx="28782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16T08:13:12Z</dcterms:created>
  <dc:creator>The Lester Family</dc:creator>
  <dc:description/>
  <cp:keywords/>
  <dc:language>en-US</dc:language>
  <cp:lastModifiedBy>Microsoft Office User</cp:lastModifiedBy>
  <dcterms:modified xsi:type="dcterms:W3CDTF">2021-04-05T19:50:43Z</dcterms:modified>
  <cp:revision>14</cp:revision>
  <dc:subject/>
  <dc:title>European Civilization II</dc:title>
</cp:coreProperties>
</file>