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d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European Civilization II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Appeas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(1933-1939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" name="Picture 4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5257800" cy="1371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424240" y="92160"/>
            <a:ext cx="4294080" cy="6672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125800" y="0"/>
            <a:ext cx="48924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Reasons appeasement seemed a good polic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1) essential to avoid w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2) Italy and Germany had legitimate griev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3) economic cooperation between Britain and Germany would be good for bo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4) fear of Communist Russ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5) British econo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6) Britain not prepared for w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7) fear of “two front” war (Japa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8) lack of all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Hitler as the cause of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 World War II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1) Orthodox 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Hugh Trevor-Ro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2) not an evil monster 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A. J. P. Tay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Lewis Nam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Fritz Fisc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Karl-Detrich Brac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3) “middle of the road” 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Allan Bullo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Other theori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oviet Un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Paris Peace Settl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Economic interpre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Ide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ext session: World War II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or what is to blame for the Holocau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factors contributed to the victory of the Alli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Appease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1931 - Japanese invasion of Manchuri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1932-4 - Failure of World Disarmament       Confere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1935 - Anglo-German Naval Agre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1935 - Italian invasion of Abyssini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1936 - Reoccupation of the Rhine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1936-9 - Spanish Civil W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1938 - Anschlu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1938 - Munich Cri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447920" y="600120"/>
            <a:ext cx="6095880" cy="580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Two major views of the cause of World War II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1)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Appeas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war could have been avoided if only steps had been taken against dict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2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Hit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desire for expa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Appease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Why would leaders follow such a polic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Guilty Men by Cato the Younger: New - Picture 1 of 1"/>
          <p:cNvPicPr/>
          <p:nvPr/>
        </p:nvPicPr>
        <p:blipFill>
          <a:blip r:embed="rId1"/>
          <a:stretch/>
        </p:blipFill>
        <p:spPr>
          <a:xfrm>
            <a:off x="2590920" y="291960"/>
            <a:ext cx="4038480" cy="6156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Paperback Munich: Prologue to Tragedy Book"/>
          <p:cNvPicPr/>
          <p:nvPr/>
        </p:nvPicPr>
        <p:blipFill>
          <a:blip r:embed="rId1"/>
          <a:stretch/>
        </p:blipFill>
        <p:spPr>
          <a:xfrm>
            <a:off x="2286000" y="488880"/>
            <a:ext cx="4495680" cy="598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600200" y="544680"/>
            <a:ext cx="5943600" cy="5768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6T08:13:12Z</dcterms:created>
  <dc:creator>The Lester Family</dc:creator>
  <dc:description/>
  <cp:keywords/>
  <dc:language>en-US</dc:language>
  <cp:lastModifiedBy>Lester, Mark</cp:lastModifiedBy>
  <cp:lastPrinted>2000-11-28T22:55:38Z</cp:lastPrinted>
  <dcterms:modified xsi:type="dcterms:W3CDTF">2023-04-19T19:25:59Z</dcterms:modified>
  <cp:revision>13</cp:revision>
  <dc:subject/>
  <dc:title>European Civilization II</dc:title>
</cp:coreProperties>
</file>