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European Civilization I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The Cold W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25780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Yalta Conference (1945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1) creation of the United N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) entry of Soviet Union into war with Jap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3) treatment of Germ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4) establishment of new governments in liberated n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at were American goals at the end of the war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Support of self-deter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Free tr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Freedom of the se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No barriers to invest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at were the Soviet’s goals at the end of the war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1) Friendly states on boarders of the Soviet Un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at are some of the things that are pointed to as causes of the Cold War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ruman replaces Roosev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U.S. develops the atomic bo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oviet Unions develops the atomic bo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Feeling that each had violated previous agre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Differences of ide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James L. Gromly “Origins of the Cold War”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at is his view of Stalin’s ro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at is his view of the United States’ ro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at is his con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American “containment” polic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1) Truman Doctr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) Marshall Pl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3) NA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at was the Soviet repose to containmen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Revival of the Comintern (era of popular front ove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Berlin block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formation of the Warsaw Pa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The Atlantic Charter</a:t>
            </a:r>
            <a:br>
              <a:rPr sz="4400"/>
            </a:br>
            <a:r>
              <a:rPr b="0" lang="en-US" sz="3600" spc="-1" strike="noStrike">
                <a:solidFill>
                  <a:srgbClr val="fafd00"/>
                </a:solidFill>
                <a:latin typeface="Calibri"/>
                <a:ea typeface="Calibri"/>
              </a:rPr>
              <a:t>(July 1941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2" name="Picture 2" descr="80-G-26870: Atlantic Charter, August 1941"/>
          <p:cNvPicPr/>
          <p:nvPr/>
        </p:nvPicPr>
        <p:blipFill>
          <a:blip r:embed="rId1"/>
          <a:stretch/>
        </p:blipFill>
        <p:spPr>
          <a:xfrm>
            <a:off x="1447920" y="2133720"/>
            <a:ext cx="5981760" cy="452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Winston Churchill's edited copy of the final draft of the Atlantic Charter"/>
          <p:cNvPicPr/>
          <p:nvPr/>
        </p:nvPicPr>
        <p:blipFill>
          <a:blip r:embed="rId1"/>
          <a:stretch/>
        </p:blipFill>
        <p:spPr>
          <a:xfrm>
            <a:off x="2441520" y="112680"/>
            <a:ext cx="4260960" cy="6632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New Deal of the Day: New Deal Postage Stamps: FDR's Four Freedoms"/>
          <p:cNvPicPr/>
          <p:nvPr/>
        </p:nvPicPr>
        <p:blipFill>
          <a:blip r:embed="rId1"/>
          <a:stretch/>
        </p:blipFill>
        <p:spPr>
          <a:xfrm>
            <a:off x="914400" y="685800"/>
            <a:ext cx="6626160" cy="40132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804680" y="5334120"/>
            <a:ext cx="530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FDR State of the Union speech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anuary 6, 194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26" descr=""/>
          <p:cNvPicPr/>
          <p:nvPr/>
        </p:nvPicPr>
        <p:blipFill>
          <a:blip r:embed="rId1"/>
          <a:stretch/>
        </p:blipFill>
        <p:spPr>
          <a:xfrm>
            <a:off x="2489040" y="380880"/>
            <a:ext cx="4114800" cy="617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Yalta Conference (1945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4226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80880" y="1168560"/>
            <a:ext cx="8305920" cy="4562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Yalta Conference (1945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1) creation of the United N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) entry of Soviet Union into war with Jap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3) treatment of Germ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ocialism in Germany"/>
          <p:cNvPicPr/>
          <p:nvPr/>
        </p:nvPicPr>
        <p:blipFill>
          <a:blip r:embed="rId1"/>
          <a:stretch/>
        </p:blipFill>
        <p:spPr>
          <a:xfrm>
            <a:off x="2133720" y="477720"/>
            <a:ext cx="5181480" cy="557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6T08:13:12Z</dcterms:created>
  <dc:creator>The Lester Family</dc:creator>
  <dc:description/>
  <cp:keywords/>
  <dc:language>en-US</dc:language>
  <cp:lastModifiedBy>Microsoft Office User</cp:lastModifiedBy>
  <dcterms:modified xsi:type="dcterms:W3CDTF">2021-04-26T21:05:35Z</dcterms:modified>
  <cp:revision>12</cp:revision>
  <dc:subject/>
  <dc:title>European Civilization II</dc:title>
</cp:coreProperties>
</file>