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dustry, Imperialism,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and World War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oad to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New Logo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25780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44000" cy="622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dc:language>en-US</dc:language>
  <cp:lastModifiedBy>evo115</cp:lastModifiedBy>
  <dcterms:modified xsi:type="dcterms:W3CDTF">2004-02-06T15:57:11Z</dcterms:modified>
  <cp:revision>31</cp:revision>
  <dc:subject/>
  <dc:title>European Civilization II</dc:title>
</cp:coreProperties>
</file>