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dustry, Imperialism,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 and World War 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ace in our time”: Appeasement in the 1930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" name="New Logo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5257800" cy="13716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943600" y="609480"/>
            <a:ext cx="2286000" cy="137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523800"/>
            <a:ext cx="8458200" cy="5861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6T08:13:12Z</dcterms:created>
  <dc:creator>The Lester Family</dc:creator>
  <dc:description/>
  <dc:language>en-US</dc:language>
  <cp:lastModifiedBy>evo115</cp:lastModifiedBy>
  <dcterms:modified xsi:type="dcterms:W3CDTF">2004-04-27T18:13:02Z</dcterms:modified>
  <cp:revision>31</cp:revision>
  <dc:subject/>
  <dc:title>European Civilization II</dc:title>
</cp:coreProperties>
</file>