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Industry, Imperialism,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 and World War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Their finest hour”:  The Battle of Britain and World War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New Logo"/>
          <p:cNvPicPr/>
          <p:nvPr/>
        </p:nvPicPr>
        <p:blipFill>
          <a:blip r:embed="rId1"/>
          <a:stretch/>
        </p:blipFill>
        <p:spPr>
          <a:xfrm>
            <a:off x="685800" y="609480"/>
            <a:ext cx="525780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union jack"/>
          <p:cNvPicPr/>
          <p:nvPr/>
        </p:nvPicPr>
        <p:blipFill>
          <a:blip r:embed="rId2"/>
          <a:stretch/>
        </p:blipFill>
        <p:spPr>
          <a:xfrm>
            <a:off x="594360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Axis offensive widen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taly invades Greece (September 194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taly invades Egypt (September 194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l Alamein (October 194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6" name="Picture 2" descr="http://upload.wikimedia.org/wikipedia/commons/b/b9/El_Alamein_1942_-_British_infantry.jpg"/>
          <p:cNvPicPr/>
          <p:nvPr/>
        </p:nvPicPr>
        <p:blipFill>
          <a:blip r:embed="rId1"/>
          <a:stretch/>
        </p:blipFill>
        <p:spPr>
          <a:xfrm>
            <a:off x="2376360" y="1981080"/>
            <a:ext cx="43912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Fall of Singapor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 (February 194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peterthompson.net/Singapore_surrender.jpg"/>
          <p:cNvPicPr/>
          <p:nvPr/>
        </p:nvPicPr>
        <p:blipFill>
          <a:blip r:embed="rId2"/>
          <a:stretch/>
        </p:blipFill>
        <p:spPr>
          <a:xfrm>
            <a:off x="2057400" y="2187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“</a:t>
            </a: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trategic air offensive”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1" name="Picture 6" descr="http://www.astigan.com/wp-content/uploads/2008/10/the_goodness_overlooking_dresden.jpg"/>
          <p:cNvPicPr/>
          <p:nvPr/>
        </p:nvPicPr>
        <p:blipFill>
          <a:blip r:embed="rId1"/>
          <a:stretch/>
        </p:blipFill>
        <p:spPr>
          <a:xfrm>
            <a:off x="3048120" y="1981080"/>
            <a:ext cx="2849400" cy="442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D-day (June 1944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3" name="Picture 8" descr="http://www.orbitcast.com/archives/d-day.jpg"/>
          <p:cNvPicPr/>
          <p:nvPr/>
        </p:nvPicPr>
        <p:blipFill>
          <a:blip r:embed="rId1"/>
          <a:stretch/>
        </p:blipFill>
        <p:spPr>
          <a:xfrm>
            <a:off x="1779480" y="2057400"/>
            <a:ext cx="581832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Yalta (February 1945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5" name="Picture 10" descr="http://www.princeton.edu/~bsimpson/2008%20Hist%20380/Images/Yalta_summit_1945_with_Churchill,_Roosevelt,_Stalin.jpg"/>
          <p:cNvPicPr/>
          <p:nvPr/>
        </p:nvPicPr>
        <p:blipFill>
          <a:blip r:embed="rId1"/>
          <a:stretch/>
        </p:blipFill>
        <p:spPr>
          <a:xfrm>
            <a:off x="2071800" y="2019240"/>
            <a:ext cx="5000400" cy="403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367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ic455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2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Initial Phase: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Hitler’s Quick Victor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efeat of Po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hony W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vasion of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all of the Chamberlain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unki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all of 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454"/>
          <p:cNvPicPr/>
          <p:nvPr/>
        </p:nvPicPr>
        <p:blipFill>
          <a:blip r:embed="rId1"/>
          <a:stretch/>
        </p:blipFill>
        <p:spPr>
          <a:xfrm>
            <a:off x="1271520" y="0"/>
            <a:ext cx="6597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Battle of Britain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(August – September 1940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8" name="Picture 3" descr="pic458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409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365"/>
          <p:cNvPicPr/>
          <p:nvPr/>
        </p:nvPicPr>
        <p:blipFill>
          <a:blip r:embed="rId1"/>
          <a:stretch/>
        </p:blipFill>
        <p:spPr>
          <a:xfrm>
            <a:off x="1219320" y="1236600"/>
            <a:ext cx="6703920" cy="438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366"/>
          <p:cNvPicPr/>
          <p:nvPr/>
        </p:nvPicPr>
        <p:blipFill>
          <a:blip r:embed="rId1"/>
          <a:stretch/>
        </p:blipFill>
        <p:spPr>
          <a:xfrm>
            <a:off x="2011320" y="228600"/>
            <a:ext cx="511344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Lend lea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2" name="Picture 2" descr="http://www.theeasternfront.co.uk/Graphics/Gallery%20Lend%20Lease%20Shipment.jpg"/>
          <p:cNvPicPr/>
          <p:nvPr/>
        </p:nvPicPr>
        <p:blipFill>
          <a:blip r:embed="rId1"/>
          <a:stretch/>
        </p:blipFill>
        <p:spPr>
          <a:xfrm>
            <a:off x="1905120" y="2038320"/>
            <a:ext cx="5105160" cy="418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dc:language>en-US</dc:language>
  <cp:lastModifiedBy>Microsoft Office User</cp:lastModifiedBy>
  <dcterms:modified xsi:type="dcterms:W3CDTF">2021-04-14T21:53:35Z</dcterms:modified>
  <cp:revision>49</cp:revision>
  <dc:subject/>
  <dc:title>European Civilization II</dc:title>
</cp:coreProperties>
</file>