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Industry, Imperialism,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 and World War 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oward a new Jerusalem”: British Labour and the establishment of the “Socialist Commonwealt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5257800" cy="13716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5943600" y="609480"/>
            <a:ext cx="22860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46: Bank of England and civil a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47: coal m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48: public transport, electr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49: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rliament Act (194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Criticisms of nationaliz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) previous owners compensated exces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) kept same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) workers given no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) only 20% national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How did Labour attempt to restore trade and prosperity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Keynes miss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562720" cy="434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Marshall Plan 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                                      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2117880" cy="4203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1295280" y="2889360"/>
            <a:ext cx="4002120" cy="297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Sir Stafford Cripps (1889-1952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005280" cy="429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066680" y="326880"/>
            <a:ext cx="6858000" cy="6343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Creation of the “Welfare State”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A state in which the government tries to provide the </a:t>
            </a:r>
            <a:r>
              <a:rPr b="0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best possible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 social services for every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8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1) National Health Service (194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638680" cy="363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627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1) National Health Service (194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) National Insurance Act (194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3) National Assistance Act (1948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4) National Insurance Industrial Injuries Act (194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5) Edu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6) Hous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7) Trade Disputes Act (194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May 7, 1945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5181840" cy="433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Indian Independen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15000" cy="443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Britain withdraws from Palest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Picture 2" descr="The British flag is lowered for the last time in Haifa, 1948. (Screenshot of Newsreel footage from YouTube)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09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Why did Labour lose the 1951 General Election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6204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onservatives  3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Labour  2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Liberals 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ndependents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opular vote:  Labour  13.9 mil.; Conservatives 13.7 m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Why did Labour lose the 1951 General Election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1) country tired of rationing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) Ir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3) Conservatives’ housing pr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4)  Labour divi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5)  general air of exhaus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945 El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Labour  39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onservatives  2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Liberals  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Rejection of Churchill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163760" cy="4291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Labour’s objectiv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a welfar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nation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ull emplo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pen foreign policy based on co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conomic and other proble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USA had ended a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/3 of trade had disappea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uch of merchant fleet 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lack of ca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old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Clement Attlee (1883-1967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824280" cy="486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rnest Bevin (1881-1951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30600" y="225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6" descr="Ernest Bevin | British labour leader and statesman | Britannica"/>
          <p:cNvPicPr/>
          <p:nvPr/>
        </p:nvPicPr>
        <p:blipFill>
          <a:blip r:embed="rId1"/>
          <a:stretch/>
        </p:blipFill>
        <p:spPr>
          <a:xfrm>
            <a:off x="2730600" y="1805040"/>
            <a:ext cx="3425760" cy="4305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Why and how did Labour introduce a policy of nationalization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ould permit efficient planning and cooperation between indu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ould ensure better treatment and better conditions for wor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08:13:12Z</dcterms:created>
  <dc:creator>The Lester Family</dc:creator>
  <dc:description/>
  <dc:language>en-US</dc:language>
  <cp:lastModifiedBy>Microsoft Office User</cp:lastModifiedBy>
  <dcterms:modified xsi:type="dcterms:W3CDTF">2022-04-25T20:34:00Z</dcterms:modified>
  <cp:revision>25</cp:revision>
  <dc:subject/>
  <dc:title>European Civilization II</dc:title>
</cp:coreProperties>
</file>