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Industry, Imperialism,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 and World War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Years of retreat”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Britain 1951-197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5257800" cy="1371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2) extension of the welfare st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enefits ra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ental Health Act 195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3) educ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6000 new schools; 11 new univers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On what grounds can  Conservative policies be criticized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1) Were they Conservative achievements or due to other factors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ore connected to improvement in world t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growth could have actually have been better without some poli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2) “stop” – “go” approach to the economy disastro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nterconnected problem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Economic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Inf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Balance of pay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3) Failure to join the European communit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61 application den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4) Failure to direct enough cash into important industr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tops” discourage inve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oo much capital investe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oo much spent of defen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143000" y="1225440"/>
            <a:ext cx="6705720" cy="450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Harold Wilson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1964-197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7687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balance of payments defic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devaluation of the pound from $2.80 to $2.40 (November 196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71480" y="380880"/>
            <a:ext cx="3632400" cy="6019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332424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violence in Northern Irelan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79520" y="2193840"/>
            <a:ext cx="4583160" cy="3687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achievements of the Labour governmen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ntroduced rent rebat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abolition of the death pen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mbudsman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Race Relations Act (196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mproved living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Edward Heath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1970-1974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639880" y="2413080"/>
            <a:ext cx="3864240" cy="32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371600" y="1063800"/>
            <a:ext cx="6400800" cy="47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ndustrial Relations Act (197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disturbances continue in Ire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il cr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iners’ strike (197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Harold Wilson 1974-76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James Callaghan 1976-79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2974680" cy="392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What was wrong with the British economy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ritish industry was not producing enough goods for export at the right pr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400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792680" y="1752480"/>
            <a:ext cx="43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Calibri"/>
                <a:ea typeface="Calibri"/>
              </a:rPr>
              <a:t>“</a:t>
            </a:r>
            <a:r>
              <a:rPr b="0" lang="en-US" sz="3600" spc="-1" strike="noStrike">
                <a:solidFill>
                  <a:srgbClr val="fafd00"/>
                </a:solidFill>
                <a:latin typeface="Calibri"/>
                <a:ea typeface="Calibri"/>
              </a:rPr>
              <a:t>winter of discontent”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Calibri"/>
                <a:ea typeface="Calibri"/>
              </a:rPr>
              <a:t>            </a:t>
            </a:r>
            <a:r>
              <a:rPr b="0" lang="en-US" sz="3600" spc="-1" strike="noStrike">
                <a:solidFill>
                  <a:srgbClr val="fafd00"/>
                </a:solidFill>
                <a:latin typeface="Calibri"/>
                <a:ea typeface="Calibri"/>
              </a:rPr>
              <a:t>1979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Churchill </a:t>
            </a:r>
            <a:r>
              <a:rPr b="0" i="1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again</a:t>
            </a: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!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1951-1955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660760" y="2106720"/>
            <a:ext cx="3821040" cy="386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Anthony Eden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1955-195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503520" y="1905120"/>
            <a:ext cx="2063880" cy="441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Suez Cri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905120" y="1881360"/>
            <a:ext cx="5333760" cy="43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Harold Macmillan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Calibri"/>
                <a:ea typeface="Calibri"/>
              </a:rPr>
              <a:t>1957-1963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34792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09480" y="1539720"/>
            <a:ext cx="8001000" cy="374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What did the Conservative governments achieve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Calibri"/>
                <a:ea typeface="Calibri"/>
              </a:rPr>
              <a:t>1) improved living standar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951-1963 wages rise %72 (while prices rise only %4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ncreased house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08:13:12Z</dcterms:created>
  <dc:creator>The Lester Family</dc:creator>
  <dc:description/>
  <dc:language>en-US</dc:language>
  <cp:lastModifiedBy>Microsoft Office User</cp:lastModifiedBy>
  <dcterms:modified xsi:type="dcterms:W3CDTF">2021-04-22T13:13:21Z</dcterms:modified>
  <cp:revision>39</cp:revision>
  <dc:subject/>
  <dc:title>European Civilization II</dc:title>
</cp:coreProperties>
</file>