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563C-5659-4272-9D65-4CFF37A95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F6A3-F99E-4DF3-95A5-488B5B30E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FCFA-DB17-4380-BD84-1B1573C64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B731-CE9B-4870-9DF0-A65303A7A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2C49-1959-4E0E-BDDB-CFB78AE42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C78C-CD6D-4A94-A3F2-35A1CF8E1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512E-5355-4128-9BEB-E0BA59C3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857E-0648-44B9-9B9E-EAF51F099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FFE9-AC10-459B-9227-B8A35B809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930A-8294-46EA-A88E-A7214834F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BB44-7BCE-4D2E-88BB-4C64E3CD4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B289-79E3-4EF9-A1C4-B4BE48B12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6906-53BB-4363-8DFF-7EB3A3934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BE489-FECD-4AC1-AA66-FF6A07564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E1BA-D586-4F1A-BDAD-87B43F24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1C67B-7133-4CC8-9F50-F1107B82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6DE10-91C6-4031-BBD4-70DA9B382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55AD-A9AE-4BE8-BB02-51B1D23E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7D1BE-ED05-43CF-A3C3-4C0EC44A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8E61-520A-4563-AF64-0BE9C2459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578C9-21BC-435F-8DB1-40FFAC8F8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00AF-5510-4257-A33A-211D0E9E9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AAB6-62D8-4087-BCC9-EA3439BA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C842-040C-485D-A60E-6AA11667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A9100-4B7A-4AEF-9E79-85700C4A0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88FE-416F-4B0C-B0C8-FFF7F76C7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orld Pover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Rokia or Saving the World?</a:t>
            </a:r>
            <a:endParaRPr b="0" lang="en-US" sz="3200" spc="-1" strike="noStrike">
              <a:solidFill>
                <a:srgbClr val="000000"/>
              </a:solidFill>
              <a:latin typeface="Arial"/>
            </a:endParaRPr>
          </a:p>
        </p:txBody>
      </p:sp>
      <p:sp>
        <p:nvSpPr>
          <p:cNvPr id="66"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xperiment very much like the one you just participated in, at Penn, students were asked to contribute to Save the Children after reading either a general text, or the story of Rokia</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lyer raised $1.16 per student on averag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kia flyer raised $2.83 per student on average</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 problem makes us overwhelmed, depressed, and discouraged</a:t>
            </a:r>
            <a:endParaRPr b="0" lang="en-US" sz="2800" spc="-1" strike="noStrike">
              <a:solidFill>
                <a:srgbClr val="000000"/>
              </a:solidFill>
              <a:latin typeface="Arial"/>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68" name="PlaceHolder 2"/>
          <p:cNvSpPr>
            <a:spLocks noGrp="1"/>
          </p:cNvSpPr>
          <p:nvPr>
            <p:ph type="subTitle"/>
          </p:nvPr>
        </p:nvSpPr>
        <p:spPr>
          <a:xfrm>
            <a:off x="304920" y="1371600"/>
            <a:ext cx="8686800" cy="4191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Not ask the big questions: </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ltimate cause of povert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ee markets the answe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mocracy good for the poo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id should we g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70"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 more specific question: “</a:t>
            </a:r>
            <a:r>
              <a:rPr b="1" lang="en-US" sz="2800" spc="-1" strike="noStrike">
                <a:solidFill>
                  <a:srgbClr val="000000"/>
                </a:solidFill>
                <a:latin typeface="Arial"/>
              </a:rPr>
              <a:t>WHAT”</a:t>
            </a:r>
            <a:r>
              <a:rPr b="0" lang="en-US" sz="2800" spc="-1" strike="noStrike">
                <a:solidFill>
                  <a:srgbClr val="000000"/>
                </a:solidFill>
                <a:latin typeface="Arial"/>
              </a:rPr>
              <a:t> aid?</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deeper into these problems (health, education, food, credit, etc.)</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ally poverty traps? When are we likely to see them?</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 poor behaving the way they do? Are they things that could improves their lives? What are they? What are the barrier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echanism that underlies the persistence of poverty? What types of interventions have been tried or could be tried? What has been effective and what ha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people living in poor countries like Kenya, Ethiopia, and Somalia. Please write your view on how poverty might look like in these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atch the following two videos (apologies for the poor video qualit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lie/Sacs Videos (2005)</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uUHf_kOUM74&amp;ab_channel=gaartsen</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OpCnikxLfkE&amp;ab_channel=gaartsen</a:t>
            </a:r>
            <a:endParaRPr b="0" lang="en-US" sz="24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atching the two videos, please write again your view on poverty in poo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 (due 3/29)</a:t>
            </a:r>
            <a:r>
              <a:rPr b="0" lang="en-US" sz="2800" spc="-1" strike="noStrike">
                <a:solidFill>
                  <a:srgbClr val="000000"/>
                </a:solidFill>
                <a:latin typeface="Arial"/>
              </a:rPr>
              <a:t>: Please listen to the William Easterly talk below and summarize his five major points in a page-long summary.</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econtalk.org/easterly-on-growth-poverty-and-aid/</a:t>
            </a:r>
            <a:endParaRPr b="0" lang="en-US" sz="24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is talk in YouTub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Bn6I3s7mShI&amp;ab_channel=EconTalk</a:t>
            </a:r>
            <a:endParaRPr b="0" lang="en-US" sz="24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we learn about the magnitude of the problem of global poverty from Jolie/Sacs videos and Easterly t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0"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India is 16 rupees per person and per day. This is also the average poverty line for the 50 countries where most of the poor live.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upees is 36 cents…. But life is cheap in India, so if we correct for world prices, it corresponds to 99 cents (this is what we mean when we talk about “life under a dollar a day”):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living with 99 cents in the U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the US is 14 dollars per da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DP per capita in the US: $47,400:$129 dollar per person and per da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million people in the world live with less than 99 cents per day</a:t>
            </a: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2"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a:t>
            </a:r>
            <a:endParaRPr b="0" lang="en-US" sz="28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4"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t is also</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health </a:t>
            </a:r>
            <a:r>
              <a:rPr b="0" lang="en-US" sz="2400" spc="-1" strike="noStrike">
                <a:solidFill>
                  <a:srgbClr val="000000"/>
                </a:solidFill>
                <a:latin typeface="Arial"/>
              </a:rPr>
              <a:t>: 9 million children every year die under the age of 5, mainly of preventable disease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education </a:t>
            </a:r>
            <a:r>
              <a:rPr b="0" lang="en-US" sz="2400" spc="-1" strike="noStrike">
                <a:solidFill>
                  <a:srgbClr val="000000"/>
                </a:solidFill>
                <a:latin typeface="Arial"/>
              </a:rPr>
              <a:t>: 50% of children enrolled in school in India cannot read a simple paragrap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quality of life</a:t>
            </a:r>
            <a:r>
              <a:rPr b="0" lang="en-US" sz="2400" spc="-1" strike="noStrike">
                <a:solidFill>
                  <a:srgbClr val="000000"/>
                </a:solidFill>
                <a:latin typeface="Arial"/>
              </a:rPr>
              <a:t>: hours collecting water instead of playing, working, learning.</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to realize your ambition</a:t>
            </a:r>
            <a:r>
              <a:rPr b="0" lang="en-US" sz="2400" spc="-1" strike="noStrike">
                <a:solidFill>
                  <a:srgbClr val="000000"/>
                </a:solidFill>
                <a:latin typeface="Arial"/>
              </a:rPr>
              <a:t>: Get a loan for a business, be insured for the risk of your farm.</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as freedom (Amartya Sen)</a:t>
            </a:r>
            <a:endParaRPr b="0" lang="en-US" sz="2800" spc="-1" strike="noStrike">
              <a:solidFill>
                <a:srgbClr val="000000"/>
              </a:solidFill>
              <a:latin typeface="Arial"/>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youtube.com/watch?v=rKKs1rqdlmo&amp;ab_channel=MarginalRevolutionUniversity</a:t>
            </a:r>
            <a:endParaRPr b="0" lang="en-US" sz="20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3-29T14:21:40Z</dcterms:modified>
  <cp:revision>82</cp:revision>
  <dc:subject/>
  <dc:title>Chapter 5: Wealth</dc:title>
</cp:coreProperties>
</file>