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F2B5-017D-42BB-B066-BE461B279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839A-FEAB-4EB1-8528-C06E9E314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413F-A908-4B1A-8059-73CD3621A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853F-46D5-4FA8-A53A-F47287372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F0A5-7D74-45A1-9254-BC23B3822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443D-BB4E-4CE5-97D0-4EAD8ED68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164C-DB43-44EA-88DE-5B2D9D986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7DF6-07F9-4B50-8DF9-1A93D194F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D6BA-3D11-4A26-9ACE-87D9C9041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0362-FD74-4F9B-8850-3AA083000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B572-9909-44C0-B9EF-8CB0A6256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AFD7-1BBB-41BF-A426-11E210A98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83FF-0A41-47F7-BE99-D1C09ADD2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1BE7F-04AE-43C9-AAF6-6BE53B270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0D10C-250A-4B96-8DA5-62B4A5DAF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0960F-E976-4512-AE73-8905876DD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82619-D330-4899-A931-4D5B0D6FA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9038F-B913-4840-8832-42A755B49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16D94-DCA7-4952-BBFF-1BCBB1C8A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1F57E-C925-46F1-85D9-16C63BDBA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94817-ECD6-4ECC-94CD-B96A88500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8073A-24DC-463A-ABEF-C9B83A53C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A00A-CC28-42A1-BC38-6F6B5158D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FF928-A3BD-4959-9D0A-5E16F3D84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985F4-6B4C-4A35-A9B4-06B3E0870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BC3A-1401-444B-87F9-63044A76EC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09680"/>
            <a:ext cx="6858000" cy="1300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orld Pover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ing Rokia or Saving the World?</a:t>
            </a:r>
            <a:endParaRPr b="0" lang="en-US" sz="3200" spc="-1" strike="noStrike">
              <a:solidFill>
                <a:srgbClr val="000000"/>
              </a:solidFill>
              <a:latin typeface="Arial"/>
            </a:endParaRPr>
          </a:p>
        </p:txBody>
      </p:sp>
      <p:sp>
        <p:nvSpPr>
          <p:cNvPr id="66" name="PlaceHolder 2"/>
          <p:cNvSpPr>
            <a:spLocks noGrp="1"/>
          </p:cNvSpPr>
          <p:nvPr>
            <p:ph type="subTitle"/>
          </p:nvPr>
        </p:nvSpPr>
        <p:spPr>
          <a:xfrm>
            <a:off x="304920" y="990720"/>
            <a:ext cx="8686800" cy="533376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xperiment very much like the one you just participated in, at Penn, students were asked to contribute to Save the Children after reading either a general text, or the story of Rokia</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flyer raised $1.16 per student on averag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kia flyer raised $2.83 per student on average</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 problem makes us overwhelmed, depressed, and discouraged</a:t>
            </a:r>
            <a:endParaRPr b="0" lang="en-US" sz="2800" spc="-1" strike="noStrike">
              <a:solidFill>
                <a:srgbClr val="000000"/>
              </a:solidFill>
              <a:latin typeface="Arial"/>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pproach in This Course</a:t>
            </a:r>
            <a:endParaRPr b="0" lang="en-US" sz="3200" spc="-1" strike="noStrike">
              <a:solidFill>
                <a:srgbClr val="000000"/>
              </a:solidFill>
              <a:latin typeface="Arial"/>
            </a:endParaRPr>
          </a:p>
        </p:txBody>
      </p:sp>
      <p:sp>
        <p:nvSpPr>
          <p:cNvPr id="68" name="PlaceHolder 2"/>
          <p:cNvSpPr>
            <a:spLocks noGrp="1"/>
          </p:cNvSpPr>
          <p:nvPr>
            <p:ph type="subTitle"/>
          </p:nvPr>
        </p:nvSpPr>
        <p:spPr>
          <a:xfrm>
            <a:off x="304920" y="1371600"/>
            <a:ext cx="8686800" cy="4191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Not ask the big questions: </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ltimate cause of poverty?</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ee markets the answer?</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mocracy good for the poor?</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id should we g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pproach in This Course</a:t>
            </a:r>
            <a:endParaRPr b="0" lang="en-US" sz="3200" spc="-1" strike="noStrike">
              <a:solidFill>
                <a:srgbClr val="000000"/>
              </a:solidFill>
              <a:latin typeface="Arial"/>
            </a:endParaRPr>
          </a:p>
        </p:txBody>
      </p:sp>
      <p:sp>
        <p:nvSpPr>
          <p:cNvPr id="70" name="PlaceHolder 2"/>
          <p:cNvSpPr>
            <a:spLocks noGrp="1"/>
          </p:cNvSpPr>
          <p:nvPr>
            <p:ph type="subTitle"/>
          </p:nvPr>
        </p:nvSpPr>
        <p:spPr>
          <a:xfrm>
            <a:off x="304920" y="990720"/>
            <a:ext cx="8686800" cy="533376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 more specific question: “</a:t>
            </a:r>
            <a:r>
              <a:rPr b="1" lang="en-US" sz="2800" spc="-1" strike="noStrike">
                <a:solidFill>
                  <a:srgbClr val="000000"/>
                </a:solidFill>
                <a:latin typeface="Arial"/>
              </a:rPr>
              <a:t>WHAT”</a:t>
            </a:r>
            <a:r>
              <a:rPr b="0" lang="en-US" sz="2800" spc="-1" strike="noStrike">
                <a:solidFill>
                  <a:srgbClr val="000000"/>
                </a:solidFill>
                <a:latin typeface="Arial"/>
              </a:rPr>
              <a:t> aid?</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 deeper into these problems (health, education, food, credit, etc.)</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really poverty traps? When are we likely to see them?</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the poor behaving the way they do? Are they things that could improves their lives? What are they? What are the barriers?</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echanism that underlies the persistence of poverty? What types of interventions have been tried or could be tried? What has been effective and what has n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0"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e people living in poor countries like Kenya, Ethiopia, and Somalia. Please write your view on how poverty might look like in these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atch the following two videos (apologies for the poor video qualit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lie/Sacs Videos (2005)</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uUHf_kOUM74&amp;ab_channel=gaartsen</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OpCnikxLfkE&amp;ab_channel=gaartsen</a:t>
            </a:r>
            <a:endParaRPr b="0" lang="en-US" sz="2400" spc="-1" strike="noStrike">
              <a:solidFill>
                <a:srgbClr val="000000"/>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4"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watching the two videos, please write again your view on poverty in poor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work (due 3/29)</a:t>
            </a:r>
            <a:r>
              <a:rPr b="0" lang="en-US" sz="2800" spc="-1" strike="noStrike">
                <a:solidFill>
                  <a:srgbClr val="000000"/>
                </a:solidFill>
                <a:latin typeface="Arial"/>
              </a:rPr>
              <a:t>: Please listen to the William Easterly talk below and summarize his five major points in a page-long summary.</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econtalk.org/easterly-on-growth-poverty-and-aid/</a:t>
            </a:r>
            <a:endParaRPr b="0" lang="en-US" sz="24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is talk in YouTub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Bn6I3s7mShI&amp;ab_channel=EconTalk</a:t>
            </a:r>
            <a:endParaRPr b="0" lang="en-US" sz="24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we learn about the magnitude of the problem of global poverty from Jolie/Sacs videos and Easterly tal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0"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verty Line in India is 16 rupees per person and per day. This is also the average poverty line for the 50 countries where most of the poor live.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rupees is 36 cents…. But life is cheap in India, so if we correct for world prices, it corresponds to 99 cents (this is what we mean when we talk about “life under a dollar a day”):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e living with 99 cents in the US</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verty line in the US is 14 dollars per day.</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GDP per capita in the US: $47,400:$129 dollar per person and per da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 million people in the world live with less than 99 cents per day</a:t>
            </a: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2"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verty only the lack of income or wealth?</a:t>
            </a:r>
            <a:endParaRPr b="0" lang="en-US" sz="28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4"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verty only the lack of income or wealth?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t is also</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health </a:t>
            </a:r>
            <a:r>
              <a:rPr b="0" lang="en-US" sz="2400" spc="-1" strike="noStrike">
                <a:solidFill>
                  <a:srgbClr val="000000"/>
                </a:solidFill>
                <a:latin typeface="Arial"/>
              </a:rPr>
              <a:t>: 9 million children every year die under the age of 5, mainly of preventable disease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education </a:t>
            </a:r>
            <a:r>
              <a:rPr b="0" lang="en-US" sz="2400" spc="-1" strike="noStrike">
                <a:solidFill>
                  <a:srgbClr val="000000"/>
                </a:solidFill>
                <a:latin typeface="Arial"/>
              </a:rPr>
              <a:t>: 50% of children enrolled in school in India cannot read a simple paragraph</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quality of life</a:t>
            </a:r>
            <a:r>
              <a:rPr b="0" lang="en-US" sz="2400" spc="-1" strike="noStrike">
                <a:solidFill>
                  <a:srgbClr val="000000"/>
                </a:solidFill>
                <a:latin typeface="Arial"/>
              </a:rPr>
              <a:t>: hours collecting water instead of playing, working, learning.</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y to realize your ambition</a:t>
            </a:r>
            <a:r>
              <a:rPr b="0" lang="en-US" sz="2400" spc="-1" strike="noStrike">
                <a:solidFill>
                  <a:srgbClr val="000000"/>
                </a:solidFill>
                <a:latin typeface="Arial"/>
              </a:rPr>
              <a:t>: Get a loan for a business, be insured for the risk of your farm.</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ment as freedom (Amartya Sen)</a:t>
            </a:r>
            <a:endParaRPr b="0" lang="en-US" sz="2800" spc="-1" strike="noStrike">
              <a:solidFill>
                <a:srgbClr val="000000"/>
              </a:solidFill>
              <a:latin typeface="Arial"/>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www.youtube.com/watch?v=rKKs1rqdlmo&amp;ab_channel=MarginalRevolutionUniversity</a:t>
            </a:r>
            <a:endParaRPr b="0" lang="en-US" sz="2000" spc="-1" strike="noStrike">
              <a:solidFill>
                <a:srgbClr val="000000"/>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20:07:06Z</dcterms:created>
  <dc:creator>Wolff</dc:creator>
  <dc:description/>
  <dc:language>en-US</dc:language>
  <cp:lastModifiedBy>Ghimire, Umesh</cp:lastModifiedBy>
  <dcterms:modified xsi:type="dcterms:W3CDTF">2023-03-29T14:21:40Z</dcterms:modified>
  <cp:revision>82</cp:revision>
  <dc:subject/>
  <dc:title>Chapter 5: Wealth</dc:title>
</cp:coreProperties>
</file>