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1195-D0DA-4A6B-BE36-15E92666E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BA17-0EB8-4EFE-B810-6A149BFDB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FB38-DD0D-45E6-9BB3-BF0113D33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E540-57FC-49E1-933B-A8CCC381E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11F1-0266-4778-8B46-A8C59AC3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54A7-07E5-4B0C-ACFB-7A5965627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A938-966E-48CA-9B3E-87E91AB58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780C-1D15-4CCF-954F-F712AFC9B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3AD2-5498-45A9-9D3E-B61F68FFE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E400-1AB2-4C35-B143-8F3ADD364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FDDA-0013-4CB4-9244-AA6DA130E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02F2-1A71-4517-9F3D-3CA654F33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4999-7F39-45E9-A17F-3FCBFAE72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0331-6B2B-4072-89E1-E85270956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4DAA-BC35-4B49-90EC-5A60F167E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B3A8-2CDC-4EFC-9BD4-2EF9D53FE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B91E-373B-492A-9D27-57AC4746A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5E46-D36F-4C50-A97D-8E012BD3C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A3A2-7EDC-4025-B6C8-83E8B75A5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B724-8598-4261-9A01-CBB4A91E9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EBCD4-D9FA-4FF8-90DE-EE1B70622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49CA-9270-4EE0-B536-142FB2293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F07D5-BB2D-4A3D-8B4A-94394405E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403AD-26E8-4E9F-B142-0D37B2F0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F25D-32EE-4794-B12A-BBF65A45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EB513-E758-48CB-A543-2536DEFF9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6A69-FD49-4AD0-908E-E9135BC1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8E04A-EA0B-47A7-AE3F-B1A72F93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87F25-50F4-438E-BFEA-629D3EEB5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54F2-8834-4DF6-8BDB-920532EA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92D9-130A-45E1-918D-B8043BDD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B2C8-AF72-45FE-A623-F4364746D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F8AD-9DFA-4D51-B0E6-A8B1B64942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v=CrYURIV8IV8&amp;ab_channel=gaartsen" TargetMode="External"/><Relationship Id="rId2" Type="http://schemas.openxmlformats.org/officeDocument/2006/relationships/hyperlink" Target="https://www.youtube.com/watch?v=CrYURIV8IV8&amp;ab_channel=gaartsen" TargetMode="External"/><Relationship Id="rId3" Type="http://schemas.openxmlformats.org/officeDocument/2006/relationships/hyperlink" Target="https://www.youtube.com/watch?v=CrYURIV8IV8&amp;ab_channel=gaartsen"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nutritionintl.org/" TargetMode="External"/><Relationship Id="rId2" Type="http://schemas.openxmlformats.org/officeDocument/2006/relationships/hyperlink" Target="https://www.harvestplus.org/"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iesin.columbia.edu/binaries/web/global/news/2010/mvp_midterm_report.pd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overty Tra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overty Trap</a:t>
            </a:r>
            <a:endParaRPr b="0" lang="en-US" sz="3200" spc="-1" strike="noStrike">
              <a:solidFill>
                <a:srgbClr val="000000"/>
              </a:solidFill>
              <a:latin typeface="Arial"/>
            </a:endParaRPr>
          </a:p>
        </p:txBody>
      </p:sp>
      <p:sp>
        <p:nvSpPr>
          <p:cNvPr id="67"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ncave relationship between income today and income tomorrow there is no poverty trap!</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564000" y="906480"/>
            <a:ext cx="5351400" cy="4740120"/>
          </a:xfrm>
          <a:prstGeom prst="rect">
            <a:avLst/>
          </a:prstGeom>
          <a:ln w="0">
            <a:noFill/>
          </a:ln>
        </p:spPr>
      </p:pic>
      <p:sp>
        <p:nvSpPr>
          <p:cNvPr id="69" name="TextBox 7"/>
          <p:cNvSpPr/>
          <p:nvPr/>
        </p:nvSpPr>
        <p:spPr>
          <a:xfrm>
            <a:off x="0" y="990720"/>
            <a:ext cx="3411360" cy="3751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poor benefit more from a bit of an increase in their income than the less poor ones. This leads to an inverted L-shape (or a concave) relationship between income today and income tomo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 and Poverty Trap</a:t>
            </a:r>
            <a:endParaRPr b="0" lang="en-US" sz="3200" spc="-1" strike="noStrike">
              <a:solidFill>
                <a:srgbClr val="000000"/>
              </a:solidFill>
              <a:latin typeface="Arial"/>
            </a:endParaRPr>
          </a:p>
        </p:txBody>
      </p:sp>
      <p:sp>
        <p:nvSpPr>
          <p:cNvPr id="71" name="PlaceHolder 2"/>
          <p:cNvSpPr>
            <a:spLocks noGrp="1"/>
          </p:cNvSpPr>
          <p:nvPr>
            <p:ph type="subTitle"/>
          </p:nvPr>
        </p:nvSpPr>
        <p:spPr>
          <a:xfrm>
            <a:off x="456840" y="1371600"/>
            <a:ext cx="8534520" cy="541008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work (due 4/10)</a:t>
            </a:r>
            <a:r>
              <a:rPr b="0" lang="en-US" sz="2400" spc="-1" strike="noStrike">
                <a:solidFill>
                  <a:srgbClr val="000000"/>
                </a:solidFill>
                <a:latin typeface="Arial"/>
              </a:rPr>
              <a:t>: Think about Pak Solhin’s situation.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he in a poverty trap? If yes, what might have led to thi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why it is possible that he is not in a poverty tra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xplain how his situation would evolve (based on the graphs you saw in the previous slides) in the following two situation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in a poverty trap</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NOT in a poverty tra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earning about the Pak Solhin story, would you say there are no poverty traps in the world? Would you say there definitely are? Explain why or why no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3"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pacity curve is above the 45 degree line, there is no poverty trap either!</a:t>
            </a:r>
            <a:endParaRPr b="0" lang="en-US" sz="2400" spc="-1" strike="noStrike">
              <a:solidFill>
                <a:srgbClr val="000000"/>
              </a:solidFill>
              <a:latin typeface="Arial"/>
            </a:endParaRPr>
          </a:p>
        </p:txBody>
      </p:sp>
      <p:pic>
        <p:nvPicPr>
          <p:cNvPr id="74" name="Picture 2" descr=""/>
          <p:cNvPicPr/>
          <p:nvPr/>
        </p:nvPicPr>
        <p:blipFill>
          <a:blip r:embed="rId1"/>
          <a:stretch/>
        </p:blipFill>
        <p:spPr>
          <a:xfrm>
            <a:off x="1486080" y="847800"/>
            <a:ext cx="5676840" cy="47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pic>
        <p:nvPicPr>
          <p:cNvPr id="76"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8"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Everybody ends up poor here!</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es a Poverty Trap Emerge?</a:t>
            </a:r>
            <a:endParaRPr b="0" lang="en-US" sz="3200" spc="-1" strike="noStrike">
              <a:solidFill>
                <a:srgbClr val="000000"/>
              </a:solidFill>
              <a:latin typeface="Arial"/>
            </a:endParaRPr>
          </a:p>
        </p:txBody>
      </p:sp>
      <p:sp>
        <p:nvSpPr>
          <p:cNvPr id="81"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he different curves, there is something specific about figure 1(slide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Shaped curve intersects the 45 degree line from below.</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or people, income grows slowly, so slowly that income tomorrow is below income today: the poor become poorer (poverty trap) – up to a point</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ome point, the rate of growth of income start increasing: income tomorrow becomes larger than income today: the middle class and the somewhat rich continue to be ric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the key thing to look for when thinking about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 double feedback loop (e.g. poor nutrition lowers your income, and low incomes means you cannot buy a lot of food) does not always need there to be a poverty trap: the relationship has to be sufficiently strong: this is an error many policy makers make! </a:t>
            </a: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ce of Poverty Trap</a:t>
            </a:r>
            <a:endParaRPr b="0" lang="en-US" sz="3200" spc="-1" strike="noStrike">
              <a:solidFill>
                <a:srgbClr val="000000"/>
              </a:solidFill>
              <a:latin typeface="Arial"/>
            </a:endParaRPr>
          </a:p>
        </p:txBody>
      </p:sp>
      <p:sp>
        <p:nvSpPr>
          <p:cNvPr id="83" name="PlaceHolder 2"/>
          <p:cNvSpPr>
            <a:spLocks noGrp="1"/>
          </p:cNvSpPr>
          <p:nvPr>
            <p:ph type="subTitle"/>
          </p:nvPr>
        </p:nvSpPr>
        <p:spPr>
          <a:xfrm>
            <a:off x="76320" y="990720"/>
            <a:ext cx="8991360" cy="579096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ff Sachs/Angelina Jolie video pointed out to several possible poverty traps.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rmer Kennedy and his fertilizer: what could be his problem?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her of a large family and the nutrition of her children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Paul and the internet connec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of these cases, what do we need to know to decide whether there is a poverty trap or n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else could we find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you forgot, here are the videos</a:t>
            </a:r>
            <a:endParaRPr b="0" lang="en-US" sz="24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s://www.youtube.com/watch?v=uUHf_kOUM74&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youtube.com/watch?v=OpCnikxLfkE&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youtube.com/watch?v=CrYURIV8IV8&amp;ab_channel=gaartsen</a:t>
            </a:r>
            <a:endParaRPr b="0" lang="en-US" sz="18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Implications of a Poverty Trap</a:t>
            </a:r>
            <a:endParaRPr b="0" lang="en-US" sz="3200" spc="-1" strike="noStrike">
              <a:solidFill>
                <a:srgbClr val="000000"/>
              </a:solidFill>
              <a:latin typeface="Arial"/>
            </a:endParaRPr>
          </a:p>
        </p:txBody>
      </p:sp>
      <p:sp>
        <p:nvSpPr>
          <p:cNvPr id="85"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know whether there is a poverty trap or not, because a poverty trap opens the possibility of a “big push”: a small action could have big benefits: so it may be the socially optimal thing to do.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g.: free bednet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e.g. free fertilizer for a season)</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if we are in the case without poverty trap, helping the poor in this way will simply be a form of redistribution, but it won’t produce efficiency gai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763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ograms to end Nutrition-Based Poverty Trap</a:t>
            </a:r>
            <a:endParaRPr b="0" lang="en-US" sz="3200" spc="-1" strike="noStrike">
              <a:solidFill>
                <a:srgbClr val="000000"/>
              </a:solidFill>
              <a:latin typeface="Arial"/>
            </a:endParaRPr>
          </a:p>
        </p:txBody>
      </p:sp>
      <p:sp>
        <p:nvSpPr>
          <p:cNvPr id="87"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nutrition-based poverty traps be ended? Some example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bednets (health)</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worming children in Kenya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dized salt in india (in utero or early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ified fish sauce in Indonesia for pregnant mothers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nutrient Initiative (</a:t>
            </a:r>
            <a:r>
              <a:rPr b="0" lang="en-US" sz="2000" spc="-1" strike="noStrike" u="sng">
                <a:solidFill>
                  <a:srgbClr val="009999"/>
                </a:solidFill>
                <a:uFillTx/>
                <a:latin typeface="Arial"/>
                <a:hlinkClick r:id="rId1"/>
              </a:rPr>
              <a:t>https://www.nutritionintl.org/</a:t>
            </a:r>
            <a:r>
              <a:rPr b="0" lang="en-US" sz="2000" spc="-1" strike="noStrike">
                <a:solidFill>
                  <a:srgbClr val="000000"/>
                </a:solidFill>
                <a:latin typeface="Arial"/>
              </a:rPr>
              <a:t>) and HarvestPlus (</a:t>
            </a:r>
            <a:r>
              <a:rPr b="0" lang="en-US" sz="2000" spc="-1" strike="noStrike" u="sng">
                <a:solidFill>
                  <a:srgbClr val="009999"/>
                </a:solidFill>
                <a:uFillTx/>
                <a:latin typeface="Arial"/>
                <a:hlinkClick r:id="rId2"/>
              </a:rPr>
              <a:t>https://www.harvestplus.org/</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s Millennium Village Program</a:t>
            </a:r>
            <a:endParaRPr b="0" lang="en-US" sz="3200" spc="-1" strike="noStrike">
              <a:solidFill>
                <a:srgbClr val="000000"/>
              </a:solidFill>
              <a:latin typeface="Arial"/>
            </a:endParaRPr>
          </a:p>
        </p:txBody>
      </p:sp>
      <p:sp>
        <p:nvSpPr>
          <p:cNvPr id="89"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ciesin.columbia.edu/binaries/web/global/news/2010/mvp_midterm_report.pd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a Face on Poverty: Pak Solhin</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lives in a small village in Indonesia</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anerjee and Duflo met him, he was all alone at hom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of his three children, a 13 year old, was working as a construction worker in the nearby cit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was also in the city, as a live-in maid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two children were staying with their grand-pare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use did not have a single item of furniture, no water, no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that summer, Pak Solhin was a farm laborer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oes not have any land, because his parents had 13 children, and they had to cut the land in many small pieces to build homes on them.</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summer, because of the increase in fertilizer and oil prices, farmers stopped hiring workers to save money, and started to work the farm themselves.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could not accept a lower wage instead of losing his job, because the food prices had increased too: at a lower wage, he would not even have enough strength to work a whole day.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not work as a construction worker, because he is too weak for the basic job, too unskilled for the better jobs, and too old to be an appren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ad no money to feed himself or the kids, so his wife and older kid went to the city. Even with their salary, he cannot pay for the food for the younger ones and himself.</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can lend him money; but the grandparents agreed to take the two young children with them.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child dropped out of school and became a construction laborer</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eats about once a day, when he gets subsidized rice, or he catches a fish on the bank of the river: he cannot swim, so he cannot properly fish.</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very depressed, and negative about the future. He almost cries during the int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striking/puzzling aspects of Pak Solhin’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unique in the case of Pak Solhin, and on the contrary, what seems to you to be representative of the lives of many of the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trition-Based Story for a Poverty Trap: the Capacity Curve</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240"/>
            <a:ext cx="8381880" cy="52578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few calories are used by your body just to survive: they don’t make you st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art eating enough to survive, the next calories start giving you streng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ho is very poor like Pak Solhin may not have enough to eat to be very productive, but if he could eat more, he wou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re will be a poverty trap whenever the scope for growing income or wealth at a very fast rate is limited for those who have too little to invest, but expands dramatically for those who can invest a bit mor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city Curve</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1504800" y="961920"/>
            <a:ext cx="6134400" cy="493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ynamics of Income and the Poverty Trap</a:t>
            </a:r>
            <a:endParaRPr b="0" lang="en-US" sz="3200" spc="-1" strike="noStrike">
              <a:solidFill>
                <a:srgbClr val="000000"/>
              </a:solidFill>
              <a:latin typeface="Arial"/>
            </a:endParaRPr>
          </a:p>
        </p:txBody>
      </p:sp>
      <p:sp>
        <p:nvSpPr>
          <p:cNvPr id="64" name="PlaceHolder 2"/>
          <p:cNvSpPr>
            <a:spLocks noGrp="1"/>
          </p:cNvSpPr>
          <p:nvPr>
            <p:ph type="subTitle"/>
          </p:nvPr>
        </p:nvSpPr>
        <p:spPr>
          <a:xfrm>
            <a:off x="609480" y="914400"/>
            <a:ext cx="8382240" cy="13716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y0’, go to y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1 on the 45 degree line: find the new y1’, go to y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goes on and on like this…</a:t>
            </a:r>
            <a:endParaRPr b="0" lang="en-US" sz="2400" spc="-1" strike="noStrike">
              <a:solidFill>
                <a:srgbClr val="000000"/>
              </a:solidFill>
              <a:latin typeface="Arial"/>
            </a:endParaRPr>
          </a:p>
        </p:txBody>
      </p:sp>
      <p:pic>
        <p:nvPicPr>
          <p:cNvPr id="65" name="Picture 5" descr=""/>
          <p:cNvPicPr/>
          <p:nvPr/>
        </p:nvPicPr>
        <p:blipFill>
          <a:blip r:embed="rId1"/>
          <a:stretch/>
        </p:blipFill>
        <p:spPr>
          <a:xfrm>
            <a:off x="2130480" y="2438280"/>
            <a:ext cx="50324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4-05T14:17:01Z</dcterms:modified>
  <cp:revision>115</cp:revision>
  <dc:subject/>
  <dc:title>Chapter 5: Wealth</dc:title>
</cp:coreProperties>
</file>