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E8FA-D2B4-4FBB-BD85-CCA8D5578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B77A-8E24-43DC-8988-667DF4E63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8BB-C728-4D7E-8A47-F16D1B82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AC4-1CD7-4CE6-BA74-B9AE6E52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A66-8F2E-4504-9365-14B182BE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F16-6776-4662-91CF-30FB11CB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F27-E482-435E-974E-0126E9FA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A0C-AE1A-43F8-9CA9-E9465F2D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255-98B7-4F70-9700-0641D953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EDF-2ACC-4A5E-A2D8-A9D9C559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758-C143-47E5-A224-07E56194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3AE-2772-40E9-B573-989053AC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A65-7C4C-4BD5-9E32-71471D4E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87B-436E-4615-84BD-262A5B22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88E5-B9BD-457A-9FC2-E1058FFBC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GA18_04"/>
          <p:cNvPicPr/>
          <p:nvPr/>
        </p:nvPicPr>
        <p:blipFill>
          <a:blip r:embed="rId1"/>
          <a:srcRect l="0" t="14710" r="0" b="0"/>
          <a:stretch/>
        </p:blipFill>
        <p:spPr>
          <a:xfrm>
            <a:off x="228600" y="914400"/>
            <a:ext cx="876312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981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phosphoanhydride linkages have a hig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of hydrolysis? Contributing factors for ATP &amp; P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Aft>
                <a:spcPts val="1400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sonance stab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roducts of hydrolysis exceeds resonance stabilization of the compound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Aft>
                <a:spcPts val="1400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lectrostatic repul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negatively charged phosphate oxygen atoms favors   separation of the phosph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990720" y="208080"/>
          <a:ext cx="7162560" cy="64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8080"/>
                    <a:ext cx="7162560" cy="64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s of metabolic pathw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278760" cy="3654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143000" y="990720"/>
            <a:ext cx="58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Cycl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bran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verview of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 rot="16200000">
            <a:off x="-145440" y="469728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5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478240" y="838080"/>
            <a:ext cx="4062240" cy="5867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80880" y="1752480"/>
            <a:ext cx="190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s, Carbohydrates, and Lipids are broken down into common metabol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133720" y="2819520"/>
            <a:ext cx="1676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133720" y="259092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705720" y="5334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s Production of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4266720" y="571500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3120" y="806400"/>
            <a:ext cx="85359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energy of a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energy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f a reaction determines its spontaneity. A reaction is spontaneous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is negative (if the free energy of products is less than that of reactant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tandard free energy change (at pH 7, 1M reactants &amp; products)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gas constan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e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6"/>
          <p:cNvGraphicFramePr/>
          <p:nvPr/>
        </p:nvGraphicFramePr>
        <p:xfrm>
          <a:off x="1978200" y="3260880"/>
          <a:ext cx="51876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3260880"/>
                    <a:ext cx="51876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quilibr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200" y="2438280"/>
            <a:ext cx="388620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'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ratio [C][D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A][B] at equilibrium, is the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quilibrium 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librium constant 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'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eater than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dicates a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pontane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ction (negativ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4317840" y="609480"/>
          <a:ext cx="466272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609480"/>
                    <a:ext cx="466272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ou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524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ontaneous reaction may drive a non-spontaneous rea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Aft>
                <a:spcPts val="2100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ee energy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oupled reactions ar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dd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5"/>
          <p:cNvGraphicFramePr/>
          <p:nvPr/>
        </p:nvGraphicFramePr>
        <p:xfrm>
          <a:off x="304920" y="3200400"/>
          <a:ext cx="8610480" cy="30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00400"/>
                    <a:ext cx="861048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990720" y="304920"/>
          <a:ext cx="7129440" cy="38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1294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42667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oanhydride linkages are said to b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"high energy" bond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nd energy is not high, ju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of hydro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71520" y="685440"/>
            <a:ext cx="8772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n the reaction catalyzed by the Glycolysis enzym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exokin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half-reac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P + H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P  +  P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 kJ/m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+ gluc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lucose-6-P + H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= +14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d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P + gluco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80"/>
                </a:solidFill>
                <a:latin typeface="Arial"/>
              </a:rPr>
              <a:t>ADP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+ glucose-6-P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20:39:13Z</dcterms:created>
  <dc:creator>evo064</dc:creator>
  <dc:description/>
  <dc:language>en-US</dc:language>
  <cp:lastModifiedBy>Schedler, David</cp:lastModifiedBy>
  <dcterms:modified xsi:type="dcterms:W3CDTF">2019-04-08T17:07:18Z</dcterms:modified>
  <cp:revision>10</cp:revision>
  <dc:subject/>
  <dc:title>Slide 1</dc:title>
</cp:coreProperties>
</file>