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7B5-D632-400F-83C0-AC2E5D77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EDF2-9D0B-4466-9000-D40A820BA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B05-4EA5-4CED-95C7-6FA86B28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F7D-DEBF-4902-9B57-F7364FED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183-8F2A-4144-82D2-F4DAAB38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F5A-9C5C-4053-B42E-5C046A73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A29-04A0-4CB7-BEF5-3C9EDB80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EE0-1E56-4339-B404-A7D6F1F1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AB9-ACB6-4A6E-96C1-E80A514A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E4D-6798-456A-BBAE-AEE624A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3DD-1F25-46F2-906F-B774DEE2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3E5-43C1-4BDD-AC0F-3C83689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48D-4452-4742-9468-F8BEF5D9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5F6-6F20-4B8E-A2B8-654E7DD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144A-96C0-446C-8D16-48A57178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A18_04"/>
          <p:cNvPicPr/>
          <p:nvPr/>
        </p:nvPicPr>
        <p:blipFill>
          <a:blip r:embed="rId1"/>
          <a:srcRect l="0" t="14710" r="0" b="0"/>
          <a:stretch/>
        </p:blipFill>
        <p:spPr>
          <a:xfrm>
            <a:off x="228600" y="914400"/>
            <a:ext cx="876312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981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phosphoanhydride linkages have a hig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of hydrolysis? Contributing factors for ATP &amp; 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14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sonance stab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roducts of hydrolysis exceeds resonance stabilization of the compound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14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lectrostatic repul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negatively charged phosphate oxygen atoms favors   separation of the phosph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90720" y="208080"/>
          <a:ext cx="7162560" cy="64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8080"/>
                    <a:ext cx="7162560" cy="64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s of metabolic path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278760" cy="3654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143000" y="99072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Cyc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bran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verview of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 rot="16200000">
            <a:off x="-145440" y="469728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5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78240" y="838080"/>
            <a:ext cx="4062240" cy="586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80880" y="1752480"/>
            <a:ext cx="190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s, Carbohydrates, and Lipids are broken down into common metabol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133720" y="2819520"/>
            <a:ext cx="1676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133720" y="259092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705720" y="53341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s Production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4266720" y="571500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3120" y="806400"/>
            <a:ext cx="85359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energy of a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energy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a reaction determines its spontaneity. A reaction is spontaneous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is negative (if the free energy of products is less than that of reactant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tandard free energy change (at pH 7, 1M reactants &amp; products)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as constan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e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978200" y="3260880"/>
          <a:ext cx="51876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3260880"/>
                    <a:ext cx="51876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quilib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2438280"/>
            <a:ext cx="388620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'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ratio 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][B] at equilibrium, is the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quilibrium 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librium constant 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'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greater than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dicates a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pontane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ction (negativ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4317840" y="609480"/>
          <a:ext cx="466272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609480"/>
                    <a:ext cx="466272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524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ontaneous reaction may drive a non-spontaneous rea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Aft>
                <a:spcPts val="2100"/>
              </a:spcAft>
              <a:buClr>
                <a:srgbClr val="0099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ee energy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oupled reactions ar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dd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304920" y="3200400"/>
          <a:ext cx="8610480" cy="30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00400"/>
                    <a:ext cx="86104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990720" y="304920"/>
          <a:ext cx="712944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1294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426672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anhydride linkages are said to b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"high energy" bond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nd energy is not high, ju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of hydro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71520" y="685440"/>
            <a:ext cx="8772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n the reaction catalyzed by the Glycolysis enzym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exokin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half-reac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P + 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P  +  P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kJ/m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+ gluc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lucose-6-P + H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+14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d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P + gluco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sz="24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80"/>
                </a:solidFill>
                <a:latin typeface="Arial"/>
              </a:rPr>
              <a:t>ADP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+ glucose-6-P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20:39:13Z</dcterms:created>
  <dc:creator>evo064</dc:creator>
  <dc:description/>
  <dc:language>en-US</dc:language>
  <cp:lastModifiedBy>Schedler, David</cp:lastModifiedBy>
  <dcterms:modified xsi:type="dcterms:W3CDTF">2019-04-08T17:07:18Z</dcterms:modified>
  <cp:revision>10</cp:revision>
  <dc:subject/>
  <dc:title>Slide 1</dc:title>
</cp:coreProperties>
</file>