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E68E-DC89-4D2C-A8DC-23BDAA205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57BE-146D-46F5-BB8A-2F9F6BE7D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855-1E8C-4D01-A1C9-F548252E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2954-B837-4504-8DE9-E03F4178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48BE-E1A3-427F-9992-C08E766B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D70F-4D26-4327-92A0-CAF79814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4E7-0934-4D6C-9ECE-2D67F184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18A-A07B-4D85-B117-0ECD0EB0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A20E-345F-4E77-B75C-88094CCE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33E-3706-467C-A404-7BD95242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5E29-E3B5-415F-BFC5-CEB69C56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B51-9652-4AFB-A92C-B38A09D3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85D2-0B2F-486F-8D53-67F68127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299C-9736-45E6-8C13-E4B2C420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2C95-37E3-4929-894C-9C78D910D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GA18_04"/>
          <p:cNvPicPr/>
          <p:nvPr/>
        </p:nvPicPr>
        <p:blipFill>
          <a:blip r:embed="rId1"/>
          <a:srcRect l="0" t="14710" r="0" b="0"/>
          <a:stretch/>
        </p:blipFill>
        <p:spPr>
          <a:xfrm>
            <a:off x="228600" y="914400"/>
            <a:ext cx="876312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714320"/>
            <a:ext cx="798192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phosphoanhydride linkages have a hig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of hydrolysis? Contributing factors for ATP &amp; P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Aft>
                <a:spcPts val="1400"/>
              </a:spcAft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sonance stabi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roducts of hydrolysis exceeds resonance stabilization of the compound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Aft>
                <a:spcPts val="1400"/>
              </a:spcAft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lectrostatic repul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negatively charged phosphate oxygen atoms favors   separation of the phosph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990720" y="208080"/>
          <a:ext cx="7162560" cy="64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8080"/>
                    <a:ext cx="7162560" cy="64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s of metabolic pathw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278760" cy="3654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143000" y="990720"/>
            <a:ext cx="586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Cycl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bran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verview of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 rot="16200000">
            <a:off x="-145440" y="469728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5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478240" y="838080"/>
            <a:ext cx="4062240" cy="5867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80880" y="1752480"/>
            <a:ext cx="190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ins, Carbohydrates, and Lipids are broken down into common metabol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2133720" y="2819520"/>
            <a:ext cx="1676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2133720" y="2590920"/>
            <a:ext cx="19810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705720" y="53341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ves Production of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4266720" y="5715000"/>
            <a:ext cx="2514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03120" y="806400"/>
            <a:ext cx="853596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energy of a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energy 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f a reaction determines its spontaneity. A reaction is spontaneous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is negative (if the free energy of products is less than that of reactant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tandard free energy change (at pH 7, 1M reactants &amp; products)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gas constan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e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6"/>
          <p:cNvGraphicFramePr/>
          <p:nvPr/>
        </p:nvGraphicFramePr>
        <p:xfrm>
          <a:off x="1978200" y="3260880"/>
          <a:ext cx="518760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8200" y="3260880"/>
                    <a:ext cx="51876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quilibri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57200" y="2438280"/>
            <a:ext cx="388620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K'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e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ratio [C][D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A][B] at equilibrium, is the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quilibrium const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librium constant 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K'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e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reater than 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dicates a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pontane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ction (negativ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4317840" y="609480"/>
          <a:ext cx="4662720" cy="57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7840" y="609480"/>
                    <a:ext cx="466272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ou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524"/>
              </a:spcAft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ontaneous reaction may drive a non-spontaneous reac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Aft>
                <a:spcPts val="2100"/>
              </a:spcAft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ee energy chan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coupled reactions are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dd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5"/>
          <p:cNvGraphicFramePr/>
          <p:nvPr/>
        </p:nvGraphicFramePr>
        <p:xfrm>
          <a:off x="304920" y="3200400"/>
          <a:ext cx="8610480" cy="30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00400"/>
                    <a:ext cx="8610480" cy="30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990720" y="304920"/>
          <a:ext cx="7129440" cy="38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920"/>
                    <a:ext cx="712944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920" y="426672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oanhydride linkages are said to b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"high energy" bond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nd energy is not high, ju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of hydroly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71520" y="685440"/>
            <a:ext cx="8772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n the reaction catalyzed by the Glycolysis enzym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exokin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half-reaction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TP + H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DP  +  P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 kJ/m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+ gluc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glucose-6-P + H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 = +14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ed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TP + glucos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sz="24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80"/>
                </a:solidFill>
                <a:latin typeface="Arial"/>
              </a:rPr>
              <a:t>ADP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+ glucose-6-P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20:39:13Z</dcterms:created>
  <dc:creator>evo064</dc:creator>
  <dc:description/>
  <dc:language>en-US</dc:language>
  <cp:lastModifiedBy>Schedler, David</cp:lastModifiedBy>
  <dcterms:modified xsi:type="dcterms:W3CDTF">2019-04-08T17:07:18Z</dcterms:modified>
  <cp:revision>10</cp:revision>
  <dc:subject/>
  <dc:title>Slide 1</dc:title>
</cp:coreProperties>
</file>