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5B8-6234-4EDD-A17E-EF495E4A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3DB-3CDB-4B70-9478-E789E9C0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9F8-9CC9-4082-ADE5-BDBF9B1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AF4-04BC-4330-9A61-425E69B2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2AA6-B04F-4B83-A8B2-D1F29246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91B6-310B-47EB-A60E-28C18E6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EB0D-0716-4C9F-922E-763B5E1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ACE3-F420-431B-9333-7A3C800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CC5-669B-42B1-A47D-FC41194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C1DB-3786-4F0F-AF5F-80ED49E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B2C8-362D-4D7C-95BD-6C947E8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095-557D-42B3-9049-57586756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0823-352B-425C-AB85-69DCA55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DBDB-A127-4086-AB58-67BB356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FAF9-AD4F-40DA-8050-0421647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0651-FB52-4AB3-836F-AF77AA8D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884B-538E-4F70-B680-4A4DE93F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282-7469-4688-9BED-183EEB5D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BD0-396D-4588-BF12-BFAE18F5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9B1-1023-4329-B799-C8BAD628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F52-D608-4D8F-8013-C2877ACB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BB0-DA2B-4348-93EC-0053694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A2B-7A6A-400E-ABE5-C9CAB5A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C8E-56DA-4004-BC39-63820A78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2706-716F-47E1-9D01-A5EEAAD73F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85C7-5203-411A-A982-7FA5D0C979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Skills and Test Taking Strateg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Don’t Need a Large Block of Time to Study/Wri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udents often think that if they don’t have at least an hour, it is not worth studying or writing a pa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true!  If you have 10 minutes, use i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over a portion of your notes and quiz yours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t some words down on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ead Out Your Study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is the better strateg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1 hr a night for 4 nights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4 hours the night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r brain will try to remember that info each time; repetition is good for mem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will sleep each night; Sleep is known to help us remember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n’t Read Over Your Notes – Quiz Yoursel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fortunately, for most of us, just reading over information, even multiple times, doesn’t work very wel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has shown that quizzing yourself on information, even if you get it wrong, helps you remember it. Something about this process helps you rememb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you have read a page of notes, cover it up and try to recall definitions or examples, then check to see if you are rig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, as you go through material, write hard questions to go back and answer later, when you haven’t looked at it in a whi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 to Know Your Professors, and How They T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 to office hours, or email for an appointment.  Ask “What are the best ways for me to study for your tests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only will this give you tips, it will show the professor that you are tr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lk to the T.A. and to students that have had this prof for more than one class, but first go to office hour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per Draf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s offer to look at a paper draft a few days before it is due, take them up on it!!  Even if it is not your best work, it will hel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 doesn’t offer this, ask them anyway.  Most will say yes, as long as it isn’t the night bef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it comes to a paper, starting is the hardest.  Once you have some words down, it is a lot easier to revise and write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s of T/F and Multiple Choi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ok for words like: always, never, every time, etc.  These usually make the statement Fal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have absolutely no idea on T/F, choose False.  But, this could depend on the pro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MC, cover up answers, read question and see if you can come up with an answer, then look at choic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other MC strategy is to look at answers one at a time.  Is this a strong or weak possibility?  Then compare 2 answers and see which is better.  I can tell you more about this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All of the Above is an option, and you are reasonably certain 2 other answers are correct, pick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, Remember “Balance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ally, you need to do these things every 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some healthy f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ink a lot of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rcis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y or Write (even if only a few minut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mit or Take a break from your phone (outdoors if possib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leep (as close to 8 hours as you can g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3-10-15T14:41:45Z</dcterms:modified>
  <cp:revision>72</cp:revision>
  <dc:subject/>
  <dc:title>Sensorimotor System</dc:title>
</cp:coreProperties>
</file>