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31C-8763-41FB-B323-52B3FBFE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38E-5D4B-4972-8C9E-5D293F35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676-5E55-4BF1-80B5-892AB813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074-ED9F-4729-8D70-0B696457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5E1A-8166-4C17-B892-68A55D9B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F517-9BEE-4AFA-8D82-C1F2821E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8E1C-ED90-451C-B75A-C6DA172D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6B70-1ABD-4EC4-B888-9A73C453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F979-6C8B-4B9A-BA1F-4170A75B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29E1-B64A-49A8-B188-D4426769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98BC-4283-4086-BBCF-84001D11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341-2523-43BA-BC72-6BF38ACC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A508-C04B-4D60-88A0-3EAEF686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48B1-33BA-47C9-8D0E-BF4E469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9AB6-0D18-48F2-BC53-D3EC5C23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0F2E-C5C4-4B10-8BF8-2CF3669E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800-16D6-4064-8743-751DC103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F08-56C7-4DC9-99E6-73364004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56D-3E35-4882-834E-32199EC2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53F-CE72-48AF-A457-B155695D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2B4-FAA8-460C-A7FB-13F6D530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48C-AC00-4DE0-B77A-4CABD29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DB3-2F2F-4FA2-B18C-6ECA3B5B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70B-969B-4F13-9B7A-0A178D1C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7A5-FA2C-4D1E-A82E-20C0C0CCF7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602C-5B21-42A1-9BD0-C629A1D32C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Skills and Test Taking Strateg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 Don’t Need a Large Block of Time to Study/Wri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udents often think that if they don’t have at least an hour, it is not worth studying or writing a pa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true!  If you have 10 minutes, use i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over a portion of your notes and quiz yoursel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t some words down on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ead Out Your Study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ch is the better strateg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ing 1 hr a night for 4 nights before the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ing 4 hours the night before the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r brain will try to remember that info each time; repetition is good for mem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will sleep each night; Sleep is known to help us remember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n’t Read Over Your Notes – Quiz Yoursel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fortunately, for most of us, just reading over information, even multiple times, doesn’t work very wel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earch has shown that quizzing yourself on information, even if you get it wrong, helps you remember it. Something about this process helps you rememb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you have read a page of notes, cover it up and try to recall definitions or examples, then check to see if you are righ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, as you go through material, write hard questions to go back and answer later, when you haven’t looked at it in a whi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t to Know Your Professors, and How They Te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 to office hours, or email for an appointment.  Ask “What are the best ways for me to study for your tests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only will this give you tips, it will show the professor that you are tr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lk to the T.A. and to students that have had this prof for more than one class, but first go to office hours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per Draf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r profs offer to look at a paper draft a few days before it is due, take them up on it!!  Even if it is not your best work, it will hel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r prof doesn’t offer this, ask them anyway.  Most will say yes, as long as it isn’t the night bef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it comes to a paper, starting is the hardest.  Once you have some words down, it is a lot easier to revise and write m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s of T/F and Multiple Choi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ok for words like: always, never, every time, etc.  These usually make the statement Fal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you have absolutely no idea on T/F, choose False.  But, this could depend on the pro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MC, cover up answers, read question and see if you can come up with an answer, then look at choic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other MC strategy is to look at answers one at a time.  Is this a strong or weak possibility?  Then compare 2 answers and see which is better.  I can tell you more about this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All of the Above is an option, and you are reasonably certain 2 other answers are correct, pick 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ly, Remember “Balance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ally, you need to do these things every 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some healthy f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ink a lot of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rcis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y or Write (even if only a few minut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mit or Take a break from your phone (outdoors if possib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leep (as close to 8 hours as you can g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3-10-15T14:41:45Z</dcterms:modified>
  <cp:revision>72</cp:revision>
  <dc:subject/>
  <dc:title>Sensorimotor System</dc:title>
</cp:coreProperties>
</file>