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AEE-41B8-464B-9323-6058F166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CDC-1B9F-409A-95EB-5C58D17F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975-1218-4EA4-B155-3A95EEDC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0B6-5217-4F79-9F59-A65B3575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84CC-FAA8-4B82-94E9-31312B82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BDCA-A644-48EF-94EB-93A36663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95A8-D69F-4252-AC8B-F8B4AE1A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C479-5B2E-4A0A-8008-FF4576B5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CE2B-0536-4BFD-8221-7E8AB59C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7B4B-F778-4D3A-8C86-645F145D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0A11-E8E7-442A-BDCB-E18CAC50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143-2659-4DE7-B7AE-9B17EFA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E1B1-4B1A-4E58-83A2-FA77D5BC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7113-34F7-4772-92CE-58E1E69C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7446-777F-4313-B086-062E72CC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B999-65A3-46F3-8065-729ED93C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BDBC-9659-4D13-A7CD-121F5110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1BE-04DC-42C2-A1FD-C20893F1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9C8-D502-407E-89B7-622C34B7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FC9-F1FE-4B20-B8C9-D22957B9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439-7FC2-4F4D-BC93-8F979630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F20-343D-45BB-8F5C-8837D298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BBD-00E0-4659-A999-D1D12FB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4C2-E0D4-4B1E-863B-50EE381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02A6-0D39-4BE7-8FB3-72BFADCBA7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E6B6-4259-4564-872C-0098386E3C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y Skills and Test Taking Strateg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ou Don’t Need a Large Block of Time to Study/Wri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udents often think that if they don’t have at least an hour, it is not worth studying or writing a pa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true!  If you have 10 minutes, use i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 over a portion of your notes and quiz yoursel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t some words down on pap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ead Out Your Study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ch is the better strateg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ing 1 hr a night for 4 nights before the t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dying 4 hours the night before the t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r brain will try to remember that info each time; repetition is good for mem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u will sleep each night; Sleep is known to help us remember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n’t Read Over Your Notes – Quiz Yourself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fortunately, for most of us, just reading over information, even multiple times, doesn’t work very wel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earch has shown that quizzing yourself on information, even if you get it wrong, helps you remember it. Something about this process helps you rememb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you have read a page of notes, cover it up and try to recall definitions or examples, then check to see if you are righ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, as you go through material, write hard questions to go back and answer later, when you haven’t looked at it in a whi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t to Know Your Professors, and How They Te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 to office hours, or email for an appointment.  Ask “What are the best ways for me to study for your tests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only will this give you tips, it will show the professor that you are try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lk to the T.A. and to students that have had this prof for more than one class, but first go to office hours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per Draf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your profs offer to look at a paper draft a few days before it is due, take them up on it!!  Even if it is not your best work, it will hel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your prof doesn’t offer this, ask them anyway.  Most will say yes, as long as it isn’t the night befo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it comes to a paper, starting is the hardest.  Once you have some words down, it is a lot easier to revise and write mo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s of T/F and Multiple Choi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ok for words like: always, never, every time, etc.  These usually make the statement Fal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you have absolutely no idea on T/F, choose False.  But, this could depend on the prof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MC, cover up answers, read question and see if you can come up with an answer, then look at choic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other MC strategy is to look at answers one at a time.  Is this a strong or weak possibility?  Then compare 2 answers and see which is better.  I can tell you more about this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All of the Above is an option, and you are reasonably certain 2 other answers are correct, pick 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ally, Remember “Balance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eally, you need to do these things every 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some healthy f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rink a lot of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ercis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y or Write (even if only a few minut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mit or Take a break from your phone (outdoors if possib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leep (as close to 8 hours as you can ge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23-10-15T14:41:45Z</dcterms:modified>
  <cp:revision>72</cp:revision>
  <dc:subject/>
  <dc:title>Sensorimotor System</dc:title>
</cp:coreProperties>
</file>