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BF19-A391-4BED-8C98-CAC2B4A1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CD33-985A-4110-9EBE-059BED5C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C893-8E65-4818-BAFA-6A4527844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7A8F-9333-4F8C-B425-3D39F2921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67F1-B080-4A37-9F18-39E8E8D8B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5436-7071-4A4F-8390-6E3B73CD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9CC1-E396-4D1E-B77C-5C4F0600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92D4-1F5F-438D-B51D-710C70D4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8489-B4F3-49FD-A253-195344F0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7516-CC87-42C7-B612-1378DC35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486F-81E9-49EE-97C9-70C49E71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5438-0B71-4E72-ABDD-F2F919B7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B76E-7DBB-4FEC-829C-3FDC75E5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F329-A5A1-4850-A114-A3531042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A207-16F4-47AF-96BF-756CE6C7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F009-D733-4C18-8325-8370711A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069C-DD8B-4337-960B-0FF997F74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BF66-08DE-466F-9602-2383D1E8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553A-FEA2-40DB-ADBE-761FFBA5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D262-0408-451D-978C-1BA7135C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3A4E-7A62-40B1-83AB-6A93910D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CACC-24AE-4921-A4A0-0E0E2E56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86C8-073F-4D0E-9D20-144D1CE7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D1F3-48D0-4AE8-BE13-13F5584E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6"/>
                    <a:pt x="103" y="-22337"/>
                    <a:pt x="0" y="-22339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6"/>
                    <a:pt x="103" y="-22337"/>
                    <a:pt x="0" y="-22339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6"/>
                    <a:pt x="107" y="-22337"/>
                    <a:pt x="0" y="-22339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6"/>
                    <a:pt x="107" y="-22337"/>
                    <a:pt x="0" y="-22339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6"/>
                    <a:pt x="108" y="-22337"/>
                    <a:pt x="0" y="-22339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6"/>
                    <a:pt x="108" y="-22337"/>
                    <a:pt x="0" y="-22339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9F1E-C076-4301-BF6D-9226842EA7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6"/>
                    <a:pt x="103" y="-22337"/>
                    <a:pt x="0" y="-22339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6"/>
                    <a:pt x="103" y="-22337"/>
                    <a:pt x="0" y="-22339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6"/>
                    <a:pt x="107" y="-22337"/>
                    <a:pt x="0" y="-22339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6"/>
                    <a:pt x="107" y="-22337"/>
                    <a:pt x="0" y="-22339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6"/>
                    <a:pt x="108" y="-22337"/>
                    <a:pt x="0" y="-22339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6"/>
                    <a:pt x="108" y="-22337"/>
                    <a:pt x="0" y="-22339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510F-01DE-44B9-9AF1-8383D1A2339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udy Skills and Test Taking Strateg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You Don’t Need a Large Block of Time to Study/Writ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udents often think that if they don’t have at least an hour, it is not worth studying or writing a pap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true!  If you have 10 minutes, use it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ad over a portion of your notes and quiz yourself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et some words down on pap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read Out Your Study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ich is the better strategy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udying 1 hr a night for 4 nights before the tes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udying 4 hours the night before the tes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Your brain will try to remember that info each time; repetition is good for memo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You will sleep each night; Sleep is known to help us remember inf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on’t Read Over Your Notes – Quiz Yourself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nfortunately, for most of us, just reading over information, even multiple times, doesn’t work very well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search has shown that quizzing yourself on information, even if you get it wrong, helps you remember it. Something about this process helps you remembe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fter you have read a page of notes, cover it up and try to recall definitions or examples, then check to see if you are righ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r, as you go through material, write hard questions to go back and answer later, when you haven’t looked at it in a whil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et to Know Your Professors, and How They Tes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o to office hours, or email for an appointment.  Ask “What are the best ways for me to study for your tests?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only will this give you tips, it will show the professor that you are try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alk to the T.A. and to students that have had this prof for more than one class, but first go to office hours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per Draf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f your profs offer to look at a paper draft a few days before it is due, take them up on it!!  Even if it is not your best work, it will help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f your prof doesn’t offer this, ask them anyway.  Most will say yes, as long as it isn’t the night befor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en it comes to a paper, starting is the hardest.  Once you have some words down, it is a lot easier to revise and write mor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ics of T/F and Multiple Choic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ok for words like: always, never, every time, etc.  These usually make the statement False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you have absolutely no idea on T/F, choose False.  But, this could depend on the prof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MC, cover up answers, read question and see if you can come up with an answer, then look at choic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other MC strategy is to look at answers one at a time.  Is this a strong or weak possibility?  Then compare 2 answers and see which is better.  I can tell you more about this…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All of the Above is an option, and you are reasonably certain 2 other answers are correct, pick 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nally, Remember “Balance”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deally, you need to do these things every day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at some healthy f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rink a lot of wa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ercis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udy or Write (even if only a few minute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mit or Take a break from your phone (outdoors if possibl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leep (as close to 8 hours as you can get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21:02:00Z</dcterms:created>
  <dc:creator>Campus Computing</dc:creator>
  <dc:description/>
  <dc:language>en-US</dc:language>
  <cp:lastModifiedBy>Trench, Lynne S.</cp:lastModifiedBy>
  <dcterms:modified xsi:type="dcterms:W3CDTF">2023-10-15T14:41:45Z</dcterms:modified>
  <cp:revision>72</cp:revision>
  <dc:subject/>
  <dc:title>Sensorimotor System</dc:title>
</cp:coreProperties>
</file>