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ECC9-CEAC-43AE-AF47-2C8066D2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928-4E47-489E-8009-88BC071B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DE0-12D8-48F5-8CBD-94BF2164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B2B-9E65-4DB0-BD6E-76129EBB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5FCF-8393-408A-81CC-A095D6F0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5463-E783-47A2-B7BE-A90591AF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6249-1E43-4159-99DC-33F14867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209-6F3B-4DD2-96DB-27BFA85B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504-BABF-478A-9C67-CC1096A2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52C-7B1D-4133-A30D-7442B79D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5FCA-2474-4E2C-8697-5760E76A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82A-74EC-4FB1-A924-913086D0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97A2-69A1-4D57-8EF3-970C425BF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xiety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Social Phobia—a marked and persistent fear of social or performance situations with adults and peers in which they are exposed to possible scrutiny and embarra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social phobias appear in adolesc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ve mutism—children who fail to talk in social situations even though they speak openly at h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ssive-Compulsive Disorder—characterized by repeated, intrusive, and unwanted thoughts that cause anx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ssions—persistent and intrusive thoughts, impulses, or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lsions—repetitive, purposeful, and intentional behaviors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 compulsions are commonly associated with specific obs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tion obsession-cleaning compul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 obsession-counting compul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chotillomania-pulling one’s hair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ic Disorder—display recurrent, unexpected panic attacks followed by at least one month of persistent concern about having another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ic attack—sudden overwhelming period of intense fear or discomfort that is accompanied by four or more physical and cognitive symptoms characteristic of the fight/flight respo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rapho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raphobia-a fear of being alone in or avoiding certain places or situations because one is afraid of having an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ociated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—Normal IQ but may interfere with academic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tion—hypervigi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errors and biases—interprets ambiguous stimuli as negative and engage in more negative self-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symptoms-somatic compl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defic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orbi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xiety disorders most often co-occur with other anxiety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ounting other anxiety disorders, then depression is most likely to co-occur with an anxiety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ssion and Anxiety are closely related but they are different!  Both are positively correlated with negative affectivity, but only depression is negatively correlated with positive affe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Temperament—individuals with anxiety disorder tend to be highly reactive, timid and s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 Genetics—general heritability for anxiety disorders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pecific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 Neurobiological factors—limbic system and neurotransmitte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 Family infl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mpt to modify 4 problem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avoidant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 physiological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 feelings of lack of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 cognitive dist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Behavior therapy—focus is on exposure to the feared stimu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    Graduated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     Systematic Desensi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    Floo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Cognitive-Behavioral Therapy—focus is on changing cognitive distor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i associated with certain thoughts that are associated with fee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herapy tends to be the most effective for anxiet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 Medication—Antidepressants (tofranil), Bensodiazepines (valium, xanax), Selective Serotonin Reuptake Inhibitors (Prozac, Zolo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 Family Inter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ood state characterized by a strong negative emotion, bodily symptoms of tension, and apprehensive anticipation of future danger or misfortu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Respons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system—“Fight or Flight” or physical response that involves the activation of your sympathetic nervou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vascular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 gl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hysica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Respons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system—scanning the environment for threa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ion of Cog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havioral system—symptoms of fidgeting, irritability, biting nails.  Use of avoidance is negatively reinforc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mental Trend to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rs show a developmental trend. Be familiar with what are normal fears or anxieties for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tualistic and Repetitive Behavi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help children learn about and master their environments.  It gives them a sense of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only when the behaviors interfere with a child’s functioning do we say that the child has a disorde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ion Anxiety Disorder--Characterized by excessive fear and anxiety concerning separation from home or from those to whom the child is att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This is the only one that is actually classified as a childhood disorder in the DSM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paration Anxiety Dis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ly associated with School Refusal and Test anxiety (neither of which are considered disorder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Generalized Anxiety Disorder-worry about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ehensive Expec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6% of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 in boys and g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pecific Phobia-characterized by a marked and persistent fear of objects, situa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5 major sub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   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    Natural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    Blood-injection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   Situ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   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1:25:33Z</dcterms:created>
  <dc:creator>Preferred Customer</dc:creator>
  <dc:description/>
  <dc:language>en-US</dc:language>
  <cp:lastModifiedBy>Rector, Richard V.</cp:lastModifiedBy>
  <dcterms:modified xsi:type="dcterms:W3CDTF">2017-04-04T14:42:07Z</dcterms:modified>
  <cp:revision>8</cp:revision>
  <dc:subject/>
  <dc:title>Anxiety</dc:title>
</cp:coreProperties>
</file>