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DE7-400B-4024-8E42-144B95B3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A89-22C7-4908-96A9-6A9207C4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0F9-1818-4785-83A3-2F05097F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A7D-7F50-402F-AA22-453876CE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606-C8B3-4BBD-BAA1-3EAE4091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40B-39D6-4E71-A774-106C92F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E1E-7032-42B2-8ECE-7BDF346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5EF-ED16-4C46-A95B-649AC68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913-0CBE-456F-8716-6EBFC4DB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945-95FC-4C4D-9791-978E1B3E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C41-B60A-482F-AA0A-BF2E9D1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2E3-840B-4279-8CD1-7DC4CDA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AA12-89CD-4CE4-9923-DFB3D251E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cial Phobia—a marked and persistent fear of social or performance situations with adults and peers in which they are exposed to possible scrutiny and embarra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ocial phobias appear in adolesc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mutism—children who fail to talk in social situations even though they speak openly a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ve-Compulsive Disorder—characterized by repeated, intrusive, and unwanted thoughts that caus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ons—persistent and intrusive thoughts, impulses, or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ions—repetitive, purposeful, and intentional behavio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ulsions are commonly associated with specific ob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bsession-cleaning com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 obsession-counting compul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tillomania-pulling one’s hai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Disorder—display recurrent, unexpected panic attacks followed by at least one month of persistent concern about having anoth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attack—sudden overwhelming period of intense fear or discomfort that is accompanied by four or more physical and cognitive symptoms characteristic of the fight/flight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-a fear of being alone in or avoiding certain places or situations because one is afraid of having a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—Normal IQ but may interfere with academic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—hypervigi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errors and biases—interprets ambiguous stimuli as negative and engage in more negative self-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mptoms-somat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defic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ety disorders most often co-occur with other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other anxiety disorders, then depression is most likely to co-occur with an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 and Anxiety are closely related but they are different!  Both are positively correlated with negative affectivity, but only depression is negatively correlated with positive aff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Temperament—individuals with anxiety disorder tend to be highly reactive, timid and s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Genetics—general heritability for anxiety disorders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Neurobiological factors—limbic system and neurotransmit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Family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modify 4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avoida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physiolog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eelings of lack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cognitive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Behavior therapy—focus is on exposure to the feared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Graduated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  Systematic Desens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  Flo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Cognitive-Behavioral Therapy—focus is on changing cognitiv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 associated with certain thoughts that are associated with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rapy tends to be the most effective for anxie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Medication—Antidepressants (tofranil), Bensodiazepines (valium, xanax), Selective Serotonin Reuptake Inhibitors (Prozac, Zol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amily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od state characterized by a strong negative emotion, bodily symptoms of tension, and apprehensive anticipation of future danger or misfortu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stem—“Fight or Flight” or physical response that involves the activation of your sympathetic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s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system—scanning the environment for thre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Cog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system—symptoms of fidgeting, irritability, biting nails.  Use of avoidance is negatively reinfo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al Trend to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 show a developmental trend. Be familiar with what are normal fears or anxieties for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ualistic and Repetitive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children learn about and master their environments.  It gives them a sense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ly when the behaviors interfere with a child’s functioning do we say that the child has a disord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Anxiety Disorder--Characterized by excessive fear and anxiety concerning separation from home or from those to whom the child is att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is is the only one that is actually classified as a childhood disorder in the DSM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on Anxiety Dis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ly associated with School Refusal and Test anxiety (neither of which are considered disor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neralized Anxiety Disorder-worry abou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hensive 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%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in boys and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pecific Phobia-characterized by a marked and persistent fear of objects, situ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5 major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Natur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Blood-injection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 Situ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1:25:33Z</dcterms:created>
  <dc:creator>Preferred Customer</dc:creator>
  <dc:description/>
  <dc:language>en-US</dc:language>
  <cp:lastModifiedBy>Rector, Richard V.</cp:lastModifiedBy>
  <dcterms:modified xsi:type="dcterms:W3CDTF">2017-04-04T14:42:07Z</dcterms:modified>
  <cp:revision>8</cp:revision>
  <dc:subject/>
  <dc:title>Anxiety</dc:title>
</cp:coreProperties>
</file>