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47A-ED2D-4B90-A180-D2100D1E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BAC-ED04-41E8-A392-E6401C67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A90-1610-4275-93E3-4F72808A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594-3E4E-46E9-81DF-32F22257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36B-E447-4C0E-96B7-11B07796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647-9677-4CAE-8779-C8CCF1EF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176-ABE9-492A-8E15-502E9E06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069-4E0E-46FA-9338-A1C58C39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833-ED82-4175-9914-81E99002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7F8-E765-43F2-AFC9-FC702DB3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61B-A67D-4505-9F91-51D85AA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8E0-EC35-45E3-821B-5C1D27F0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8823-665E-4A12-9658-CA55C1CB7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ocial Phobia—a marked and persistent fear of social or performance situations with adults and peers in which they are exposed to possible scrutiny and embarra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ocial phobias appear in adolesc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mutism—children who fail to talk in social situations even though they speak openly at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ve-Compulsive Disorder—characterized by repeated, intrusive, and unwanted thoughts that cause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ssions—persistent and intrusive thoughts, impulses, or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lsions—repetitive, purposeful, and intentional behavio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compulsions are commonly associated with specific ob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tion obsession-cleaning compul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 obsession-counting compul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hotillomania-pulling one’s hair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Disorder—display recurrent, unexpected panic attacks followed by at least one month of persistent concern about having anoth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ic attack—sudden overwhelming period of intense fear or discomfort that is accompanied by four or more physical and cognitive symptoms characteristic of the fight/flight 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raphobia-a fear of being alone in or avoiding certain places or situations because one is afraid of having an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—Normal IQ but may interfere with academic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—hypervigi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errors and biases—interprets ambiguous stimuli as negative and engage in more negative self-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mptoms-somatic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defic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ety disorders most often co-occur with other anxiety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ounting other anxiety disorders, then depression is most likely to co-occur with an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 and Anxiety are closely related but they are different!  Both are positively correlated with negative affectivity, but only depression is negatively correlated with positive affe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Temperament—individuals with anxiety disorder tend to be highly reactive, timid and s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Genetics—general heritability for anxiety disorders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pecific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Neurobiological factors—limbic system and neurotransmit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Family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modify 4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avoidant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physiolog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eelings of lack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 cognitive dist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Behavior therapy—focus is on exposure to the feared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Graduated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  Systematic Desens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   Floo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 Cognitive-Behavioral Therapy—focus is on changing cognitive dist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 associated with certain thoughts that are associated with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rapy tends to be the most effective for anxie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 Medication—Antidepressants (tofranil), Bensodiazepines (valium, xanax), Selective Serotonin Reuptake Inhibitors (Prozac, Zolo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 Family Inter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od state characterized by a strong negative emotion, bodily symptoms of tension, and apprehensive anticipation of future danger or misfortu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ystem—“Fight or Flight” or physical response that involves the activation of your sympathetic nervou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 gl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hysica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espon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system—scanning the environment for threa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Cog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system—symptoms of fidgeting, irritability, biting nails.  Use of avoidance is negatively reinfor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al Trend to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s show a developmental trend. Be familiar with what are normal fears or anxieties for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tualistic and Repetitive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help children learn about and master their environments.  It gives them a sense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only when the behaviors interfere with a child’s functioning do we say that the child has a disord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Anxiety Disorder--Characterized by excessive fear and anxiety concerning separation from home or from those to whom the child is att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is is the only one that is actually classified as a childhood disorder in the DSM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aration Anxiety Dis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ly associated with School Refusal and Test anxiety (neither of which are considered disorde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eneralized Anxiety Disorder-worry abou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ehensive Exp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6%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in boys and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pecific Phobia-characterized by a marked and persistent fear of objects, situ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5 major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 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 Natur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    Blood-injection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   Situ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   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1:25:33Z</dcterms:created>
  <dc:creator>Preferred Customer</dc:creator>
  <dc:description/>
  <dc:language>en-US</dc:language>
  <cp:lastModifiedBy>Rector, Richard V.</cp:lastModifiedBy>
  <dcterms:modified xsi:type="dcterms:W3CDTF">2017-04-04T14:42:07Z</dcterms:modified>
  <cp:revision>8</cp:revision>
  <dc:subject/>
  <dc:title>Anxiety</dc:title>
</cp:coreProperties>
</file>