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4EBA-4EC1-4F34-8CE1-D5AF2CAC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0E91-B274-42B7-99F7-49E757E0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efeating beliefs feed the vicious cycl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200-71CD-4E82-93D0-F7CC6A9F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is the number one reason people seek mental health services and is the leading cause of disability worldw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F1AF-7F45-4D13-B3F0-6CF013A3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is especially common among creative artists such as Walt Whitman, Ernest Hemingway, Margot Ki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only occurs in about 1%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5F3-F0F7-4950-A248-3B1610DF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F33-0B9F-4D5E-822E-36EB4E5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53A-FA37-4166-9F49-7BB99EDE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636-CF2F-4760-8505-BEE75896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E69-FF79-4C9C-BF16-CAA0A539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716-48A3-4003-861C-3B141C0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ACC-60C0-4281-8E05-822B4D9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385-57B4-4E21-9069-C9B8E8F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02F-3B8E-4016-B3B0-696B30FF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560-13B9-4B46-925E-38E08BF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BAE-2E39-4967-A615-725EDC0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6A8-1D0D-4BDD-91B0-CC3D261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2BE-1500-4716-94CF-42F0917EF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--.4-1.2% lifetime prevalence in children and adolescence.  Usually Bipolar II or cyclothymic disorder in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disorders run i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epinephrine, a neurotransmitter that increases arousal and boosts moods, is scarce during depression and overabundant during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tonin is also scarce during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80880" y="3397320"/>
            <a:ext cx="8381880" cy="3130560"/>
            <a:chOff x="380880" y="3397320"/>
            <a:chExt cx="8381880" cy="3130560"/>
          </a:xfrm>
        </p:grpSpPr>
        <p:pic>
          <p:nvPicPr>
            <p:cNvPr id="73" name="Picture 5" descr="15-7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380880" y="3397320"/>
              <a:ext cx="838188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87732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4086360" y="619056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ic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654660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-Cogni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’s attribution of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vs.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s.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triad (Self, World,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-Behavio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eliefs help maintain negative view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identify and challenge dysfunction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focus on restricted range of positive reinfor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ocial skill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ac, Zoloft, Pax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ipolar, the drug is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long ago depression was not considered a disorder of child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nicians referred to it as maske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vs.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disorder of depression manifest itself differently in children than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tability, rather than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rather than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matic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Disor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emotional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od disorder in which a person, for no apparent reason, experiences two or more weeks of depressed moods, feelings of worthlessness, and diminished interest or pleasure in mos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rates-2-8% of children ages 4-18 experience MD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prevalence in adolescence is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round age 13, girls are twice as likely to be diagnosed with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orientation towards soc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s use a more ruminative co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s and sleep patterns are different for boys and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girls and boys process and regulate emotion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cially acceptable to have internalizing problems for girls and externalizing problems for b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c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marked by a hyperactive, wildly optimist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iose optimism and self-esteem may lead to reckless investments, spending sprees, and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in which the person alternates between the hopelessness and lethargy of depression and the overexcited state of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called manic-depressiv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polar vs. M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differ from MDD in addition to the manic epis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eople with bipolar disorder are depressed, they typically sleep more than usual, whereas people with unipolar depression have insomnia and are ag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 of onset of MDD is usually later than that of 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ives of individuals with bipolar disorder have mood disorders than do relatives of those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is more therapeutic for bipolar patients that are depressed than it is for patients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9:34:31Z</dcterms:created>
  <dc:creator>rrector</dc:creator>
  <dc:description/>
  <dc:language>en-US</dc:language>
  <cp:lastModifiedBy>Rector, Richard V.</cp:lastModifiedBy>
  <dcterms:modified xsi:type="dcterms:W3CDTF">2017-03-21T15:27:58Z</dcterms:modified>
  <cp:revision>4</cp:revision>
  <dc:subject/>
  <dc:title>Mood Disorders</dc:title>
</cp:coreProperties>
</file>