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D836-AE12-40E6-B211-18AC5EC6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2D89-C214-4254-8BBF-54502581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efeating beliefs feed the vicious cycl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ACB-CD1E-47B1-AE53-A66F19AB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is the number one reason people seek mental health services and is the leading cause of disability worldw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A1F7-9065-41A2-90CF-753FBF42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is especially common among creative artists such as Walt Whitman, Ernest Hemingway, Margot Ki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polar disorder only occurs in about 1%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6F6-CC47-4267-8ACF-9DCE43A0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402-DBE6-4380-A5B9-8FC854B8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8B4-DB10-43FF-B481-1A76EA4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204-DB57-49DF-BD41-F7D38741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F72-FFE0-4F46-9BE3-954DE39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082-6B26-41D3-A637-E503C720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D53-7352-4A3E-8111-3BB948B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7AE-561C-4CA3-8F5E-A94BEB23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E13-9D3B-4427-AD54-B698445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79C-7D23-4747-99BC-A24EDF4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59-4409-4DE7-A47F-787DEAF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F6D-F2E6-400E-8999-28F19CB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D58-CBD5-4E0C-A8CA-DFDBC05D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--.4-1.2% lifetime prevalence in children and adolescence.  Usually Bipolar II or cyclothymic disorder in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disorders run i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epinephrine, a neurotransmitter that increases arousal and boosts moods, is scarce during depression and overabundant during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tonin is also scarce during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80880" y="3397320"/>
            <a:ext cx="8381880" cy="3130560"/>
            <a:chOff x="380880" y="3397320"/>
            <a:chExt cx="8381880" cy="3130560"/>
          </a:xfrm>
        </p:grpSpPr>
        <p:pic>
          <p:nvPicPr>
            <p:cNvPr id="73" name="Picture 5" descr="15-7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380880" y="3397320"/>
              <a:ext cx="838188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87732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4086360" y="619056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ic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6546600" y="619056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presse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s on Mood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-Cognitiv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’s attribution of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vs.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s.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triad (Self, World,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-Behavio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eliefs help maintain negative view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identify and challenge dysfunction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focus on restricted range of positive reinfor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ocial skill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zac, Zoloft, Pax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ipolar, the drug is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long ago depression was not considered a disorder of child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nicians referred to it as masked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vs.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disorder of depression manifest itself differently in children than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tability, rather than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rather than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matic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Disor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emotional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od disorder in which a person, for no apparent reason, experiences two or more weeks of depressed moods, feelings of worthlessness, and diminished interest or pleasure in mos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rates-2-8% of children ages 4-18 experience MD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prevalence in adolescence is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round age 13, girls are twice as likely to be diagnosed with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orientation towards soc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s use a more ruminative co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s and sleep patterns are different for boys and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girls and boys process and regulate emotions diffe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cially acceptable to have internalizing problems for girls and externalizing problems for b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3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c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marked by a hyperactive, wildly optimist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iose optimism and self-esteem may lead to reckless investments, spending sprees, and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od disorder in which the person alternates between the hopelessness and lethargy of depression and the overexcited state of 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called manic-depressive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polar vs. M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differ from MDD in addition to the manic epis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eople with bipolar disorder are depressed, they typically sleep more than usual, whereas people with unipolar depression have insomnia and are ag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 of onset of MDD is usually later than that of bipolar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ives of individuals with bipolar disorder have mood disorders than do relatives of those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is more therapeutic for bipolar patients that are depressed than it is for patients with M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9:34:31Z</dcterms:created>
  <dc:creator>rrector</dc:creator>
  <dc:description/>
  <dc:language>en-US</dc:language>
  <cp:lastModifiedBy>Rector, Richard V.</cp:lastModifiedBy>
  <dcterms:modified xsi:type="dcterms:W3CDTF">2017-03-21T15:27:58Z</dcterms:modified>
  <cp:revision>4</cp:revision>
  <dc:subject/>
  <dc:title>Mood Disorders</dc:title>
</cp:coreProperties>
</file>