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4CFE-BE18-4F31-941E-1EB923142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34C2-FEB4-498C-85FB-26494C4B1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efeating beliefs feed the vicious cycl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25AC-E47E-47CE-BEBF-EC0B3205E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is the number one reason people seek mental health services and is the leading cause of disability worldw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7E04-F2F1-4DFD-B3F6-4AC602AF9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polar disorder is especially common among creative artists such as Walt Whitman, Ernest Hemingway, Margot Ki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polar disorder only occurs in about 1% of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EAD-0C45-4F9F-B069-2CD52A96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306-C801-42B9-8EDA-8E900DD1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B36-4082-4157-BEBF-9B19FFF2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D33-A685-46B5-9D62-DFAD80F6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604-1864-48A4-A8A6-729C132B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5BA-6DCC-4A2A-BE6C-EBB4729B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626-55CC-4CE3-941C-590796A0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422-9FE9-4860-8EF7-9E77366F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E4E-727A-4763-804C-CAE681A5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8E6-6CB8-482E-B26F-98E2592B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B38-1D74-4EFB-BAF9-17F7D316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5BB-B80E-4D23-88AB-82742FB3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3790-7236-4508-A456-BE08098BA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--.4-1.2% lifetime prevalence in children and adolescence.  Usually Bipolar II or cyclothymic disorder in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Infl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d disorders run in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ed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epinephrine, a neurotransmitter that increases arousal and boosts moods, is scarce during depression and overabundant during 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otonin is also scarce during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 scans show that brain energy consumption rises and falls with emotional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380880" y="3397320"/>
            <a:ext cx="8381880" cy="3130560"/>
            <a:chOff x="380880" y="3397320"/>
            <a:chExt cx="8381880" cy="3130560"/>
          </a:xfrm>
        </p:grpSpPr>
        <p:pic>
          <p:nvPicPr>
            <p:cNvPr id="73" name="Picture 5" descr="15-7"/>
            <p:cNvPicPr/>
            <p:nvPr/>
          </p:nvPicPr>
          <p:blipFill>
            <a:blip r:embed="rId1"/>
            <a:srcRect l="0" t="0" r="0" b="18609"/>
            <a:stretch/>
          </p:blipFill>
          <p:spPr>
            <a:xfrm>
              <a:off x="380880" y="3397320"/>
              <a:ext cx="8381880" cy="279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6"/>
            <p:cNvSpPr/>
            <p:nvPr/>
          </p:nvSpPr>
          <p:spPr>
            <a:xfrm>
              <a:off x="877320" y="619056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pressed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7"/>
            <p:cNvSpPr/>
            <p:nvPr/>
          </p:nvSpPr>
          <p:spPr>
            <a:xfrm>
              <a:off x="4086360" y="6190560"/>
              <a:ext cx="128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nic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6546600" y="619056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pressed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-Cognitive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thou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’s attribution of bl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vs. 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vs. un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vs.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d Help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triad (Self, World, and F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-Behavior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eliefs help maintain negative view of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to identify and challenge dysfunctional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apy should focus on restricted range of positive reinfor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social skills and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depress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zac, Zoloft, Pax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ipolar, the drug is 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oo long ago depression was not considered a disorder of childh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linicians referred to it as masked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ren vs.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the disorder of depression manifest itself differently in children than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itability, rather than depressed m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s rather than t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on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omatic compl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Disord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emotional extr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depressive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Depressive Disor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od disorder in which a person, for no apparent reason, experiences two or more weeks of depressed moods, feelings of worthlessness, and diminished interest or pleasure in mos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rates-2-8% of children ages 4-18 experience MD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time prevalence in adolescence is 2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around age 13, girls are twice as likely to be diagnosed with de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orientation towards soc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rls use a more ruminative coping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mones and sleep patterns are different for boys and gir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hat girls and boys process and regulate emotions diffe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ocially acceptable to have internalizing problems for girls and externalizing problems for bo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c Epis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od disorder marked by a hyperactive, wildly optimistic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da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iose optimism and self-esteem may lead to reckless investments, spending sprees, and unsaf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od disorder in which the person alternates between the hopelessness and lethargy of depression and the overexcited state of 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called manic-depressive dis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polar vs. M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differ from MDD in addition to the manic epis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eople with bipolar disorder are depressed, they typically sleep more than usual, whereas people with unipolar depression have insomnia and are ag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ge of onset of MDD is usually later than that of bipolar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latives of individuals with bipolar disorder have mood disorders than do relatives of those with M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ium is more therapeutic for bipolar patients that are depressed than it is for patients with M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9:34:31Z</dcterms:created>
  <dc:creator>rrector</dc:creator>
  <dc:description/>
  <dc:language>en-US</dc:language>
  <cp:lastModifiedBy>Rector, Richard V.</cp:lastModifiedBy>
  <dcterms:modified xsi:type="dcterms:W3CDTF">2017-03-21T15:27:58Z</dcterms:modified>
  <cp:revision>4</cp:revision>
  <dc:subject/>
  <dc:title>Mood Disorders</dc:title>
</cp:coreProperties>
</file>