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8B53-6B06-48F4-8050-EF012F122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597C-9292-4B4A-91A5-D429EF9E1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efeating beliefs feed the vicious cycl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AAE6-A6B6-4602-8629-E146D14B8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is the number one reason people seek mental health services and is the leading cause of disability worldw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311E-1AB0-4411-AB45-05505901F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polar disorder is especially common among creative artists such as Walt Whitman, Ernest Hemingway, Margot Kid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polar disorder only occurs in about 1% of the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7E93-6075-46F4-8CCD-4A0C1C73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AD92-1D56-4B9C-BE70-73520CB8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6429-7E06-4716-92EB-ABAEFBFD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AFE8-5D83-48CB-A3AD-25BE5A21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09C-30D6-4044-A701-7920BA16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AE6-203E-411C-871C-943FF2EE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4BA4-8EF0-42DA-B55C-F7FD8A13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08D9-7E0B-4B08-BA79-91FABF0F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8504-CBA9-4980-B9EA-BA479B7F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1F6C-60E8-48F7-B16D-E7A069DB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F3E-BF6A-4EF7-9EFD-C84BECC4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A449-05B9-4DC2-A9E3-52E569B8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C5E3-9954-437B-A4B3-ABCA02101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d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--.4-1.2% lifetime prevalence in children and adolescence.  Usually Bipolar II or cyclothymic disorder in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pectives on Mood Dis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Infl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d disorders run in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ed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epinephrine, a neurotransmitter that increases arousal and boosts moods, is scarce during depression and overabundant during 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otonin is also scarce during 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39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spectives on Mood Disord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 scans show that brain energy consumption rises and falls with emotional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380880" y="3397320"/>
            <a:ext cx="8381880" cy="3130560"/>
            <a:chOff x="380880" y="3397320"/>
            <a:chExt cx="8381880" cy="3130560"/>
          </a:xfrm>
        </p:grpSpPr>
        <p:pic>
          <p:nvPicPr>
            <p:cNvPr id="73" name="Picture 5" descr="15-7"/>
            <p:cNvPicPr/>
            <p:nvPr/>
          </p:nvPicPr>
          <p:blipFill>
            <a:blip r:embed="rId1"/>
            <a:srcRect l="0" t="0" r="0" b="18609"/>
            <a:stretch/>
          </p:blipFill>
          <p:spPr>
            <a:xfrm>
              <a:off x="380880" y="3397320"/>
              <a:ext cx="8381880" cy="279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6"/>
            <p:cNvSpPr/>
            <p:nvPr/>
          </p:nvSpPr>
          <p:spPr>
            <a:xfrm>
              <a:off x="877320" y="619056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pressed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7"/>
            <p:cNvSpPr/>
            <p:nvPr/>
          </p:nvSpPr>
          <p:spPr>
            <a:xfrm>
              <a:off x="4086360" y="6190560"/>
              <a:ext cx="128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nic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8"/>
            <p:cNvSpPr/>
            <p:nvPr/>
          </p:nvSpPr>
          <p:spPr>
            <a:xfrm>
              <a:off x="6546600" y="619056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pressed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pectives on Mood Dis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-Cognitive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though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’s attribution of bl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vs. 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le vs. uns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vs. 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ed Helples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triad (Self, World, and Fu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ve-Behavior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eliefs help maintain negative view of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to identify and challenge dysfunctional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apy should focus on restricted range of positive reinfor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social skills and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depress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zac, Zoloft, Pax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ipolar, the drug is Lit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De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oo long ago depression was not considered a disorder of childh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clinicians referred to it as masked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dren vs. Ad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the disorder of depression manifest itself differently in children than ad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ritability, rather than depressed m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s rather than tal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ion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omatic compl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39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od Disord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d Disorde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d by emotional extr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depressive dis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polar dis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d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Depressive Disor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od disorder in which a person, for no apparent reason, experiences two or more weeks of depressed moods, feelings of worthlessness, and diminished interest or pleasure in most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 rates-2-8% of children ages 4-18 experience MD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time prevalence in adolescence is 2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der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around age 13, girls are twice as likely to be diagnosed with de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orientation towards soc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rls use a more ruminative coping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mones and sleep patterns are different for boys and gir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sible that girls and boys process and regulate emotions differ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socially acceptable to have internalizing problems for girls and externalizing problems for bo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39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od Disord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c Epis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od disorder marked by a hyperactive, wildly optimistic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da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iose optimism and self-esteem may lead to reckless investments, spending sprees, and unsafe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polar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od disorder in which the person alternates between the hopelessness and lethargy of depression and the overexcited state of 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rly called manic-depressive dis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polar vs. MD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it differ from MDD in addition to the manic episo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eople with bipolar disorder are depressed, they typically sleep more than usual, whereas people with unipolar depression have insomnia and are agi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ge of onset of MDD is usually later than that of bipolar dis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latives of individuals with bipolar disorder have mood disorders than do relatives of those with M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hium is more therapeutic for bipolar patients that are depressed than it is for patients with M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19:34:31Z</dcterms:created>
  <dc:creator>rrector</dc:creator>
  <dc:description/>
  <dc:language>en-US</dc:language>
  <cp:lastModifiedBy>Rector, Richard V.</cp:lastModifiedBy>
  <dcterms:modified xsi:type="dcterms:W3CDTF">2017-03-21T15:27:58Z</dcterms:modified>
  <cp:revision>4</cp:revision>
  <dc:subject/>
  <dc:title>Mood Disorders</dc:title>
</cp:coreProperties>
</file>