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B755-4E98-4745-8DD4-DF063B72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A9D7-149D-4688-8C5A-5F85B1A72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efeating beliefs feed the vicious cycl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2E35-D9B7-4E50-A84C-2F8278E9B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is the number one reason people seek mental health services and is the leading cause of disability worldw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2098-9B94-4577-B76C-0873E5B5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is especially common among creative artists such as Walt Whitman, Ernest Hemingway, Margot Ki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only occurs in about 1%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6A2-12B7-4E1E-9ACD-F6C9B230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ECF-8C2D-4F59-983C-A57D32A0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CE9-4FED-411E-8F6B-462211E0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F8F-D9E6-4770-AD60-4B1A8375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243-E101-4B34-875D-707C9011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058-2D35-4B07-AE54-08914817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F0E-B5C3-4A23-BEA5-70537E5C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E94-0BB6-4B0F-8A4E-3F6F2E4D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31E-DA91-47BB-AD12-349C6D80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ECD-5F57-43E2-8F54-F09B50EA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54A-A818-4C3C-91CD-0494D0E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418-81CB-4C46-9B3D-E7967A13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7A2F-07CA-4B18-B7AF-07EE2F687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--.4-1.2% lifetime prevalence in children and adolescence.  Usually Bipolar II or cyclothymic disorder in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disorders run in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ed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epinephrine, a neurotransmitter that increases arousal and boosts moods, is scarce during depression and overabundant during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otonin is also scarce during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 scans show that brain energy consumption rises and falls with emotional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380880" y="3397320"/>
            <a:ext cx="8381880" cy="3130560"/>
            <a:chOff x="380880" y="3397320"/>
            <a:chExt cx="8381880" cy="3130560"/>
          </a:xfrm>
        </p:grpSpPr>
        <p:pic>
          <p:nvPicPr>
            <p:cNvPr id="73" name="Picture 5" descr="15-7"/>
            <p:cNvPicPr/>
            <p:nvPr/>
          </p:nvPicPr>
          <p:blipFill>
            <a:blip r:embed="rId1"/>
            <a:srcRect l="0" t="0" r="0" b="18609"/>
            <a:stretch/>
          </p:blipFill>
          <p:spPr>
            <a:xfrm>
              <a:off x="380880" y="3397320"/>
              <a:ext cx="8381880" cy="27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6"/>
            <p:cNvSpPr/>
            <p:nvPr/>
          </p:nvSpPr>
          <p:spPr>
            <a:xfrm>
              <a:off x="87732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4086360" y="6190560"/>
              <a:ext cx="12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nic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654660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-Cognitiv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’s attribution of b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vs. 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vs. 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vs.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triad (Self, World, and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-Behavior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eliefs help maintain negative view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to identify and challenge dysfunction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should focus on restricted range of positive reinfor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ocial skill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pres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zac, Zoloft, Pax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ipolar, the drug is 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long ago depression was not considered a disorder of child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nicians referred to it as masked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vs.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disorder of depression manifest itself differently in children than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tability, rather than depressed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 rather than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omatic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Disord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emotional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Depressive Dis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od disorder in which a person, for no apparent reason, experiences two or more weeks of depressed moods, feelings of worthlessness, and diminished interest or pleasure in mos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rates-2-8% of children ages 4-18 experience MD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prevalence in adolescence is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around age 13, girls are twice as likely to be diagnosed with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orientation towards soc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s use a more ruminative cop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mones and sleep patterns are different for boys and 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hat girls and boys process and regulate emotions diffe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cially acceptable to have internalizing problems for girls and externalizing problems for bo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c Epis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marked by a hyperactive, wildly optimistic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iose optimism and self-esteem may lead to reckless investments, spending sprees, and unsaf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in which the person alternates between the hopelessness and lethargy of depression and the overexcited state of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called manic-depressive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polar vs. M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differ from MDD in addition to the manic epis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eople with bipolar disorder are depressed, they typically sleep more than usual, whereas people with unipolar depression have insomnia and are ag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 of onset of MDD is usually later than that of 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ives of individuals with bipolar disorder have mood disorders than do relatives of those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ium is more therapeutic for bipolar patients that are depressed than it is for patients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9:34:31Z</dcterms:created>
  <dc:creator>rrector</dc:creator>
  <dc:description/>
  <dc:language>en-US</dc:language>
  <cp:lastModifiedBy>Rector, Richard V.</cp:lastModifiedBy>
  <dcterms:modified xsi:type="dcterms:W3CDTF">2017-03-21T15:27:58Z</dcterms:modified>
  <cp:revision>4</cp:revision>
  <dc:subject/>
  <dc:title>Mood Disorders</dc:title>
</cp:coreProperties>
</file>