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3.jpeg" ContentType="image/jpeg"/>
  <Override PartName="/ppt/media/image30.png" ContentType="image/png"/>
  <Override PartName="/ppt/media/image26.jpeg" ContentType="image/jpeg"/>
  <Override PartName="/ppt/media/image5.jpeg" ContentType="image/jpeg"/>
  <Override PartName="/ppt/media/image4.jpeg" ContentType="image/jpeg"/>
  <Override PartName="/ppt/media/image27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2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png" ContentType="image/png"/>
  <Override PartName="/ppt/media/image2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077D-C00D-49B5-AB7E-DA07B2BE3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03C6-95CA-4275-9B04-A1D75094D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E866-60C6-4B79-B379-D0C476FBF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D3D4-27E5-4F3E-AF0E-65AB5D6A5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E602-102F-48E4-A409-4B6E83F35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9236-A52E-4B3D-AF20-DB52110E1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7106-B2EF-4431-B049-0EA231B4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ACD8-96BA-4B2C-9719-DE0FDF245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95A0-115C-4310-A5EC-27AC7C212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7705-F1D4-4017-B4CB-AB76028B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A265-138F-48CB-85EF-EE652F95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461B-A434-47F0-960A-C189CFE5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0CB28-CAA7-452F-89CA-B16DBED5835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he Second Industrial Revolutio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nstruction of the Paris Metr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9" name="Picture 6" descr="Paris Metro construction"/>
          <p:cNvPicPr/>
          <p:nvPr/>
        </p:nvPicPr>
        <p:blipFill>
          <a:blip r:embed="rId2"/>
          <a:stretch/>
        </p:blipFill>
        <p:spPr>
          <a:xfrm>
            <a:off x="457200" y="1523880"/>
            <a:ext cx="828216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486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aris Metro Construc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1" name="Picture 6" descr="paris_metro2_construction"/>
          <p:cNvPicPr/>
          <p:nvPr/>
        </p:nvPicPr>
        <p:blipFill>
          <a:blip r:embed="rId2"/>
          <a:stretch/>
        </p:blipFill>
        <p:spPr>
          <a:xfrm>
            <a:off x="380880" y="152280"/>
            <a:ext cx="849168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1828800"/>
            <a:ext cx="3124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aris Metr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3" name="Picture 6" descr="Paris metro sign"/>
          <p:cNvPicPr/>
          <p:nvPr/>
        </p:nvPicPr>
        <p:blipFill>
          <a:blip r:embed="rId2"/>
          <a:stretch/>
        </p:blipFill>
        <p:spPr>
          <a:xfrm>
            <a:off x="3429000" y="152280"/>
            <a:ext cx="5521320" cy="644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90960" y="2286000"/>
            <a:ext cx="33526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Bessemer Converter, 1856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5" name="Picture 6" descr="Bessemer_Converter_Sheffield"/>
          <p:cNvPicPr/>
          <p:nvPr/>
        </p:nvPicPr>
        <p:blipFill>
          <a:blip r:embed="rId2"/>
          <a:srcRect l="0" t="0" r="0" b="21931"/>
          <a:stretch/>
        </p:blipFill>
        <p:spPr>
          <a:xfrm>
            <a:off x="228600" y="228600"/>
            <a:ext cx="5429160" cy="644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562720" y="2057400"/>
            <a:ext cx="3124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he Bessemer Proces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7" name="Picture 8" descr="bessemer blower"/>
          <p:cNvPicPr/>
          <p:nvPr/>
        </p:nvPicPr>
        <p:blipFill>
          <a:blip r:embed="rId2"/>
          <a:stretch/>
        </p:blipFill>
        <p:spPr>
          <a:xfrm>
            <a:off x="685800" y="152280"/>
            <a:ext cx="4589640" cy="64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3504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earsall’s Compact Camera (1883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9" name="Content Placeholder 3" descr=""/>
          <p:cNvPicPr/>
          <p:nvPr/>
        </p:nvPicPr>
        <p:blipFill>
          <a:blip r:embed="rId2"/>
          <a:stretch/>
        </p:blipFill>
        <p:spPr>
          <a:xfrm>
            <a:off x="3886200" y="838080"/>
            <a:ext cx="472428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dison phonograph (1898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1" name="Content Placeholder 3" descr=""/>
          <p:cNvPicPr/>
          <p:nvPr/>
        </p:nvPicPr>
        <p:blipFill>
          <a:blip r:embed="rId2"/>
          <a:stretch/>
        </p:blipFill>
        <p:spPr>
          <a:xfrm>
            <a:off x="2133720" y="1523880"/>
            <a:ext cx="50623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343040" y="2209680"/>
            <a:ext cx="16765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Old Pari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3" name="Picture 6" descr="paris_marville"/>
          <p:cNvPicPr/>
          <p:nvPr/>
        </p:nvPicPr>
        <p:blipFill>
          <a:blip r:embed="rId2"/>
          <a:stretch/>
        </p:blipFill>
        <p:spPr>
          <a:xfrm>
            <a:off x="0" y="457200"/>
            <a:ext cx="4487760" cy="585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Paris -- old"/>
          <p:cNvPicPr/>
          <p:nvPr/>
        </p:nvPicPr>
        <p:blipFill>
          <a:blip r:embed="rId3"/>
          <a:stretch/>
        </p:blipFill>
        <p:spPr>
          <a:xfrm>
            <a:off x="5862600" y="685800"/>
            <a:ext cx="3281400" cy="54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Camille Pissarro, </a:t>
            </a:r>
            <a:r>
              <a:rPr b="0" i="1" lang="en-US" sz="3200" spc="-1" strike="noStrike">
                <a:solidFill>
                  <a:srgbClr val="e5ffff"/>
                </a:solidFill>
                <a:latin typeface="Tahoma"/>
              </a:rPr>
              <a:t>L’Avenue de l’Opera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 (1880)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6" name="Picture 6" descr="paris_pissarro_opera"/>
          <p:cNvPicPr/>
          <p:nvPr/>
        </p:nvPicPr>
        <p:blipFill>
          <a:blip r:embed="rId2"/>
          <a:stretch/>
        </p:blipFill>
        <p:spPr>
          <a:xfrm>
            <a:off x="1066680" y="914400"/>
            <a:ext cx="696600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562360" y="2133720"/>
            <a:ext cx="2971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New Paris:  Avenue de la Grande Arm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  <a:ea typeface="Tahoma"/>
              </a:rPr>
              <a:t>é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8" name="Picture 8" descr="Paris -- Grande Armee"/>
          <p:cNvPicPr/>
          <p:nvPr/>
        </p:nvPicPr>
        <p:blipFill>
          <a:blip r:embed="rId2"/>
          <a:stretch/>
        </p:blipFill>
        <p:spPr>
          <a:xfrm>
            <a:off x="662040" y="0"/>
            <a:ext cx="4259160" cy="68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ns-Atlantic cable (1866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ez Canal (1869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ttlieb Daimler (d. 1900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tro (Paris' started in 1895; London's, in 1863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ssemer Pro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guerreotype cameras (1830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honograph (1877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rles Darwin (d. 1882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he Origin of Speci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1859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ugust Comte (d. 1857) Positivism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x Weber (d. 1920) and sociolo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iffel Tower (1889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silica of the Sacred Heart (1875-1914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943600" y="274320"/>
            <a:ext cx="2743200" cy="24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harles Darwi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0" name="Picture 4" descr="Charles Darwin"/>
          <p:cNvPicPr/>
          <p:nvPr/>
        </p:nvPicPr>
        <p:blipFill>
          <a:blip r:embed="rId2"/>
          <a:stretch/>
        </p:blipFill>
        <p:spPr>
          <a:xfrm>
            <a:off x="0" y="0"/>
            <a:ext cx="5427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2" name="Content Placeholder 3" descr="Origin_of_Species_title_page.jpg"/>
          <p:cNvPicPr/>
          <p:nvPr/>
        </p:nvPicPr>
        <p:blipFill>
          <a:blip r:embed="rId2"/>
          <a:srcRect l="-110511" t="0" r="-110511" b="0"/>
          <a:stretch/>
        </p:blipFill>
        <p:spPr>
          <a:xfrm>
            <a:off x="-1676520" y="228600"/>
            <a:ext cx="130129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Wilhelm Wundt (d. 1920) in his lab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4" name="Picture 6" descr="WundtLab180"/>
          <p:cNvPicPr/>
          <p:nvPr/>
        </p:nvPicPr>
        <p:blipFill>
          <a:blip r:embed="rId2"/>
          <a:stretch/>
        </p:blipFill>
        <p:spPr>
          <a:xfrm>
            <a:off x="609480" y="1116000"/>
            <a:ext cx="7815240" cy="57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486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mitrii Mendeleev (d. 1907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6" name="Picture 6" descr="Mendeleev"/>
          <p:cNvPicPr/>
          <p:nvPr/>
        </p:nvPicPr>
        <p:blipFill>
          <a:blip r:embed="rId2"/>
          <a:stretch/>
        </p:blipFill>
        <p:spPr>
          <a:xfrm>
            <a:off x="762120" y="228600"/>
            <a:ext cx="7586640" cy="54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6" descr="mendeleev_1871"/>
          <p:cNvPicPr/>
          <p:nvPr/>
        </p:nvPicPr>
        <p:blipFill>
          <a:blip r:embed="rId2"/>
          <a:stretch/>
        </p:blipFill>
        <p:spPr>
          <a:xfrm>
            <a:off x="609480" y="228600"/>
            <a:ext cx="7944120" cy="63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905120"/>
            <a:ext cx="2743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Gregor Mendel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9" name="Picture 6" descr="Mendel"/>
          <p:cNvPicPr/>
          <p:nvPr/>
        </p:nvPicPr>
        <p:blipFill>
          <a:blip r:embed="rId2"/>
          <a:srcRect l="0" t="0" r="0" b="7663"/>
          <a:stretch/>
        </p:blipFill>
        <p:spPr>
          <a:xfrm>
            <a:off x="3505320" y="228600"/>
            <a:ext cx="451620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800600" y="2133360"/>
            <a:ext cx="40384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ugust Comte (d. 1857)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hree stages:  1) Theological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2) Metaphysical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3) Scientific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1" name="Picture 6" descr="Comte"/>
          <p:cNvPicPr/>
          <p:nvPr/>
        </p:nvPicPr>
        <p:blipFill>
          <a:blip r:embed="rId2"/>
          <a:stretch/>
        </p:blipFill>
        <p:spPr>
          <a:xfrm>
            <a:off x="380880" y="533520"/>
            <a:ext cx="4003920" cy="56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867280" y="380880"/>
            <a:ext cx="28195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Max Weber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Picture 4" descr="Max Weber"/>
          <p:cNvPicPr/>
          <p:nvPr/>
        </p:nvPicPr>
        <p:blipFill>
          <a:blip r:embed="rId2"/>
          <a:stretch/>
        </p:blipFill>
        <p:spPr>
          <a:xfrm>
            <a:off x="0" y="0"/>
            <a:ext cx="555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638320" y="380880"/>
            <a:ext cx="30481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Eiffel Tower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5" name="Picture 4" descr="Eiffel Tower"/>
          <p:cNvPicPr/>
          <p:nvPr/>
        </p:nvPicPr>
        <p:blipFill>
          <a:blip r:embed="rId2"/>
          <a:stretch/>
        </p:blipFill>
        <p:spPr>
          <a:xfrm>
            <a:off x="0" y="0"/>
            <a:ext cx="4587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acre Coeur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7" name="Picture 4" descr="Sacre Coeur"/>
          <p:cNvPicPr/>
          <p:nvPr/>
        </p:nvPicPr>
        <p:blipFill>
          <a:blip r:embed="rId2"/>
          <a:stretch/>
        </p:blipFill>
        <p:spPr>
          <a:xfrm>
            <a:off x="0" y="650880"/>
            <a:ext cx="9144000" cy="621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105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rans-Atlantic Cab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4" name="Picture 6" descr="Trans-Atlantic Cable map"/>
          <p:cNvPicPr/>
          <p:nvPr/>
        </p:nvPicPr>
        <p:blipFill>
          <a:blip r:embed="rId2"/>
          <a:srcRect l="1250" t="3106" r="2500" b="6211"/>
          <a:stretch/>
        </p:blipFill>
        <p:spPr>
          <a:xfrm>
            <a:off x="-15840" y="1295280"/>
            <a:ext cx="9159840" cy="34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Loading Cable into the Great Eastern, 1865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6" name="Picture 6" descr="Cable in Great Eastern -- 1865"/>
          <p:cNvPicPr/>
          <p:nvPr/>
        </p:nvPicPr>
        <p:blipFill>
          <a:blip r:embed="rId2"/>
          <a:stretch/>
        </p:blipFill>
        <p:spPr>
          <a:xfrm>
            <a:off x="685800" y="1523880"/>
            <a:ext cx="7815240" cy="49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5486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Celebrating the Trans-Atlantic Cable, “The Eighth Wonder of the World”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8" name="Picture 6" descr="Trans-Atlantic Cable"/>
          <p:cNvPicPr/>
          <p:nvPr/>
        </p:nvPicPr>
        <p:blipFill>
          <a:blip r:embed="rId2"/>
          <a:stretch/>
        </p:blipFill>
        <p:spPr>
          <a:xfrm>
            <a:off x="990720" y="0"/>
            <a:ext cx="7194600" cy="56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62520" y="228600"/>
            <a:ext cx="48765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uez Cana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0" name="Picture 7" descr="Suez canal -- drawing in 1881"/>
          <p:cNvPicPr/>
          <p:nvPr/>
        </p:nvPicPr>
        <p:blipFill>
          <a:blip r:embed="rId2"/>
          <a:stretch/>
        </p:blipFill>
        <p:spPr>
          <a:xfrm>
            <a:off x="0" y="0"/>
            <a:ext cx="3986280" cy="6954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Suez Canal"/>
          <p:cNvPicPr/>
          <p:nvPr/>
        </p:nvPicPr>
        <p:blipFill>
          <a:blip r:embed="rId3"/>
          <a:stretch/>
        </p:blipFill>
        <p:spPr>
          <a:xfrm>
            <a:off x="4097160" y="1905120"/>
            <a:ext cx="504684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2438280"/>
            <a:ext cx="2971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uez Canal Today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3" name="Picture 6" descr="Suez Canal today"/>
          <p:cNvPicPr/>
          <p:nvPr/>
        </p:nvPicPr>
        <p:blipFill>
          <a:blip r:embed="rId2"/>
          <a:stretch/>
        </p:blipFill>
        <p:spPr>
          <a:xfrm>
            <a:off x="4343400" y="228600"/>
            <a:ext cx="4268880" cy="64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10080" y="274320"/>
            <a:ext cx="327672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ottlieb Daiml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5" name="Picture 7" descr="Daimler"/>
          <p:cNvPicPr/>
          <p:nvPr/>
        </p:nvPicPr>
        <p:blipFill>
          <a:blip r:embed="rId2"/>
          <a:stretch/>
        </p:blipFill>
        <p:spPr>
          <a:xfrm>
            <a:off x="0" y="0"/>
            <a:ext cx="4795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5257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aimler’s first car, 1886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7" name="Picture 6" descr="Daimler car 1886"/>
          <p:cNvPicPr/>
          <p:nvPr/>
        </p:nvPicPr>
        <p:blipFill>
          <a:blip r:embed="rId2"/>
          <a:stretch/>
        </p:blipFill>
        <p:spPr>
          <a:xfrm>
            <a:off x="685800" y="304920"/>
            <a:ext cx="7834320" cy="52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4T20:56:53Z</dcterms:created>
  <dc:creator>hpv126</dc:creator>
  <dc:description/>
  <dc:language>en-US</dc:language>
  <cp:lastModifiedBy>Randall D. Law</cp:lastModifiedBy>
  <dcterms:modified xsi:type="dcterms:W3CDTF">2020-03-24T18:19:10Z</dcterms:modified>
  <cp:revision>12</cp:revision>
  <dc:subject/>
  <dc:title>Democracy, The Second Industrial Revolution, and Positivism</dc:title>
</cp:coreProperties>
</file>