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E6E-84CB-48FD-9061-C1DD39027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2116-3510-4DAB-8CF7-04CDF248C5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245-A7D9-4568-98E2-587362D1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E24-2570-4D72-8556-ACB3412C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988FF-7BF4-473C-9677-8092ED9A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DF1A8-FB2D-4CC8-B7F5-12BC22EC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96714-7CDC-482C-BCEA-571F0BB3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8573C-5241-4713-B183-F461018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DBA3E-D513-4B6B-B7DF-4965BC4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D742E-7C2C-4AA7-9C4B-0F6DF31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CD188-5AF6-4854-AE1D-DD6D0E0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F4DB3-8516-4853-9A69-D18D2B80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B2E29-72B8-41E0-8608-2965F758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553D4-B5A7-4DBF-88E1-E08E12D8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7EF-DA25-4811-BAF0-69740BAE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DA4BC-B1DC-45DA-B7AD-58F82C0D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6A3F9-DC89-4714-BA9B-74750263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4B1393-CA8D-429A-97D4-530DC0EF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2258BC-DD88-4873-AE28-1C41D303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B94507-8191-45D9-AFE2-A1920AD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22D06-479F-42A9-B59E-FADDBC7A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57D970-A0FA-4122-A8B3-359C1FC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5B013E-43FD-4BDA-8DDA-9244C13D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7F8CF-A8E4-4989-A253-431B0A2B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9B4AA9-0BF1-4C7C-ACE5-E9BC4E7B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6CE-46D5-4441-9948-34AD5A5A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9D8F8-3FAF-4607-85FD-2A648BC5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1299BF-6458-45BC-AD99-F2703419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09F78-3490-4A11-9770-00D2328B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68912-8DCD-486E-93ED-EC064351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E5057-CD27-49F1-A7E1-633E1725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962FEE-94BB-4C01-9BE8-608E138C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1FFDC-906D-491B-BAC9-299AA734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8C7262-BD7D-4336-B1AE-0B9C352D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DA9490-0743-4C4B-BA17-75C0A88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A59D3-A21B-4B6D-909D-C626B99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D555A-48EC-47EA-AB5E-E8FE47E0169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A18D7-6305-4BB4-947A-3F25DC16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7AC9E2-A732-4D9D-8ED1-5DF21F85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229DDD-EFF0-4C37-9292-D8C1C47A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D1DF9F-9D02-42B9-AE09-B8F48A3F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FF339A-0E03-4F76-8FA1-06EE751A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4885F8-765B-4A6C-86B0-30A26038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038CDF-056E-4043-886F-E629B064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C36EE4-3607-4F41-9ABC-B756386D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F3F2C8-5380-49AE-BCE2-36D9FA1B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204DD7-53B1-4131-86E0-2E7BF24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FD140-42F8-429C-9D34-68E5B4675C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1EE98-9C03-4071-B813-A80450FE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F2BF3A-49A9-4588-991C-D71BFDF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7CC0CB-6E90-49E2-B3D7-5510D0C8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14FB08-78CD-4D4B-9154-B7AA9049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C8D77C-035C-4426-B15A-7EC9A792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3825DF-0FD8-4504-ACC8-7A71273B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E225C4-9C3E-462F-8BBD-730AC9A8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0DD104-6F5C-43BD-BA13-D8BB515D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68EF7F-608A-4927-9391-B8B9AB86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2016FD-76B6-406E-8992-F0FF70C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7FA6F-54CE-4048-A0DF-A3123ECC54B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5F1A11-7F60-4F3B-84BF-08D07FE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3EB4C2-4B05-4E2B-B559-F8E8CDE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E75ABD-920D-4CDD-BABE-124B3BA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A3BB0B-6890-43CA-8F53-AD6A122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F29EDF-A2EF-4027-AD49-464BEF93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B776F0-AEFD-480B-8E31-9A1B2544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F7791A-C8D3-4A3C-8534-C14E9F09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1268F0-A2BE-4E11-91FC-D3E47C37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ED894E-B31C-44F4-85CE-8BE59315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A639B9-54D5-4A5F-95EB-76D4490F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3003B-789C-4868-9A34-CC44E367F9D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0F3AE7-1DDF-4D1A-A41F-1F8AF17C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7EF76C-BF0F-4991-8F10-A92704AB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C0626-A457-4AE2-911B-FBEFDA2D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CD6548-63DA-4F22-8B7D-7E04CBF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F13455-FB2C-415E-9DEF-163E63FD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C047A3-A9DE-4ACE-9E53-BF35480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0C016A-8A08-4D7F-8847-17C0DE9E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CD88C7-313E-4696-B430-AAC45F8B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C186B2-98E6-4031-9CB8-5ABB910B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27A3E-F1E7-45C6-8DAB-7BA92163B6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91D56-6C66-46D7-B17A-182E6A9D2E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5515E-8B93-4794-A913-A6E0D2BE1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9CB-BDC2-4E33-BFA6-B47491E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A04B6-68D7-47C1-812E-2C439CBAD4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13FDD-5134-4356-80DD-66680969A2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51E15-9E5F-43FB-A60E-0527AB5640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2229E-194A-46CA-BD1B-25303FBD25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E4F9B-A952-479C-9793-E209E1E254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59C-A8F0-4542-B4FB-EBC488B0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F8B-21FA-4A89-B5B3-FED2B571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5A1A7-52AE-417C-ACB5-8E6697EF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1B0-A94D-4F77-B493-172DC08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BBB75-A6CA-4BB9-B767-A50FF208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749E8-154F-4D10-A94E-F989C328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A190C-7952-486E-A289-6BA3714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B0B27-953B-458E-968D-7ADE54ED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213D2-8CD9-43AD-950A-3F59C06F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5930B-52F7-49A3-A3B4-1DBDC0E5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8A904-48A1-4844-AA76-9E3EB9CF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5DBCC-7E6A-417A-B676-3B1629F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17ABE-2AEB-4C01-96C6-D31C7ACF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FD918-1F2C-4DE3-B6B9-26D9CB01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E06-03C8-4D55-A5D4-B2952BC7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CEE80-C47E-486F-9BEB-1060937B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6E70F-891D-4409-9DC7-27062B92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EC2CF-E88F-4567-80EF-56ED5E91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B3393-BF2C-4BB3-85F7-E1EE571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2DD22-8BCF-48A6-A256-B59B31C3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BE315-79C9-44C5-B6AE-D59181DD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D1E6B-F67E-4FE5-B6E7-21EC0EDC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0657A-D004-4457-94AE-26713489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30AE2-7096-4F90-94BA-2E5DF5E5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F5ECD-F308-4B31-B273-1335FF01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096-1875-4B1D-ABB2-58A68C3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7E6D0-9EEF-40AD-BD3D-E7CE37B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AEF33-7048-4049-8801-BD91872D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6CF3E-085D-4A44-84F6-CA0BB0B9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BB66F-533E-472C-8543-54B84422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94CF3-0B8C-4518-A0D0-5C0382F2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2B18D-66A5-4266-8723-2F6FE897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B2F0A-8B2D-429F-8D1B-712012A8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B7D35-94C6-467A-A67C-A91780BF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09A2D-9453-4774-984B-3B91FA36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6D213-D95E-4D69-AA21-56C01599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598-5311-4D86-9BED-056E8968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F10A0-7688-493C-851D-6B01CD13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A69BA-3C22-4145-9AC2-853C1D36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C268F-7637-4F4B-BCD8-EFB3354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EA495-90BC-4E9D-B9AA-D6B7130A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3C606-C30D-437C-99B9-D852B957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2488B-67A7-450D-B9EE-D116D556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673ED-A9A9-4D92-82BC-CF244C37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BD748-0184-4EA4-8494-8480328B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D2128-9C57-4FDD-820F-6A7083F9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1F6C7-DDAC-455F-95EB-509645CD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6DF-0098-4856-95DE-0B638B86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8F10D-A911-44A7-9462-EB84C74B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BDAE2-F643-4FA6-9077-FF0BFF47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7F8AE-7FA9-4D6F-A4D1-0984219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C2572-C8CD-4401-9790-D801F485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C1245-8498-431F-8F3D-231FD733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6A3EF-E30D-4AA1-B6B1-0B7878D6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16CFC-6072-4BDE-BA12-EF7E339D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37FF4-B236-433B-AFDE-D069F555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1A3EC-3743-49AA-8BCA-D8AED03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6A00D-325F-4940-97D4-C547ADD3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08E6-EA4E-47B6-8DCD-741C4F704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ADA9-949C-4C0B-A39C-7DE9AAD3D8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3FC6-B020-4CBC-9802-2D2B01F0F9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1AA2-E7F0-47EB-B100-B1A0E96C30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8FF-0278-41A5-8DB1-CB85B53C5C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AB92-0A6E-4CDE-B887-B4FA25DC83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995-1C53-450D-BCD6-8AA86B969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80D4-FD1B-4159-A46F-05A53A875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9131-EB6E-462D-9B54-1E7DE8314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68AE-C2A5-45FD-B4DD-A3FD69D222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36EB-59B9-4C56-B0A8-A7C0763BC7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F09F-58D0-4AE2-ADB6-62A1CD50B6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C45DDDBC-596C-4039-B971-7CE930932FE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46:18Z</dcterms:modified>
  <cp:revision>330</cp:revision>
  <dc:subject/>
  <dc:title>Slide 1</dc:title>
</cp:coreProperties>
</file>