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EF8-1C4F-4A59-8DA0-209E529256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4549-EB02-46E7-89D3-D310B0EC25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FCD-5EFB-479B-8520-3E471A9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115-9CFB-44FD-8C22-179C26B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5B7C8-747F-4638-B241-0559DDC3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0E25A-10BB-47B7-A756-52225304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A852CB-47D3-4D2D-8F96-06FEA12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24111-A357-438A-A7EB-B8E0092D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635D6-19C6-4F99-82A4-7F8EC418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F939E-7F8B-4697-9318-137785E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B3B683-A9AB-44A5-BA16-175FB68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A12A3-6A8E-4CF0-A1BC-0A27F0F3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2FB25-17A1-490F-AF15-E9EFEF1F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E071E5-6AFE-49E9-AC3A-5B83D45D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F15-CA1B-4396-BF79-87F9BA1D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1D2CC-C722-42D7-A4B0-E13041B2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B6BEB-0CF1-400B-996E-3774B96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D15F88-CA42-4E9C-847D-DAEAFCB6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1287C-E3C5-4710-9AA5-33CFA68D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305E0-515F-4BDA-8A90-9AD47E91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BF6D98-27EC-4638-8CCE-57273F7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B72483-E5FB-46EA-8CC6-163E7CC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B4F75D-A365-491B-8471-B45269BF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1C9195-66AF-42D6-BE4B-F4575F60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EB18B5-6E58-4DC5-9B9B-1840708D9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B00-753A-4284-8164-8553D545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3A1F7B-CDAA-4FE9-98E6-FA37F83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B61C4-1D91-4F3E-A8E5-553EC3E8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07720A-D2D6-4C40-84C9-E92B91FC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07E419-D52E-45DD-AEB9-43C80A07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F1580-2F1C-4772-874A-A73525BE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BEB682-0FA7-4F6D-B0D0-5908298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C5740F-F269-480F-8191-4C87952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BF0893-8528-41BE-82ED-5EDC886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F7DCF-8C99-472E-BBA2-7A36B038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935506-A2DF-4465-8B62-E586148D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38F7-A9E8-48A7-B3B7-60C032E070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6CAD75-44AB-4746-94E2-0E0F74BA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6CAEE-64BB-4C62-9709-A8FF095C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B5384E-038F-486C-BAD0-E3153B1A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E28809-1D85-4725-BF26-46FE3EF2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39ACA2-3C2B-48B8-9EBD-EEC0CE68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B08B5-F0E8-4458-91D5-AC710370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2AFED1-9760-491B-8D57-F8B48CA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76A12D-C691-4842-9132-9CFC3DA7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D9430-6190-47A8-BF2B-22CBFC03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695DEE-23F0-4A43-BF21-DE3D9AF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EE97A-3516-4FF9-AEC7-A1BD1E84AB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F1ED27-A9B5-4257-8B82-9066E57D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A58EC7-EB7C-4C31-BE05-4D54F134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106312-7A0A-4442-8A52-F1D5447E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A4F4AC-FC8A-4791-B362-F0556D9E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622E2-467D-4DBC-BA95-1C9CB88A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1992C7-4F1E-4FA0-B768-5D70F189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A9D27B-6095-4436-B897-C8593B6A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027864-029F-4A56-9914-3672D12F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7F085A-2BD1-4D25-95B1-9AE93CA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54C295-CFC0-408C-B27F-99446E4D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A4893-BBA9-426C-B16D-E42BA61E307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B7FB12-136F-42C8-8910-AAC5B1FD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D49D00-992C-458D-8232-EEA57929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27D70D-5E33-4F3F-AECE-1CC86D6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A82A29-03E8-4330-9BBA-82F11EB0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E4A72C-DC75-4CF0-85CC-5F63BE9E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EFABC-5C21-47E4-A9B8-1789067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DE0FE-2B41-4C25-BCEC-54F3BC52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88737D-2EBB-4FA6-9A01-2AB60B78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33F416-2773-4D39-88E1-E53818E7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F65197-B009-440E-A999-F2404B3A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45715-2824-42A0-95B6-8676329E94B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4C5096-C9BC-42D5-BB84-CC54836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57FF8A-D514-4170-AF9C-EF904F7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D38DF2-D5FA-418C-AAAE-68AB8F0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D15591-A763-4E6B-97CD-537C0D74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90ED1F-DA48-437C-A954-6D22D69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EDA113-3239-4C54-AA05-9FE4C647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044B38-ED40-4A30-86AA-CEE6AA01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631E6D-0E3A-463F-A009-D66C6BC2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4AEE5BD-5C51-43E7-94FE-E461E034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8D3B6-89E2-4E8F-B70D-938E2A2ECB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AFD6D-C855-411C-844A-FEE66D84E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7C63D-E4D8-4B90-B831-4F31C3DE5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19A-C913-4719-9E2D-AED9463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33AA0-ABBC-4958-8D43-C48EFAAD9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18341-9F8B-4CCA-9B2F-4F010CEF7B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06EDB-1157-4059-88D6-F37566910D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97CF6-5753-45B3-9436-F50ABB527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AC7C5-6704-4932-8BEE-CD9769ACB3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6D1B-3C47-429A-A7F5-BCBCB2F4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36D-1AC0-4089-A39E-BD03EEE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CD698-99DF-48B5-A618-5CC87CE1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2AF-84CA-4B5D-96F8-1F9E5D4F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0D072-6F3A-4C3B-8999-ACBAC6D8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1AF95-A96B-4628-AA30-EC2DEFDD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AC3A6-6300-4295-B9DE-9033AB41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C48A6-703B-442A-B8D7-C8D42829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E4213-70A2-4A52-8776-D58D5D00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59E52-936B-43EE-9BCB-8DAE68D7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122DA-24B2-4083-8BE8-43773FA2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3796F-9F10-4B7E-919E-BE5AA5E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F6685-6719-4F41-AE4F-B98443AD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BD35F-8CED-42E9-9C29-4D2CD1EC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E7B-2F7D-4577-BA74-760E209A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C478B-C4D8-4C30-A79A-7BDED9F0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7EE74-D159-4F42-BC1E-C8CA238E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CF7887-EB59-4AD0-82FA-351ABC9C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EBE172-CB5A-4477-867D-60B7605C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6B29ED-531A-471E-8A38-9B02C62B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D2399-39A5-4A87-884F-A67BDEC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045F4-7DE7-4649-94F4-E35835FD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DD653-DB11-4E9A-A69C-69481F99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D64016-2290-418E-B4D9-B340473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71B498-1589-4A8F-91AD-5C0E839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E7D-665A-4EA8-A90D-414D800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ED832-82DC-41E9-BE19-76CEEA4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8B9D5-3B64-4984-9D9E-A2C17AD1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E5196-64E7-442E-AD96-08C63221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39714-C209-4497-B499-C80B8C83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708F4-A4FF-45F5-9061-59E540A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315DC-9E39-4E0E-8EDD-23E94E1D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E36C01-76F6-4B30-9CD3-C25429A5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4ECD14-191D-4D6C-B7AF-EF02A93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27BA2C-38A2-4F75-B242-7E8733AD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979D4-9E58-4187-A3B2-D5E1B4A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30-EBA2-4C39-A1AB-74B761B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26AAA-1210-4305-8D83-991E7585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44391-1042-439F-8EAB-0AA9CD7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53CFD-ED24-4B18-BC6D-3460287E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D24D96-9922-4BC2-9CA6-7811A29E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0B8C7-C3C4-48A6-91ED-0C318FAC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68C71-75EC-4BAD-B67E-940D8ADD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8EAF5-8A60-4A83-ADBF-40656DC9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F87375-D13C-4282-91E7-1EAB81CC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2C475-E45A-4323-842A-7AE32A9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53424-CABE-48AC-A48A-14403A8B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338-E7A9-4FF6-B861-C85D6794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B5744-58DF-4A46-AE89-74B86172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498AB-DE1B-420C-B314-7A64140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98E82-02C7-4536-BCC9-4E784D90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C8352-4C6B-4DD8-B4EC-5C1E5B51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EEB12-3350-4D21-9701-520EDFB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B0B1E5-E302-4B8A-8570-58C93570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95E4C-0240-4147-8820-E807B783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36260-E776-45A6-8229-47A73B41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31A7E6-76B5-441D-9DF9-8299058D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64863-0F91-46CF-BF2A-881103E3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824-38EB-4153-99DE-5C282AAAAB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2C9A-986A-46DE-BAEF-AF82912F2B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806-1266-4E63-A429-22CBE3CFD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5858-F499-4C44-AF6B-4253D9A6E9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B0A3-0705-46B6-ABC6-7451E4C869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76BF-290F-49A6-992A-55C62C552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BBD-8EB5-4560-8017-C263C3689D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4EA4-B419-4CBE-ADBA-F1FE1DC097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2B80-F148-4E05-B697-EA38BCF7A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E8D7-0C3D-42B8-8256-D2B7110FC7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F637-C2BA-4B4F-B963-E63EE8BB3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A7A3-2064-42B6-985F-6F51C4F5AF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7885F38D-E6C5-47C8-9581-035E55F9F9E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46:18Z</dcterms:modified>
  <cp:revision>330</cp:revision>
  <dc:subject/>
  <dc:title>Slide 1</dc:title>
</cp:coreProperties>
</file>