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4062-235E-4FC7-856D-49EA1F85B21E}"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4E8E-36BA-477F-91D8-4C7ADBEC00C9}"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9699B-8DAF-4409-AF14-D44D9A9C2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81C9E-831A-425E-8510-CB0FB15F5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9548640-8C49-4C0E-AD2A-557EDA7E481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F2F8CF-0062-4E33-B81B-85AFD37BE4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56BDEEE-9A4E-4828-85C1-3069E47927D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709AD9-7669-4023-BDF2-3D20904533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3598D5-0485-438D-9579-ADF6051200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EF44FF3-9FEE-43EB-B7EE-5A88425BEC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7C8B70-344D-4F82-A8D9-7ED0C587F33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8C63980-D665-4FA0-8129-191EB44AB47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1EA7460-F7C9-4DB6-9B33-471AA9BDBE7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B046B5A-95A1-42C2-B6EF-5A3B753ADCC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9888C-784B-48B0-A230-4AB305357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8B2926A-CB59-4004-ACF6-C1EC69C6A00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6E8E59-ED7A-4200-953B-A40134EDA8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D54750-2A41-4142-A745-4BF350F06E0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185A95-8DA8-4FCA-B212-3F0C7D9F67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068764C-5A6F-4C1F-8ABD-A1F7BE5CFC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AC9D11D-6DFE-4084-B8F7-B112032D45C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6786DB-6516-472E-9067-F3E0B5D0BC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556204-9E92-41FD-8DAC-7B8499B088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5BC8F9E-3266-4604-ACC2-BAF247CBC0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1C12D20-FC1A-4E14-85EB-6E627D01277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E06E6-968F-463F-9B49-AA205D7A6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0CEA3D-6C73-4E3F-9150-A220D09B382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8CD4DAB-18F6-4256-BB84-C644DE9D8A7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27E766-0F05-402B-BC09-7D6701A8D9E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F58153A-4D6D-4F9D-BA5D-0D0C1CA0FE7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2B6512-6FB2-4FF7-8B1A-1B8910C2E8B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0F32EBC-C099-4A0D-98C3-F879B0C7781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3ACB47-8942-4553-8614-E37CCF487E3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D87BAF-817F-4713-A41C-F63C40674E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77FF651-73C2-423E-8FCD-5306BE58B7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A0A158-3CE4-4E4D-926A-C35282BDF1B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1B0F9F-68D7-4F19-A15C-83531A5981B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F6E3B6-61D0-4226-9C29-A09A7959B92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20CC67D-5245-41FD-8754-C9288E47E83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61FB5AE-CB25-4C3C-A0DE-A325996259C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C410054-2316-4FCA-8C27-31BD26DCB00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714AFA4-5259-4911-9DEA-8570FF0888E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F02FE2F-7C83-48E3-9D0B-FC8A8163E5D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C711D0-F32C-4A36-8D75-B78D2374AE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815F494-36EA-4432-9D4C-9C63C384E67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F8DACD5-5A72-4175-A12E-F58BC9B5B96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FC3068A-20A7-42B2-AD58-AC125E5C31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9F6344-37B7-4873-B08D-150F42AA30F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51BC2AB-319A-4577-9F6E-98FB88C629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2B94A3-B5FD-4023-8512-E1F08FB9B3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891888-6BA0-4250-9C7F-3E4C6939472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14F6279-7DDB-49D0-9FAC-26C624E92EA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087500C-CA44-4FC0-B25C-EA5D6E95B0C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FA77F6-0624-4394-88CF-DCAE6AED3B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F375532-B640-4C0F-AED6-C39450169AC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85FCA58-1713-4BAD-A6E3-6A439433F1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68DB685-34C9-4070-91A1-2E15D2B987F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A9F66BF-2E9C-463E-8616-9286CB24AF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B80CAD-3696-43E0-8F24-AE015B7E3F5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69D534-F3BB-4056-9EDE-970B0657F4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35A5BE-55E3-4E42-8156-C866568951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DA6D80D-796A-4F24-BB54-5322108101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7FD15F6-85DE-410D-BEFB-B73229F8BB3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70C715-AFD4-445B-B609-DE49C5347D7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CABC09C-8E96-4E5D-867D-419211102B2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8212446-2ED4-4AF3-A33E-2F993CD0A8C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7F7B6BE-E255-4723-B2E5-DB626FFB768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3C0421F-1B0C-4D5F-8160-3DFC0861C6C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0F1D9E-D9F0-4011-9AB5-8058D1C50E6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27361D-CAEB-4974-A6D9-F45E8C85896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9DE5F0D-D877-4F2F-8DE0-7DFE3986284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AC0E93-B451-49EC-9080-FC3A25EC2BD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B759DE8-68B4-4636-A96D-97FC44C6E4F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A79E4AF-2B09-4540-88FB-F1C2E7872F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198E0FF-545A-4836-A78B-1BA386B4A87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BBCAC1B-0158-4A32-AC92-273E88B10DC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C0C8618-C126-4225-9E61-67EE6BAB9C0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84A180B-FC9A-4DDC-ACAA-3203CF60AEF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BAE67B0-3ECB-40B3-94B3-48AE782774D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8F8B05-134E-49DB-8359-57D2A6156EB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D499B8-6A27-42E9-B318-4D485074EA1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30F12-D4AD-4992-B713-D5443F4963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358D-F81A-4FC6-B5A3-592E367BD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86777-F911-4F01-95AE-1A6F69A33D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04BDC9-2522-4942-B33D-946103DBB0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AB9CA7-2785-43B1-AB38-CEDA433449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E2AEF-4A9D-460F-A4B6-55DCB78070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A7DDED-AA50-4B4E-9D73-1BA9775D88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D8E70-18BD-43F1-AA80-0F00CE0B8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11A0B-8E04-4CF2-B49C-0D1C3954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96ACBB-AE0F-4E40-927E-57DD7E73604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FD51-0634-4104-908A-D5733C6A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E2AAF06-ECE1-4C86-970E-95796C699F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5B30BA-0EE5-4F57-9651-EAE399C9F6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04D75C-5B7D-4599-90B5-8D3D4AE09F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1086DCD-36BC-4B37-B70A-22F9412747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1FBF84-0D2E-4DB5-8CBA-9C74C7C05B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E4322E-5C32-43AB-8B0E-570C38C5C1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81D398-ED09-45C7-8B19-BF922D2F45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ECE019-60CB-45F1-8963-A38F8B10EB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67AB3F-A5F4-4364-B73D-9ACD50135C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2EAA71-6EDB-4606-80B4-9E30BC53A8C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CF71-159A-4EBE-9DB7-686019AB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053B33C-69F4-40FF-8C36-38FA14DCC0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4EA82E-76F6-4B08-B874-F59EFCAA28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4E0FCB-656E-4325-BFBC-225DA3B77F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355E49-8258-41E7-BCF0-8BA006CBA2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0AF44A-3F1D-45EB-B142-CA56569B20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7F0ACE-472B-4B72-8570-3A1CFAB5C5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2DDCC7-3928-4BFF-A08D-C50F8359BC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AF1B43-A024-4B88-9C3E-35DE4B8E8A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14FCAD-F9AF-4025-9752-9A3646DA2D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9BF24F5-A02D-4F70-8D3C-19F2FD2679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7942C-5B79-48B5-9B3A-CB25207F0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998733-7FB7-4B95-8970-70A9CB0EB0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A08599-644C-4AD1-8511-CB9B561D7D6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E44B8E1-E3B4-459D-8BA7-2D615AF197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2384730-9DFC-4595-A1BA-0B725426496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426FF3-DAA8-48AC-857D-DA404E787C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01A034-33DC-487C-BE16-9BBCFF717F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8F1CA62-3E85-4A7E-BF44-40378821C7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1E9322-BCD7-419A-B27F-64D6233615A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F12D63-C6BD-40B7-9980-BA2E8BA80C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EF0802-DE85-4E03-B573-E516257CBB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26906-15F5-475A-99B2-563EBD02A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9ED601-2402-4EBE-A7EC-A9EDB73BEB8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AF7766-51DE-473C-8EAE-435020E2A6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D32DD7-7147-4FE1-8EC7-23785354AB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AD5B8C2-F37D-4FB6-92BB-F2033E775C3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0D5D3FF-A0CF-435A-BAA8-CBCA0A1D832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89442A-3F42-4EF4-8800-21E715C78AD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EB79EEA-A84F-4A96-9F55-A37B205216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3106500-6E95-44CA-A2A2-C848A6EFB1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AF1C32B-43AD-48E1-9168-AFFFA73BD8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330D05E-40EB-4C6C-B8D1-000B158F92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D2AD-5FBF-4CAF-A114-0F37E998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AFC18B1-6F11-4640-8BA3-4B7CB7A9C4F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C125A1E-9E2B-48F4-9461-54703DFDCC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580AF0-A08C-4185-9F47-52D0530020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50B228-AAF9-4E22-99F2-5B9D0242D6B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FC38F5-4570-443D-BF69-E4941F8D625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BAFB16E-0090-41F6-807B-D96A8076944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20F5DA-E48B-4227-B8D7-FFFD0D80CA7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22F0035-F59A-474A-910A-C4C01DD2C67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DF6192-3395-45E4-B0FE-9A640990808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6CAC8C9-1143-4409-A351-3ED800F9E27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08CB-FAFA-4CA6-8ECD-7E49DE1513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7753-7188-4D80-AD77-A01175BC2B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260C-A4D7-402D-818B-CA897827A17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1AEF-49E5-41F0-8F0E-B0064B88F1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D8C6-B58A-4409-ADF2-3052DE420D2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29AE-666A-477F-8226-497FBF2EAAD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6D69-DE09-463B-AE7D-5A4A8235D1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6F71-1FA3-4DCF-A989-FC9B583A04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732C-9938-42BF-8B6B-EEA7C2BEEC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B9D7-9598-4937-A920-C226F10D54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BA63-D52A-4F7A-B7F9-BA450AFB801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322A-DDC9-41BF-9528-8860D5C248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3"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4"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06AA3E35-EB90-45BD-B5CE-AE906BB4677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3">
                                            <p:txEl>
                                              <p:pRg st="0" end="0"/>
                                            </p:txEl>
                                          </p:spTgt>
                                        </p:tgtEl>
                                        <p:attrNameLst>
                                          <p:attrName>style.visibility</p:attrName>
                                        </p:attrNameLst>
                                      </p:cBhvr>
                                      <p:to>
                                        <p:strVal val="visible"/>
                                      </p:to>
                                    </p:set>
                                    <p:animEffect filter="barn(inHorizontal)" transition="in">
                                      <p:cBhvr additive="repl">
                                        <p:cTn id="14" dur="500"/>
                                        <p:tgtEl>
                                          <p:spTgt spid="6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08B25E1-1697-4672-88AD-B671B67665F7}"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48:59Z</dcterms:modified>
  <cp:revision>318</cp:revision>
  <dc:subject/>
  <dc:title>Slide 1</dc:title>
</cp:coreProperties>
</file>