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EE97-C1AC-4704-AC23-7B308D320A37}"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55E5-C9A0-4C97-A8E4-ED3E1B12AFCE}"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F9911-394E-40A4-8685-E68C2A5EB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055CD-5488-45AF-92D0-9BEBD7A9E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2861A0F-D207-451A-A1EE-C10862CAC73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B497C52-5E84-4B4C-98DD-098E43BC5B0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31246B0-A0EA-4644-9D1F-10427BC74D0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7EB9CAF-EC5B-4B76-883F-E2CBA4B1527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FD543AE-312E-4BED-BEDD-498FB818F61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DB3F9E-424C-442B-97F4-5909E6F7005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174DF37-4B0B-4F80-8292-45A6F23C40D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614EC53-24AD-4342-AF8D-4E76C5D8555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61DECC6-657D-4E0E-8F2D-B63D643878B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978C17F-ACCD-402A-973E-99288ED69F4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0BDE6-65FD-4A2A-AD6B-056F6D920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75BCF40-3021-4942-94AE-A8B0F28275F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F9BB86B-2BCC-40B0-8263-CE5C4AC6943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4608F4B-3FBB-422F-B571-A39DE0BBE37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C464536-B8CC-4BFF-A121-FF16C8406B3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9AF61F8-8121-481E-9B07-863F6B0AE99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B76EBDA-09B1-47B9-8246-7482D79DAF3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1715FD-CFA8-4FE1-83CC-10CEA18CA9F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1B5538A-442A-4000-8110-B4701097843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0EEE905-ECD2-49B4-943D-9EF0F18093E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CBCB2B9-8654-497A-81E0-2DC0850D1BE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2B42E-BE74-4D9A-8DA1-356632413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EA6F0FF-8F93-449B-8BB1-C1305278E34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92C9957-01A2-4A53-9CF6-133087A2A72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F6BDF05-6D54-4C3D-AAE9-A0A19B51096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2D979A9-71CF-4D8F-80B4-8C327AAFAAF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36BCC55-CFA1-46FA-BE06-28967D4189B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81E69C5-4BD3-44B0-A921-3EF377E2BD2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4BAAA54-7F53-48FB-9583-E0F8C4ED862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8DB7D0D-EE2E-46EA-BABF-6364FDA56C8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56AC8C1-ED54-4AA8-A15D-ED5EBF008D4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59D3F70-DF2C-40A7-A9B6-4EF08CBAA6C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AE793B-D10E-4E7C-8EC3-9C695A44069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C09DCA2-4159-40BE-9921-351274B4DF9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A51B9AA-0DE9-4994-9DA1-094EC43617C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6BB0F67-028B-4ECC-A7D7-7A4B4EB50BE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5B88ED5-6A88-4C41-B71D-E2E2F20C357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DE2C62C-3F59-402E-BA7E-408E04F6C21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A6B638E-548C-4141-8F71-03C42E3F496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CB48C16-494E-4DF5-A109-FA0AA9C4E3E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2D5E7A5-210D-4DEC-836D-67AA5F9B787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2103258-6DED-4AA6-8569-F5EABD6CD02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22C8CEA-120A-4A3F-BAE3-3884753C8B2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3FBCDD-2756-49AB-A369-E46641ABB2F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1CD0E55-1F22-427D-8AB9-9A5A18C5B9D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4B4EBAD-3C64-4424-B7A8-24ABCBBED29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3AB36B8-95DD-4E87-9082-71AB7A5229E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65D675F-DEB2-435C-8E40-BA0213CE462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200F4D8-9CC8-487D-AF15-CFFC36EEB02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70E745B-8756-4DF5-9F3A-267B849651C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ECDC245-4B30-48FE-8882-C65EFB2ADC1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68BC8C5-B8D8-4FF9-8906-C118E0519BA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1B36745-8F3A-4B87-8D89-2C3DDFC870B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C2B354A-19BF-41D5-BADD-7C8F75395DC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B74419-9E6B-4C3E-8A5E-48E26751490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25B5FA4-C4C7-44DA-A509-95E2FE26C85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98FFF96-23BF-466D-B936-13D35A480B5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137FD8D-B29D-4F9C-BCF5-C8A1A752DA0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6DE0D95-EBA7-4F22-95DE-12644B89A4F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ED5F665-CF07-4D67-BD7F-273A06A9133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41EBD72-D9BA-4688-AED1-3AC9AAA8A91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69C4A10-90BD-4F7E-B395-B3FE16A0447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A2C1C99-8D5C-491E-9D4D-E47F6A13E4C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0623E41-351A-4784-B3F2-FA56104D1B5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A8BC403-4F55-48FE-A956-737A5FF6CE5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092DC-4604-4060-9E2B-F1A597C04F4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EE41AF4-7066-4BF4-9D65-0E2294546FB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AD1CCE6-3825-4DC1-B161-F0A80C61B68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CE70792-F3E2-4929-B651-ED6308688AC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9D21A16-9FD1-4D25-921A-33A633B6F0C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21362F1-80E0-449D-AB5D-72BCC0F3FBD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C494356-36D1-4480-9D32-2571B7AA074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4D15481-7C8B-457D-B2A9-58EE78374F5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56286C9-9543-49CF-AFEC-47DD8806681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6EE35A9-685F-4AFF-B816-BF7FC84EED1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99D1D1-0234-4F79-8C82-0468147FFC0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1595E7-D0D7-4519-B4AB-52633F02D19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3E95C8-68F3-419F-BEFC-BA4F32BFAB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E425D-7BE1-44FB-BEF0-4B0C20267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5A3134-1DDD-4A35-81BC-C1F2E80A57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F30263-5EA8-43E1-8923-287AD49B62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A3D7C3-3725-42AD-8C5E-3D26551EF2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AA5206-2D69-4165-9279-6F49DFA849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09A714-BC7B-4155-A1B1-5264FE50C22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B9CFB-057A-49F3-AF14-8122E9F03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0E5AF-25AF-4A43-B930-2788DA1D5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4FD15DB-F7A5-4CEE-BCF7-98B3B03D295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2B647-6CA9-4A90-8F38-DC6AC1328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83CA95-94F7-4CFB-A89E-63DC796BDD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865623-A6DB-4FA7-B703-2069BADC49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3ECBB7E-2EB1-40FF-97C8-F7B47DDA35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521181-6453-4987-A3C2-393E8A61C9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8E5CA2-1C7D-48EE-8CB4-06C2BC60D0B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E20F35-1030-472D-ADAF-ACA2549E51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92B018-0763-452F-9C45-2183C0AC31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E30CB0-634F-424C-B77E-A370A07F44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9158A1-0D7C-4071-B4BC-02D855ED377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D8AFC8C-B764-486F-BF8C-7F931E4FF69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29D7E-F9AE-4CDF-8934-74E08ED3F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907FA9F-B08B-4EB2-B66C-A57AE15CB4B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B8D0515-85ED-46BC-A813-3EB9105587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C8AE65-78A8-467D-A490-55DE282A15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082E98-4703-49DC-AAFC-715C04A192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E8E9B7A-5544-4BB1-8322-06228E2D2F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419A5A-8462-4CA2-9315-4551B0D556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A0A11E-9DB2-4E59-B69F-BF3F69A6F9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96E604-5793-4778-A115-8F93C4B21F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0E2B33-9226-4DA8-B8F5-E0AAFF4740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2D607F-494F-4131-A178-0A6BD444EB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05DBE-0DCC-4F57-A450-30155EA18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92E21D-043C-4832-813F-8BD0207E9E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F678A5C-D6A8-4524-9023-A468882D641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8FB1BB8-0811-4D3A-AAA2-A313ACFFE66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24843EE-333A-4EFF-AB8C-306A5DE8AC9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4254DCC-3D2C-4867-A835-D2982CD74DB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F0C0AC4-B554-433C-8C11-A88AB58DD4F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212DB30-6457-4AA1-AF44-0FA057C4ED7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43B18EE-0B45-4BE2-99E3-3167AEADB7B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FA32D10-63D6-4C84-991C-228C8F7F021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C288CD-8CE6-4A68-BF5B-C5FC32D156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CC569-AB7D-4801-A222-D0A599633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CFA537-15F9-4268-A559-E97A946B223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233AEF-E197-4717-AE08-66B144D025D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FEADB2F-6263-43C0-98D5-BFDDCCED549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AD85EEB-6CA6-440C-9AD2-962AD97EBEF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B10E99A-9B20-49EF-ACF9-D0F122378B3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8860082-25A7-4E6D-942D-7C7BED7EF91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89C0F52-C56D-4709-B7C2-DBDD6F9BCDF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57F0201-5B97-44ED-9D90-CF1AF2F556E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F60DF85-F4AA-4957-9088-CA2A503C124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3478A73-7C23-4152-B66C-C0A3EC9501E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4337C-9022-4BE2-B700-1284B4E98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49E094B-E105-4313-9EE6-21283FCDB3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532330-8F63-4457-B18E-09B6F8534EE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66BE168-D907-4841-B326-8C4851B6994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2F2D12E-25B0-48A6-AC22-C3C0536A303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68E1F80-4A94-4260-BCC1-815532153B1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1CD7959-0DE4-4EFC-8DBE-CCE2C2E1FDE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9CA27FA-1076-4A8D-B411-C96CB6C01B2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2039A49-765F-48BC-ACCB-B20A321C4D2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2F66B9B-CDD4-42E6-9F51-265A25AB04A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6D61CFC-42B7-4BA8-B676-4D12E29C99A7}"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B059-AC23-4248-AE7F-5FDC72C248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BD41-BBF1-4869-BA3C-09FAAB6AC44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6AD8-A1F7-4E93-85D7-C2556462C85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1A95-28FE-494A-8EB5-9EFB32FAAFA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FA39-15D2-4289-842F-3DED1BCD18E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23AD-D79A-4AE0-BF67-8C76A490ACD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DA9A-CF43-4F26-BE0F-ABE1076A66D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B9BF-8B7E-45BE-9FA9-3209190A7AB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B539-39AC-4090-847B-BC2D2D30ED6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E922-F9D1-4F52-ADC5-6E5BF40870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648F-8D8F-4F9C-B5B9-70C9ED157D1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76D5-A302-484A-A8A7-7AB423FE43F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3"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4"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5723039C-CBD0-4BE2-A8B7-E93BF29A90A8}"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4"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B1683C25-2451-4436-B93F-7094D245665C}"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48:59Z</dcterms:modified>
  <cp:revision>318</cp:revision>
  <dc:subject/>
  <dc:title>Slide 1</dc:title>
</cp:coreProperties>
</file>