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640D-CBEB-44E3-808C-45F206AD11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F10E-FE25-412B-9FF6-701AC5CD15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nies are finding that to survive they must compete in international markets as well as fend off foreign corporation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ttempts to gain ground in the United States, 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develop global markets and prepare employees for global assign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business must be prepared to deal with the global economy. This is made easier by tech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ffshor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s to the exporting of jobs from developed countries to less developed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nshor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fers to exporting jobs to rural parts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A5B1-25ED-443A-A56C-C09B76E1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5767-2FCD-4628-A9E8-F43C3C28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CB5195-05BF-49FD-8DAA-723DA12C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A876BD-5208-4C6C-BF19-3E2C67F6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94ACF2-C470-4D9C-BE38-9DF30B44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A68FE3-10BA-4F38-B5E2-E5E2928D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203971-E3BB-430A-97E7-E438598F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2A8C11-6C8A-40DA-AC8C-DF19FFA2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D17C71-A161-42F8-BA0E-56667619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41BF82-9134-4B7B-A26E-A36B3581C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BAAFC0-A0DF-46BD-A38A-C7C80B91B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9925F2-451E-47A0-8EE6-C8D33B7BD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CB98-3239-426A-832B-B1A50003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2C178F-59B2-4C9F-806D-39A06F27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744274-A624-45E4-8FBF-844AAC9A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60C0A1-02CB-4821-B907-3EBEF228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13393F-705C-40E6-A3E3-821DF521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AC9E6E-EFE3-4950-B2AD-ECCB4D1D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B042C4-20D4-444D-B9A3-5A82BBC8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BFF1DE-A86E-4AD9-9056-759E8E53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FF983D-81CF-4090-A8EC-3743EE97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F1EE53-938D-4E71-8363-1EDE16D9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CA2A51-2BDF-4A49-90C9-A0EFEC95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059B-0902-40DF-9BC4-2A0886F3E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9CC576-4F26-4E56-933F-ECB810EA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05312C-3479-4FFE-AF6D-90CA5C1FF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040573-38A8-4F41-9573-A20FE9A6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4231DF-C7AF-42B7-B9D7-48263170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4E7985-5113-4B75-84FA-BA4B226E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833556-5178-40AE-85EA-C334A310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A8F095-5C00-4345-A9C3-C64DE7B4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EF4AEC-9535-48D0-8B72-92A30F3C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81A9EB-2959-43D2-A912-2BBF7CAE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5BAB59-70C4-43F2-AC10-D12E2F34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C2418-E486-4BE7-B861-CD6DAB348BE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DD4F35-E6EB-4E23-8937-4C27B499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AD5D43-68B8-4B91-8053-1E61CBC7E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8B0BF9-025A-4D78-8B13-555B6E240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A00700-2274-4900-B401-E6D436F97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EA599E-98D2-41F4-8972-04C29BF1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834EE1-D48C-4DD8-927F-4ACA82D2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1158C9-5EE1-47F1-A724-052197F1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88A194-0159-4278-B532-99405A08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A2F885-AE32-40F1-B5A6-A9A06C94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C0951E6-184D-4D0B-847E-4F31AA51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68B22-AA90-4291-8DE6-C077292A1E6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493267-D142-4140-8CE5-52210353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3ECEB8-DB78-4408-9DFE-782427F1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A07D57-C3D1-4B46-BE45-67F08695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50770C-822D-4E8B-B5B8-26B5B7311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9DF8EE-3592-40F1-AE64-027785F5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E125E9-9A8E-4B4E-B943-DCD891023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3ACC02-2B50-45B8-857C-07B8A7C9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1E32FB-EB82-4A6E-8C01-C2184765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900D0F-ED43-4950-981F-462DF731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1ED01A-608C-46AA-9D03-5B021B08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50288-DA2A-4212-97C9-DE64000FAC3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711FA8-01A7-48BA-AE63-A19D9A4B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550382-A647-48DA-ABC9-2079CE7B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6C9485-FD38-4444-96B6-AC73573D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ADF7B2-B085-46C4-A44C-1C650E7E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3DBDAB5-C5C5-4ECF-8238-3870FC72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0228494-0587-45F9-A1FF-73A713921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B7800E-AD5A-4780-8509-9D2B94DE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EF67B36-1B99-434F-B7E8-8F745907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B30F205-0240-48A0-8779-23FA8C07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5E4213-F77C-4AA0-9D3C-15235998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4C9E6-C149-4707-8221-51F9FB3D4FD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D656596-B454-4A5B-9BC5-FCE44B2D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56DF02-D9BB-41B8-91E8-18AD8656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8C04B2-4DBD-4887-A302-6505F31E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BD8075-0304-4FA0-BF9A-193CA528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48F54E9-08BE-4AC9-BE66-C6C77666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297FDD-616A-458A-8D8B-39587B21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9CA129-3CB7-4185-BBDB-8B2AA5F2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7DB2BC-E9D1-4FA6-BE06-8C28BBC55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A0C1C35-D1DC-45B8-A372-33EE24C86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052DD-92A0-4D69-A6E6-E81B3CC447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9CA69-8EB9-443C-BC89-D1CA7110F5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508BE-1870-4402-9779-1F3D852D2C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C323-5B66-42AD-8D8B-D297FCC6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DD43F-3BBE-4ED8-9790-0E35018A9E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65617-ED5F-4AA1-83F5-FE73179D06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E7081-5599-4922-9309-51F3F54AFD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F08C9-63ED-45C5-9D5C-1853BF9881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54C5E-5A84-4083-81F7-4BEA2CB540B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428A-73B0-4569-9471-5BEC6A9A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D60A-A68E-42F9-B1A3-0E495489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84D1C5-A218-4697-BA82-7BCC9A6A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8F07-FB11-4AC4-8065-6896C778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EB52FC-ED86-49C1-B53B-69D05C69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5376C4-283B-4E22-B49F-961A0BB8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A56C29-87D9-4A63-8273-76ADFD34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3E4468-6345-4349-9500-17DD1E23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AF21D8-93FA-4CED-A381-8310DDE6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8ED996-2ABB-4F7E-80B5-DC27CFA5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7B40C6-105E-4629-AD1F-FB40821A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E31A53-C745-4A56-A2C9-C5F9FA36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D787A4-7DDC-4E2E-A955-6790DE44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1B6B5A-AF8D-4896-8E74-DA0D859A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4923-0F30-4469-BA1E-EB0D7253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CAF461-A61D-441E-B0A4-96CAF0373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E4F7A4-3667-435D-BD98-15F59D8C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D4E085-D849-4125-BACC-99D39E8E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B79120-0D75-4D4C-BDE5-802B9882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203222-9A5F-47A4-BEC8-A5A41687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C91DA4-D6E7-4BA1-BBDC-6F8B8D4E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8AE9FC-B41C-4327-95E5-14FF74E5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7B298B-B5F8-4248-81E2-D61BA99A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06B556-38D4-4CED-9CDF-270E801B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30BFF3-427C-4A2E-93BC-318124DE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E6C0-7142-4EAE-941E-3A5A562F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D5F156-B0C9-4885-8B1B-B81BED87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0A2398-6A0E-4A5C-8ABD-F2AE8D52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BA0E5C-DE85-43DE-91BC-5C1601F37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729F82-8E87-4E4B-9708-2DCCB04A8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B36DC6-497F-4A21-8A6D-77F98D5D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7B0D6E-C628-438C-AA97-739BBCB7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80CD74-FC38-4B27-819D-2F1283C8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3127CE-4AA6-4399-B479-754B1D1A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140EFB-B36D-480E-93AC-A4710E5C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84722D-078E-4B23-90DC-96F97535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8B17-E84E-44DC-B3C4-FAD6991C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E683C0-EADE-4D97-976A-A5C8F1AD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BFE25F-1C0C-4297-9C2E-357D6C48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7B3C2A-6C6E-4338-9A95-F6C34E0B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9A5D2B-DC77-4B88-BF98-02292770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E15F03-B726-4224-9935-32A01528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665395-1140-4CC0-B3F9-CF2B42F78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D53D81-6BB6-4DC7-A407-CF5DB6D8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3CE754-1985-43A7-92BC-3F878CDC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F850E4-B18D-4F7C-9B24-4B76DE81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4D92AB-BA0E-4235-B268-1B9BEFF0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D534-E8FB-4482-AD8F-B5606F58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6DD4E9-05E2-4C66-8A03-B508EC61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0F21CA-5C60-4310-A62B-77A22CDA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CE5B62-5093-4FA9-8798-960C96DA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6FC0A3-DBB2-498D-B260-B03DE7F3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4B8B1D-B05E-4056-8F75-A391BFA0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5A678D-0593-4ADC-BD62-BFCEF2F31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728D5C-CD5A-4408-8459-2B6EB653F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FD156F-1934-46D5-870A-3D1C3B11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BC71F5-F02D-42FC-86DB-1F1211A8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6EACFB-B203-4660-9129-CE3F9EC0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512B-4D53-4636-ADA3-571E760A6F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2F0B-B1CC-41CC-AC58-252BA5A180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596B-1836-4FA3-87C0-91F75BFE6D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5D53-3B8E-4861-B22F-13C2948E41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BBD6-C376-4D40-B601-79FB58505A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2CD0-4FF7-4AD8-8707-5D5B937FFB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8B4D-766F-4CF7-8462-94332A1A30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D544-5DF0-484C-9DFD-68C484FCFE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78ED-20C3-4AAB-9638-30427B51BC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103F-C832-4AEB-A81C-7B27A10798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E985-D6EA-4977-89B4-45177E7150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4F53-EEB3-46C8-AF9B-02D24CD314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4e73"/>
                </a:solidFill>
                <a:latin typeface="News Gothic MT"/>
                <a:ea typeface="Geneva"/>
              </a:rPr>
              <a:t>Chapter 3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The Internal Organization: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Resources, Capabilities, Core Competencies, and Competitive Advantag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3160" y="-7668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Firm Resourc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33160" y="1752480"/>
            <a:ext cx="830556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In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Capabilit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Core Competenc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News Gothic MT"/>
                <a:ea typeface="Geneva"/>
              </a:rPr>
              <a:t>Creating value and competitive advantage!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06" name="Rectangle 6"/>
          <p:cNvSpPr/>
          <p:nvPr/>
        </p:nvSpPr>
        <p:spPr>
          <a:xfrm>
            <a:off x="8286840" y="6381720"/>
            <a:ext cx="819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8610480" y="653724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1-</a:t>
            </a:r>
            <a:fld id="{BD3691A9-A19E-4927-BABF-D0EEFEBD40F4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riteria for Sustained Competitive Advantage – VRIO Analysi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Valuabl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ar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ifficult or costly to imitat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Unique historical condition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usally ambiguou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ocial complexit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rganization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Four Criteria, Competitive Advantage and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pic>
        <p:nvPicPr>
          <p:cNvPr id="611" name="Picture 4" descr=""/>
          <p:cNvPicPr/>
          <p:nvPr/>
        </p:nvPicPr>
        <p:blipFill>
          <a:blip r:embed="rId1"/>
          <a:srcRect l="0" t="8511" r="0" b="0"/>
          <a:stretch/>
        </p:blipFill>
        <p:spPr>
          <a:xfrm>
            <a:off x="533520" y="1600200"/>
            <a:ext cx="8076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Value Chain Analysi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ctivities that a firm engages in to produce a product or provide a servi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upport Func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activities a firm engages in to support the work being done to produce, sell, distribute and service the products being produced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nanc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RM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I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utsourcing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urchasing an activity (value chain or support) from an external supplier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21-03-08T13:51:17Z</dcterms:modified>
  <cp:revision>316</cp:revision>
  <dc:subject/>
  <dc:title>Slide 1</dc:title>
</cp:coreProperties>
</file>