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CF7A-4B82-4E90-949B-75BD96096C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3A84-AF32-4A68-BC65-7E78E00AB7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nies are finding that to survive they must compete in international markets as well as fend off foreign corporation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ttempts to gain ground in the United States, 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develop global markets and prepare employees for global assign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business must be prepared to deal with the global economy. This is made easier by tech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ffshor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s to the exporting of jobs from developed countries to less developed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nshor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fers to exporting jobs to rural parts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27DA-2135-44A2-89D5-6D0ABD9C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7E54-27C0-4773-8929-D2185535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BA8B58-5557-4FFA-88EA-50252B1C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E55560-7347-4B10-B175-0A9F92C1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4C2971-E0A5-476D-B402-34DED90F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14560D-F375-48EF-A1D1-EC8C8BA1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86815A-09EC-4AF4-974D-829F6281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DC1D8E-42AB-434C-89DD-9FDF5292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C9D14E-E37F-4B93-96CB-664274AB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A00E04-0233-465E-9455-CB03F826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F2C8A2-2430-45DF-A4FF-B03836DB0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EDFEA1-9D2F-481C-A397-41448CF3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4DC3-E99B-4CC5-88F9-A895DF984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0A35AF-08EA-431D-AC52-E9F31F09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23DCE0-F441-4D90-AEE0-F047648E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AFCE9D-354A-489E-BCFB-5C79A210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3D41F2-1A9F-496E-A22A-6C7B885E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2C719B-B505-4047-B9CF-C8D99595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BDB0F7-6B98-40AF-B773-5A3E3908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F69FF3-1B6F-48E7-9055-C500B69E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33BBDF-3B81-49DA-BC16-4CA6C2B4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E861D1-8EE5-4985-BD72-A85D1F18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69F0AE-0E4C-4B01-9A43-40B1044F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02AB-D590-42D8-973E-8135A7F7C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BBBAEA-E617-4EE1-BBC1-9D279533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CE5F86-8417-4E1D-8DB1-0C9ED7004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295BF9-4FDB-4BFD-B597-197EC64B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13AB7E-6332-46D7-AE4F-1E08423C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06D7CA-C994-473B-BF8B-0E3CC06C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5E4247-79C6-4BD5-8887-5DA2D61E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2FB3E0-AD91-4338-9F22-767ED663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F481E9-0C10-4A54-B2DB-1256539A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5B6683-5036-4F89-A41A-8EB01A4E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99C0AE-47D8-4600-B97A-8A29E70F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29B3C-5F28-4B42-A9B0-EA158C89568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11F080-15C7-4E72-B77D-5FC431D7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225656-8235-4B33-BD21-7D6323CD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03B7AD-132A-41BC-9CF8-E90B9EDAC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0DE372-1AA6-4118-AE91-10C5A9B2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08F0AA-44DB-479B-909B-4177553D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B7E5AA-7BEF-4E78-BE89-947A8FB5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D9740B-66F2-4A59-826A-6240DA27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6E4B92-3ACB-48F4-B9A5-6DB2A26D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BC9EC4-A0A3-42A7-B7DF-D92A08DA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7FA99F-ED94-4004-B827-E17046C6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DC0BD-3ADD-4655-AD94-256B45B9F4A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54EDCE-EDCB-41D9-9A4D-8282FF6D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8D135C-DB51-414A-BF2D-09314EB1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E803DB-4777-42A1-8660-89A77FE2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CEA4CB-1E58-48F0-9C68-D2AEE942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E80E0A-C5E1-4A5F-B077-997F79C6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0EF0E5-80D0-4923-B2D1-6709C700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AFB311-8D7F-434D-ACD4-A75C89B5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B3A16B-0307-4F54-A177-BD0355E9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4E9AFE-717F-41D1-9B0C-C5134F7F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81CD62-F7FE-4792-91BA-CC4D4164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61E53-4310-4A99-BCBB-43CB630AE79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984888-3DD1-404F-BF57-47B55B3E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3FFCA0-C178-43AC-BDA5-9A1AD745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717289-55FC-4CD8-AD83-4306C62F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5DD9406-B289-41B3-BD03-4A21F521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A2BC4D-6F59-4672-8C66-F68F3405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DCE48B-3116-43C7-B99A-00C627E64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25A728-2BC4-4A96-8B1E-6003FC011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21CA647-3377-46A4-9E3B-4EB062D61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94CB0B-71D5-47EA-B07C-41C67846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117E529-2EBE-4CC4-A9C0-F1624993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CB2C6-A236-4CF7-9ABA-E6D2842157B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96D90A-13E6-44CF-8289-20E28A09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548CA53-30CC-4BF5-B9F9-4C9A4C31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2C8C20F-015B-4C42-9398-E92796E3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73D60FC-A180-47A1-B3BC-239023BB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3F6E9A-B0A8-46B8-815A-D4AF0909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13A43C-B459-48B6-98B5-8983AE74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190134F-CF6D-43EF-B4D4-62AB07BC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543B5C2-751B-4D0A-B152-30DA3E30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ECE135-2075-469F-B65D-863428B93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191B5-C8DD-497B-A3BB-AFB839A9ED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CAEA7-CFD0-494B-8830-D7FD867691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FE96B-177E-44C2-BE26-4D03DAD949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0B05-D9AB-4BE0-BCF2-35136599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FCDD3-E4D4-4F45-B54E-0258358EA4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8E1FF-65CB-455D-A6E0-FEF8F7C030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3E83B-6660-4B8C-AF73-07DF39C494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3A549-0441-4723-AE5C-A29169DFFC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06E2B-0FA5-4A2E-A9E6-ED5BC099E37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3A1A-4007-47D9-A0A6-2C64DF22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ED86-9BE0-4959-AF3A-D8032E93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04B1E1-4738-4B95-AF7B-23E4A7630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D884-9A16-4E41-B228-40EA922D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7EC9B1-5F16-4711-9BA7-EFE31B4F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C9D3E4-48DA-4E9A-BA29-BE29C34E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1517B8-4A4C-4FF8-9AF5-E6C4C6EA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81C0BD-3090-433F-A4E6-AD422A03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69BDA0-EAD2-42E4-A1E5-9561BB0C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54A43F-01A3-4473-AEC8-4041A125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B378FB-FBF0-40CC-9E57-C551EDC7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9AABDA-BE57-48E1-9171-252C3052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4D6044-7158-49EB-B307-514514CE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09F9F1-B50F-41FB-BDA2-524BE541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4AB4-3C41-42C6-9668-AA7B1E0B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F38C1F-C96F-4A41-AEBF-02A1FEA70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80D89F-1E8C-42F2-87DA-19F87771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2B32D6-FFE6-4B5F-8284-9776ED6B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CEF50C-4BA9-4DD9-9418-3AB0D865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76A01C-58E2-4A50-9D5A-BB669553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0921D2-6EA7-4FBB-9F97-1891B7E9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3F25FC-0F4F-4094-B447-74909A43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D6846A-6D59-40A0-ACFF-6547DB80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55E24B-9353-45DA-B56C-3FC9F8AE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3471FF-0F1C-4F2E-8708-6228CB23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9A5F-4F98-4FC1-9148-28C35064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F00228-7F05-4393-90F8-0367CA7B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CB18A8-C79B-47B5-98A5-BF7CAE76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3C51BE-C34B-4480-BBE3-E51415D9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FE87F5-6531-4F4D-9BA9-22F9231C6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01F65E-69C8-4B0E-80CD-472D2004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F0FA75-9C4E-4E5D-AC47-35181D2B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48B1C6-9844-4A22-BC66-1D6280F8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AE44DC-E3A1-4CFB-B59B-7413498D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CF0C38-3C05-418E-9EC6-CE93467B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EECECE-5D24-4F4C-9460-996FAB62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5C85-E51C-4D22-B62A-ACF5B26F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A3936D-3C09-4AB0-9E61-F0136F73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35B76D-C528-47FA-9023-C7C674D2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92E5BA-D311-4529-B325-D3668AF1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A33EF3-BF43-435F-AA9D-7971C007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3C73AF-A5B9-475C-9E0E-CF350DC5E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1B0B2B-D47D-4C73-BAB5-97BD553A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47BEDD-B313-4AD0-91E0-3D09A84D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24BF79-52B1-476E-875A-9EACE262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54B9C3-0867-4B45-BC58-45F60225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57D8F8-B9B0-49C4-9B04-3BC333A7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5346-F7A9-43D9-A742-A567C842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85D042-0B9B-430D-99EA-AA5D8997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8A9A83-FC38-44E1-9207-DC195AC1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B5FA78-F171-467C-BFDC-B89F9125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4CF879-64AF-4D4D-8BB6-7E2A0338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4D6F6D-8BBA-4D1C-85E2-65244B84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DA7A5D-4FDB-469C-818B-0190AA5B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FCBFFB-84C8-42D9-8700-F6F287413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D0A3E9-07B7-401F-AF6B-0E8CD2BB3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728E0D-06A4-479D-B974-A2C89B31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25D214-7FD0-40C8-888E-4C853914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4F71-C9A8-469D-B98A-0CA76E46F2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3799-6FDF-4EF8-8C6E-32E000FE2E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688A-327B-441E-8A10-A8E6306773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DFBE-C8FA-4164-9875-D003BA527A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668B-F6CF-491F-A1C1-919BEF6992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F21B-0B8C-4D51-9FC3-680EDB2FB4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0450-0BFC-44AC-8075-7DBFFFF81A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45D8-EB42-4DF5-9B64-6A8955BD57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10B1-C309-4AE8-926C-6BB38F950E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D1A4-A134-4D2F-B7B9-C56D81E558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34BB-4CDE-4EC0-96F5-DE648328E9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681C-E346-4F2C-A42C-9C55038099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4e73"/>
                </a:solidFill>
                <a:latin typeface="News Gothic MT"/>
                <a:ea typeface="Geneva"/>
              </a:rPr>
              <a:t>Chapter 3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The Internal Organization: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Resources, Capabilities, Core Competencies, and Competitive Advantag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3160" y="-7668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Firm Resourc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33160" y="1752480"/>
            <a:ext cx="830556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In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Capabilit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Core Competenc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News Gothic MT"/>
                <a:ea typeface="Geneva"/>
              </a:rPr>
              <a:t>Creating value and competitive advantage!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06" name="Rectangle 6"/>
          <p:cNvSpPr/>
          <p:nvPr/>
        </p:nvSpPr>
        <p:spPr>
          <a:xfrm>
            <a:off x="8286840" y="6381720"/>
            <a:ext cx="819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8610480" y="653724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1-</a:t>
            </a:r>
            <a:fld id="{53C8AFF0-409A-4F5D-964D-DD85AB3C3A00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riteria for Sustained Competitive Advantage – VRIO Analysi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Valuabl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ar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ifficult or costly to imitat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Unique historical condition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usally ambiguou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ocial complexit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rganization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Four Criteria, Competitive Advantage and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pic>
        <p:nvPicPr>
          <p:cNvPr id="611" name="Picture 4" descr=""/>
          <p:cNvPicPr/>
          <p:nvPr/>
        </p:nvPicPr>
        <p:blipFill>
          <a:blip r:embed="rId1"/>
          <a:srcRect l="0" t="8511" r="0" b="0"/>
          <a:stretch/>
        </p:blipFill>
        <p:spPr>
          <a:xfrm>
            <a:off x="533520" y="1600200"/>
            <a:ext cx="8076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Value Chain Analysi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ctivities that a firm engages in to produce a product or provide a servi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upport Func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activities a firm engages in to support the work being done to produce, sell, distribute and service the products being produced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nanc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RM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I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utsourcing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urchasing an activity (value chain or support) from an external supplier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21-03-08T13:51:17Z</dcterms:modified>
  <cp:revision>316</cp:revision>
  <dc:subject/>
  <dc:title>Slide 1</dc:title>
</cp:coreProperties>
</file>