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5232-B818-405C-91E7-7DED857416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2F8E-9E45-4D46-A518-D1C9BE03F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593-5B5C-42A0-81A2-7B0EF648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205-6164-4E2B-B95A-2C57BD62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C8F96-1459-4BA4-A151-48BE08FE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F69AC-E1D4-4D5E-AD35-09DAABBC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47929-4BC0-4A5E-956E-E7C3EE24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259F6-1C4D-4794-B89F-93C11817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3C45B-ECF4-427E-BF3D-C1F0CE49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FE54A-EFA5-4762-845A-738C5F9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6CE28-50EC-4D9B-A0C4-C049D506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95A14-DC69-4715-9943-05EBC089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F8E2C-3E81-49CC-99C1-4DE45979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A3FA4-16AE-427B-A66A-72514D13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8AD-3838-47A3-A946-B47E44FD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88C00-A0FE-470A-8A18-DC9DAE62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51EC7-1EA9-4D38-A52E-E80DC7C9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CC1CE6-FEF6-416F-B4F5-48F9C32B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0407D4-1FC0-4117-BE73-B8BF3D8C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807B57-3025-4DF2-AA6E-11A34C80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7991CD-D86A-4C80-9D75-8E245438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C4EF0-015A-4751-93DF-8A388FE8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582CF-8863-49C7-A655-D0526F6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1103D9-74AD-4D00-82CB-A942E544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E9B93-2712-437E-9D50-DAA1F7AF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7D0-FEF7-4984-8BD7-2F9341A9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C64B54-2088-461D-A603-09FF77DA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FBA555-C8DC-4951-9E8A-07013F6A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25ACBE-D506-4455-8DBF-6CD7730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BE755-1D22-46AF-8638-2D8FA5A8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FCFC0B-FD26-4A7E-A026-F0F89BBD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8C57A5-E456-46F4-A88A-F45724E7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CB5BB9-F4B4-4335-B15B-874FF5A6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3448AE-DF32-43FD-A0EA-5F11F99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2883B5-5A3A-435B-AEC9-7A6BB9FE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F6957-F031-4C56-ADA9-5C5EA68F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3293C-3786-4F0E-B674-13A9792CC31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27A388-8FA1-4B92-B2B3-E7CB6556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F7E68A-FA80-463D-B05E-9731C187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1F4EB-6196-4AEF-BAF1-B9FC495E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71D808-DB4A-4F6F-9E48-F6C9AE65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01D81D-FE94-40EE-8BB1-F98DEBBA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E2C9B2-D1C2-4680-99DD-6F2BDF09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9AF46C-0EC3-4487-9363-B3549205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B3E554-FA98-4F1F-839C-997F6391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84B568-E8C5-4158-BEBA-80D1287A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11335B-FF8B-4B1B-9376-6C906A8B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1C202-926D-4953-8E2E-70C63D9C1A1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57C6E3-7DEE-4894-AD79-398B30B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F943D8-08FB-4E65-97E4-76B4201E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71788-24B1-40BF-836B-A931D15A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055646-5688-4144-899F-6F350323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E99316-46A9-4717-BDDF-4A2F3E9D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A7C811-CC6F-4390-B7CE-E0BFEDD3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5C0BD7-FE91-4483-A7DB-85FB6ABC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A5D7CA-10A9-44CB-BC2F-B8763226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ADFB47-8402-48E4-AFD1-DD2084E8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B158AC-D3EE-4929-BF99-57962B6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54837-521C-4999-A89D-DD582F3C6D4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BF3C1B-5B81-4831-9109-7C2FAF97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25C5C6-BA0A-48F6-8B0A-9304374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9EEE45-36D0-49FB-A428-2F6C4DC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6EC740-6F9E-41A6-9A30-FB844831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D34088-4B47-45C5-B062-079CFF2E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E2AF81-40F5-4150-A5A7-1FE18AF0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9E903E-BCCD-4D5E-8CE0-D78899A6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1E3481-44D1-49E6-9F49-A3700212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8E3C70-8516-4D84-BB55-C617E6B9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70E24B-CF56-4A2C-BF72-EF509DC5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409D1-057C-4BEA-BE5E-F828B294902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0F2459-CCA9-4D99-BE3A-1C11E2DB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FC561D-10FF-46D8-8E55-ECFD22E6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C4A145-B4D9-4604-BCAD-5671BEEB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8579C9-D506-4336-9432-83042B3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A74A08-6571-4A91-A173-BB69130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23DFDA-5CA4-413D-A3E7-B733A06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843AC4-76BF-4657-B854-E061B5D0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09CA77-8A22-46CE-8AD3-6D0EE723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B2B7AF-26DD-4BB9-B24F-C887B146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23FB3-C077-4ADD-990B-C0E0BCC6BD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7958E-257D-4E12-B83D-03BB4B8830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DA2F8-AAF8-4BE1-8E30-07FB2F02E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B0A-2C3B-4F0C-AD3B-CD1983B7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C0527-8D21-4B36-BD4A-DE748BBB0E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56895-414E-4412-BD47-4542419BF3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A00A8-D5F9-4873-B417-3E60F6662B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BD687-59DA-4529-B38F-9090A4B9C8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9C344-BA19-4FC0-B1BD-EFA123E11F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E89-4C2A-410C-A746-91E356FD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D11-FBF4-41F8-9AE8-644A6D3A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01071-D62F-4894-B2C6-46EA01D2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97F-E8BB-4723-8677-EDA63CDB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ED1E4-DE39-4DCC-AA19-A6EBAA3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9017C-A7C7-461B-BF91-AA0E24DF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1D95F-5F87-4814-B51C-C35D32E7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EE77D-6027-42F2-AFFC-18A108DB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E0DBD-FE50-46A1-AFEE-BADFD36E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38BDB-3E7B-41F4-8FB2-22E32A0D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3C4C4-65AA-4D96-95E0-A8CC54AF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3900F-5695-4920-921F-130F220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AA562-ED1A-4C73-AAEA-FC649721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B4B55-12F2-4FE5-AB58-10B8A0AA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D4C-A1BE-4A28-88BD-6A3F33D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CF80F-D319-4D72-B329-BD4D0968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D18DA-C034-41F2-B7C4-32FE4B05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3440E-2395-4BD6-A6AC-2D53AF14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58C64-BE63-491B-965D-B3BA2AC9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DC971B-EF00-48B6-8BAB-4E3656AC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D3757-876B-4584-B460-19F95656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96BBE-96A4-41B7-A3E3-D57E83EE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22D99-ECBF-4A64-93B3-6E92192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86BE9-AD69-46C5-BE27-D335402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3E9EB-30B0-47D3-ABA7-29705A3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A45-DEB6-4CC0-8A69-206920C6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012FC-1267-4440-983E-AF88B598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05BEB-C976-44A5-A4E6-F0375BF4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8C771-C496-4456-9783-58C3A9FD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EB100-5D1A-4308-94C4-D46132A8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55362-F7BA-457D-9950-69146374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0174C-C8B5-40E8-89A5-473F515E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69E57-07FC-4170-A512-0D7D76F7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A991B-EF54-466F-8298-30D580D1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A72C1-A415-4CF8-9BCB-3DB77C8C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C3881-7BE5-46B4-B2D7-8263BFF2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DBF-8CA5-4D27-AEE1-18F6C206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6A728-D006-414F-AF5F-041F8BD2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488D9-7BE9-4AA5-A631-E00DCF6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1DB95-A634-4B6C-AB34-CC51528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8BC3F-7E09-462B-ABA4-1623517A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2B958-3B9E-47B8-A853-45A93AAA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9B884-8F12-4652-B446-EBB36700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D8AAA-FD40-4AE7-9232-3CAEA66C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70ABE-7041-481C-9C17-10BCC480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110BE-D1DC-4328-8596-70468217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E1E13-44AB-4FA7-98AF-A30056B3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89E-9697-40F1-903E-48580342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E2F6A-E1DA-40E1-9D38-4BDAE43B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19021-F370-43D1-BD55-1A04D6D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82558-C5CF-446C-B417-E90D22C9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F77E7-28BC-47F7-AFAA-B6837831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91342-0806-48E1-9C8C-9ADD7C66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BB66B-054C-405C-9B6A-678F4C93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6FD27-4CA4-4C2E-9F1D-5479D348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19903E-5B05-4A5E-BE77-2F143CEA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7285F-B78F-4B3D-9D4E-C03174DF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33A9F-06B2-4A1B-9AD5-B8B3F782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DD75-7D12-4352-9FD8-5AFF3F7CD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3ED3-73F0-49E6-82E0-71DA687CE5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901B-638A-4710-9955-34F71CDBBA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EE0B-B075-431A-A9DF-ED58B40945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936B-EE5C-478C-ADE8-43D20BD36F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41FD-FE9C-48F0-8DAF-BA1E98486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4FCC-484D-4DA8-9B59-BCD129031C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82DF-FC4F-4EFD-BF98-2CF986E7FB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B263-06B5-4959-B31E-ACC2C8C8C0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0EA9-6C99-46A8-A7CB-0BA59B16DE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C25B-3D09-4465-8682-A8A12DA128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C4F1-E065-4916-90D0-AAF535D4C1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920CE13A-9C77-4F00-80FD-E8BC38DD6D7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1:17Z</dcterms:modified>
  <cp:revision>316</cp:revision>
  <dc:subject/>
  <dc:title>Slide 1</dc:title>
</cp:coreProperties>
</file>