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103C-02F2-4C9D-AB24-B6D843CCF15D}"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E5CC-6345-4CB4-8F4C-6E43CB4917A9}"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DB3EA-5CFC-45C5-802A-A68B9CFBE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EF3A-A040-4A5F-940A-FCFAFEBD6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68F8B84-D99F-448F-A14B-B205373546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B7E61B7-DC0F-4141-826F-17B9A90B023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F366074-88DC-4F80-8A7A-B4EB9C79711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07886B-4ED3-45C5-BF9B-6A900D1FDF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D73DCF-E094-40B5-A26D-104B46F679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035B05-365A-47DA-B0AD-7546ECE0217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399A89-250B-482B-8D91-462A2D8ADA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8FCC619-D175-47E1-8D3B-DE9ABC7EB08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85C2CDF-7FB3-4522-BD49-0218141EBB7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4513BC8-5D82-4F18-AF34-56B37243EB4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388F3-9952-4D0F-9ACC-DF9A12239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347E10C-37AC-49B5-B21D-254FADF4105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01DD73-6F94-4896-A73F-56AD3B76AEA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1DF428D-4EF4-483C-B8D9-3B6241AC6D4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B4756F6-1316-445D-9F72-9B4197070A4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B6C468-9C8D-4F05-A9F2-E37AB61C83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5D5D65E-E137-405F-96C7-FF2613BF4A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80E1C0-39CE-4163-AD6B-6F2FC939420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691D32-F850-467F-BE6A-EC089C93F77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192B3FD-5A89-4C11-A5C5-FEEE407835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BA1522F-A761-4152-A189-B1492A075B4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DFD6F-1F54-4A48-9B7D-57C33A642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A0208EE-3621-457A-B969-BFE23CDE4D4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A8DAFA1-C5D4-491C-B06B-EFF0371A8E3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9B0EE43-E235-4F4F-A348-7931CE66D6D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EBFFCC-5AAD-46D6-BD4E-BFA5B1B2717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063E51-3EFE-4CCF-92C5-59B9D6D0932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A2464B3-3571-4F97-9D54-F1B4EBC1A63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06E011A-30B7-4223-8B22-A5B20BE2F7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203E13-308B-42C7-BEAD-3CB70CFEF04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6FC224-662A-4FBD-A4E3-56C1148C44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96032F-6482-40F6-B84C-4485F72936E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7838E0-955A-49AF-BA85-A4ECBA4B381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3C6FEFB-A26B-447E-BBA3-4BC7B9F348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AE90371-E6BF-4C8E-ABBF-03AFBF2A287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C2C83C7-01DC-4E2B-86F8-73C8384F43D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7C63D06-7892-4AAE-9187-CD5D5FFF7D8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F7472BD-C35B-459B-A7AA-42ACFBBACF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153E96D-A1E3-4EE4-8899-E78AF126D3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BB49154-5B4B-4632-8022-59870DC71E8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CB8C03C-A780-4E4B-9B79-4E98B3DFA4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C66362F-B69E-404D-AD6E-D3F3D24284B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EE2148-F631-4BF4-B68C-E58A913968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16858-0F4E-423D-89B1-8A68635601D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406BC2-FA42-4ADD-9795-16222F10F7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03EC2A6-1042-4EE7-85A7-64607A34D22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A50501A-2DBB-464D-9C91-6D83C5FCCE2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4EF21DB-62C0-475D-BEBE-37CC341F948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38069B4-6B1E-4AA1-8B51-C1C9765686F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E44B747-6F4C-41BA-9B2D-990EAA4778A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3314E05-313E-4826-BDB0-28D0E48E726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F831DFA-BECE-493E-8041-0D6E34B28B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B9E2362-64F1-4505-8D9B-294D24A7D07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18BD9BE-9A3E-4214-8D0B-F939DCABB1A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D0E92-0BFE-4412-B3AD-8CFBAADFFBB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4146549-7918-4FE5-B097-F35B79EAE18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E39296-E0A4-4BA8-B5A6-E73DD1B2B4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66C253A-7BE2-45A7-A158-6427C3D359D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D171DB2-6470-4989-9530-8D32A411A6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A07A242-CA69-4924-BF50-70209201A0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7E0A6C9-D5E7-4879-9127-C2213C40779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B196059-AC50-403B-AA30-56BA62B3029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B44AE00-E9F6-4F4C-B416-CDD6711DB45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5A5509-FFA4-4ED9-B75A-26AB02B545D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7376530-B207-4485-A523-277B92737EF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198D6-3DCD-490B-BDC5-06E85A9E34E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3CA04A3-4079-4959-A95A-39AE3FD8ECD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AABAAAE-8863-491B-AA87-D38DF4BE2CB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A7970F3-09A0-4ACE-AD3F-918F4D3D298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45D5B96-6D07-4D8F-A3E4-03514B02DAA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A1836B5-C742-489A-AD0C-C2130EC11A8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6E8DD6-2046-4AAA-BB37-09056F5739C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E5C0C59-FC11-4CBC-9A63-2CE0FEAFC3C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F29DD9C-0E1C-4EC2-85EB-341255909CB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F59216B-B961-4036-B550-ECADFCF4C80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F7390-E376-4C3E-83E3-CEA3D74F36D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580ED-7F1B-4580-91A5-92C8195FD70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E4835-EC31-4222-BA65-E2043D5BFF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9164-1150-492D-8D87-B76068FA1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B95D0-E15E-4533-B1A6-C8D98CBE0B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72819-1D0B-4D28-8E01-2C395BB41E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6CB53-7073-4861-AD69-5E6BC448EC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F81351-65AF-4181-A2A2-2CA54F8842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86C61-38D6-4368-AF74-306F84FFCB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B026C-2AB0-4DC1-BE24-6A8D5FAD8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2B38D-B987-47CB-B293-99254EFB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4BDAF6-8557-4A74-A838-EBCB5F2572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46B00-27A0-4B50-8B62-234E7D08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0A44CF-EE44-40C2-9F63-7E6C2E519D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16FD41-AB6A-45FC-8D47-11A9BA241A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8AF7F7-AF99-4A11-9975-18F55D133D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FDEE78-1AF1-455C-B4C2-5D02D7F114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356C5E-9E07-47A7-8405-642E3EF814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A21527-78F6-4AB9-A556-DA7060288F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E324BC-E4F8-4A72-A18D-89A6EC376D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57B4E8-1743-4664-A8B1-F0926D8E9F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AAE344-FA90-43A2-B506-F99AC183E9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7EABAA-B1D3-4323-A465-25E832DC5FD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71832-6FBF-41C5-8396-8A296196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F9A122-6392-4909-B60F-4D0D8192DD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3AB36F-1368-4DD4-BB6A-A41CEEEC34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350E26-43BF-4F20-8747-CD33F7A422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3CEC79-1CF3-4E1E-848E-EA1A211E82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8E7148-1C6C-4788-8DA3-81D4182213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F7F06B-222D-42D8-9CB4-743C7E2BC2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CF9BD6-73D3-4A01-A9F1-4FB700C753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3CDCED-7489-420B-8F35-8F05CD74D7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4968BB-8035-4F02-85A5-5717172E61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BD23A9-D902-4FDE-8C53-5ABA6764E0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522C1-79C7-4B47-81ED-E04D98EFB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F37886-42FF-4111-9637-D7C3B01353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191DCB-39F6-4D35-9AFB-EB912D8BCDA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26AB832-E853-479B-A567-00AD9210F0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88ED157-3330-4EA7-90D7-8BFDDF1179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548111-D5C6-48F1-8975-2DFFF21195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CFA7A3-E69B-48FF-B5B9-1FC6F4BA81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A8131C-AAD7-43B2-A503-87A846941ED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626433-5828-4EC0-BFF1-5716896743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F1BF1BA-95F2-4DB5-B135-D573E732E1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6B4036-C08A-4DDD-B878-35BB4832E7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CAFF-97C4-4565-9185-118BE33F4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934BAA-B2F9-43A2-A468-3FD9BCA30E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F694F5-3CEE-4135-9B59-BD9208EFDB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D02100B-46B9-4543-9B53-6B24F4C8D9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28EDA2F-C72E-4A11-81E3-013F1336968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DA59165-FF5A-4CF1-9A0C-FAF100E9A86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C139AB0-CFAE-456E-964C-E7BB67BE70B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BE30B5-33EF-4DB5-90AB-1E63250165F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8CD0A4-FFC6-4F06-9D34-0D03DB103D4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98EB03D-EAA3-41EC-8109-9209B4E4CF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4B36E3F-2B00-4CA4-BAF0-318C05C4025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7421F-95A8-4EBB-B4E8-345A73ECF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8CE2FD-349A-4DE4-A1A4-23CBBBFBF8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FE1F87B-A8C3-4E65-BB07-62F6E6F8A1B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538AC1-231F-4C58-B49B-9153F88266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788096-3702-403C-AD03-A12F88C632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5DA9376-5CDD-4B46-B203-5A0679D534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E99BEF8-B5DD-462B-A39E-1BD968B89A1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0CD390A-DDA9-4B12-B71A-E84241914AF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970A5AF-F8B1-4437-9C92-D5DE131AA2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52365C3-C0DF-4839-AEE4-FB4B7B8197C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F56C074-269B-4A23-AAE7-83F23B5562D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5B1B-ACDD-4A8F-A6ED-E34BF3231B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6945-CE27-4098-9F05-33567C8551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C812-769B-4918-B2E8-716749F41C1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84B6-1370-4B8F-87FE-62E02A1AE5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1AF7-3DE3-4D64-ADF1-91ACCF330F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9E19-7DCD-4383-8DA0-85E25952B4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59C8-1E61-4BEE-BB8E-E8ED17A3F6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E3B3-CA86-42F9-B741-4CF897437A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4B21-5AA7-4040-B0F7-C359A33E5F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53BD-314C-4A00-8395-59FED89FE2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D061-FFD8-4629-AC7A-3F2E538113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4CAE-0A12-44A9-B4E8-7D34855196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News Gothic MT"/>
              </a:rPr>
              <a:t>The Product Differentiation Strategy</a:t>
            </a:r>
            <a:endParaRPr b="1" lang="en-US" sz="34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A547CE28-EC3F-4CCB-B591-474E6476E1A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22573BF-28EB-4BA5-B517-260C2A357666}"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7:11Z</dcterms:modified>
  <cp:revision>325</cp:revision>
  <dc:subject/>
  <dc:title>Slide 1</dc:title>
</cp:coreProperties>
</file>