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D813-EB08-46E0-95E0-3C2B141F513B}"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3D12-B6CD-494D-9972-872DCB224841}"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FC413-B221-474A-BAEF-908DDCE6E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ABF37-C127-4560-A4A7-5AA4BDB91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7AC924-66D6-44C6-915C-1AE02D844BA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2C6155-12F3-495E-97CD-4C69C7CDE2F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9793FE9-5EBF-4D29-9943-CFA858C6815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0E0EEAA-E9C0-42BF-8370-9E55590DE0A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41CB136-9F09-49A1-83D4-F9816C2B5B2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20D3FF-EE0C-4386-854A-3B5061C9E7B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5EE044F-96BF-41D8-B575-3E4A1615A7D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A6D54D5-C19A-4324-B4F2-E5A5C2A5320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12BCC1C-9101-4AE5-9C78-D571EDBF7DC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568C13C-F870-44F5-884F-2A02673C32A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FC4B3-A989-445F-A637-CD1126E89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C65571F-3EF1-4F35-9E5A-923EA089B51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6869609-4584-4BC4-AF3A-5B86ECB87F4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82B1B3B-1C71-44E0-BE40-BFCC67CA0E6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04B4DD3-0CEC-443C-A46D-BAE6BA2D343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90F927A-ABB5-4EA4-8F0E-86AC327E2A9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276691-3FE7-4BDF-9FA2-02E059BFC0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CD983EA-11B2-42B4-ABAB-27D25C17BF0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A67DB8-FB9E-47F3-BD4D-C02238ADDBD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E58A98-1D3A-40F1-88BD-E1EB83315AC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2389781-AB72-400E-9EDA-A5D527B6AB1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50AA1-9408-4851-8E39-D850BF0F5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A8129E8-59B0-4962-B0BA-C4DE756B149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C7FF3BC-D251-4BD2-B30E-548D726CE45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446FE72-29BB-469B-AADD-A6187ABD2DB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0AE2595-7AA1-4C6A-AC40-B69BD332747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B4FFA25-46E4-472E-8B42-E027C55F96A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311DD0C-1C42-437B-A8B6-A75E67310EC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60083D6-7F80-4A87-92CE-89CBD328519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5C664AD-E3F3-4928-B76A-B8F2293A176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364E236-BA02-4FB2-B398-FBCEFC8B0EB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3015D5-1424-44C9-8246-04C784FEDF3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BE5269-8854-4713-8D65-5B0B752D997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67B55E7-2005-42C9-8423-08307ECF290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20D9F15-D5BA-48B1-9120-6B34C94117B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93B9325-00AF-47C2-9502-19EA5668663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6FF9EAB-AFD2-4ECA-8B9C-FF0D3BDCE2A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55848CF-98A7-4964-871F-E63986FDC47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577E705-EF0A-4AFA-A2DF-78FF957E06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186CE9B-88DE-4957-92B0-D6A42C63946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5BE2E30-1A73-4890-AA80-573B0B7BEEE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AF97FC2-5294-45A5-B819-278E0B4D59A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14B0B85-EA67-4457-9997-AA64CE8160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915B90-53A4-48A2-8D93-14D4A4F60BC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63DF15F-0BA0-4B63-85E9-4364ACB2AB8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57D1FF2-0570-4B67-A292-371C217547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3B69BAF-F418-44CD-A0CB-CADE089456C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1E65BA7-4450-4A69-9C64-78F69C0206E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27A855C-0EE5-410A-8B06-0A5DBC80DAF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41B79C5-4AF7-4728-83EA-56C73E0932D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642EDEB-6EF0-49FC-AB64-16D125E3E3D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4E7483B-A37C-44AE-A104-ADE1665055D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D2C87DC-8A63-4E03-8F25-03D3133B3FA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82A637E-621D-4E6B-80F7-92A191D6C84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02318-E87E-498F-8FAE-7522DAE3F4F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554A62F-E357-46E3-8F4D-7E361F10C84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A4DF031-C275-4849-B0BD-8BB18DC25CB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EF00D42-7F1D-4DD4-8AA7-96210438276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453E6B9-A6A9-4652-8229-E5CB9724F7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412C45F-84E7-4C19-9BBF-287F5AFD665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385EEB8-BE38-45F7-BB96-0278FA56E13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C931135-7BC4-4311-8543-CF225B8F25F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5E0AA17A-2B91-4A2C-954D-0072D648F43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6580F67-3DA8-4E15-B102-B13A49D37B1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551FA18-0E30-4019-9E87-98C8759F198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BD7F24-1018-4C41-832B-EBE632B2A33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7B335BF-1C22-4C21-9FA2-BCE4CAFDF34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77698DB-EA2A-4AFE-A6BE-E819058118B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3C093AA-5A50-4245-80C6-86C236FE584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399FAA2-73E9-401C-869E-794A092D634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E9860A4-2910-4CD1-B223-EF605918B59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8E9693D-D5F5-4597-BBC1-A9FEF586C9C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4495688-B42B-4E1C-A5B2-6249F2D62CB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790D43A-A97C-467E-A161-892C860B341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2D73D14-84BE-4A76-936A-442D157E31B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B8CA3C-C954-4139-8990-736F0E6850A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6E2A4E-0563-453A-A1C6-0EB099228DA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6D61A3-8F5C-4A7A-A4B3-6B273CF181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45F30-B520-4B29-926C-86DA50B87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AC748-8E6F-495F-BDEF-292C60F47E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B95D11-297D-4687-BF55-0607AA5C32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1DE902-2FD9-4768-B6D6-1EF250B006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B43274-3413-46EF-87E7-CDBFE4B6B7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927E58-D7BF-4A4B-BE76-E1AC7683365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074B7-E91A-4140-9F53-90D1D2EF1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163B1-3677-4461-86AE-7906B4CE3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AB43B10-28C6-442E-A707-A73645F1831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93235-3479-4579-827D-CAB61BD99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DFE828-51E4-4F41-8663-53549E2A91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A9D863-98CA-4EA0-A762-155F4E323C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A7011C-7607-405F-8BF7-286CD8E395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5040F3-4F04-433F-A518-DFB315EB9B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606D2A-C1BA-47AA-8C10-39B3431293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8DAAC77-2177-4782-AB4D-2969A2D59D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214696-27D2-40D3-AFF7-B2C4272BA2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9EF0F2-56E3-4654-A6C1-18800395A5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328971-4686-48B2-BD7B-82C1E517AF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67BD638-8E5B-4610-9E71-F158168C0F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157C0-2A4A-479F-BFA5-89C8F15A5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73802C5-8185-4AC1-84ED-1C8C2D0B33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0166C10-7407-4916-9BA8-5EFBD4924DA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CA397F3-7192-4496-B789-F225C89041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C5DEF3-1A4B-4491-9A3B-C537774812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6FDFD4-412D-40DF-A557-009F9944ED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135EAB-495A-4DA2-9EF6-726809FAA9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7601C9-5E9B-42E3-ACA8-125957E643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2D4CE9-A559-4585-B6D3-96E92C3EEEE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C7AD2B-CECA-4222-8D83-0ABE01957D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A74A2C5-C7C2-4921-9F30-522FAE7D5B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99DE-658E-416C-A8EF-1C3F97115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DDE032-8DF0-4DB2-9764-1D067C0C31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1F0784B-93DF-4A14-912E-D979D4F8EE0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3764B3B-9E59-4CAD-90FF-8001DE8396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B970B99-2F2A-4734-9546-590F75B63FE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FF63DF7-7213-4F03-9001-947AA74728C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71466C8-003A-43AC-A3E5-A06BDD0552B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46EB1C7-8832-4BAD-892C-209E0D1582B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C465783-EB44-4E28-AA0B-7ADF2DAA95C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1C1221-2C81-4AEB-B3B3-E993EC4C1CA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3AD797-9729-472D-92ED-2A2E4F9376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3AEF4-D556-4E62-9389-7D3EFB733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F31448B-8794-43C2-8172-DC6E09028B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8B7C351-4431-4322-9C37-354BBAC682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BDCF84E-57EE-4527-BA99-D95C05CCD4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92A3ABD-F20C-475C-80F2-3911D319114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700DF9F-3405-47D9-8907-F3A42F261A6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531956F-5D53-4FC6-849B-42E516FB4B8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2402CF-46D9-4390-BD5A-27D0FF7F8F7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F8F2CF7-329F-46A1-9A78-C680011E1E1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C720C67-610D-4ACE-AA0E-FF679E5B68E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6922511-E2FB-41E3-BB7D-3756E3A3EEE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11270-25E3-4DA1-BC26-C3DDC9959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A42DAD3-5C68-4B33-9604-85C6C584C5A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C544CDB-4875-4455-AFE1-D74FFA87F1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674719-BA6E-4227-B06C-AE292865B9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3926AF-6F4B-4FCD-9775-8556CF068BB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7A69BE3-CF2C-4502-A78E-2FC8D23D451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6290DB7-FA6F-4407-9253-7FB81D161F1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91AB2D7-D383-4581-8FB6-A853D375572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893D7B9-C490-4202-BFCF-CE1762F13F3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D5E1CEF-3093-4117-B79E-29C34D315D1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A9C52A8-1B3B-4022-A24C-77374AE21D55}"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1DAB-0170-4663-B335-B61AA3E2A9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AF11-9336-4D3C-8E8C-2D58F533CDD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4EB1-8182-48A2-9E26-781276FEDA0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BFE9-AD6D-4EDB-8DE0-A982EDA43A6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D13B-8A02-4AF2-915A-19057381E07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159B-14CF-4E9F-8553-D38378271F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721C-F935-4B0D-AC72-9B2CEA9540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3EF1-2B16-42B2-B1A2-814F262CAC6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1C2C-3E32-40EE-BD54-26DE0D108D5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90BB-65D1-4ECF-A1E9-89CA7EE28B0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2D7C-B182-4AE9-A45F-B1A83F287D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7306-ACE9-4C7E-8617-BE5306E8265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News Gothic MT"/>
              </a:rPr>
              <a:t>The Product Differentiation Strategy</a:t>
            </a:r>
            <a:endParaRPr b="1" lang="en-US" sz="34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4F8625B-C133-4043-8079-698482F7978A}"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7F0DA0F2-8A0A-4E7C-8F09-BEF8251040C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7:11Z</dcterms:modified>
  <cp:revision>325</cp:revision>
  <dc:subject/>
  <dc:title>Slide 1</dc:title>
</cp:coreProperties>
</file>