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D107-56BC-4EB9-8D2D-7AFB2DA5F210}"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38EF-645B-4EA8-90E1-7F70D6B44776}"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8ACB8-DCE2-4620-BD76-F530E78BC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A16EC-7C57-40C2-A37A-C690E03A4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6824A32-8203-41FC-8EDF-DA316D59354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798DFEF-A7F3-421B-8FAD-3737677D674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D276DF9-BA47-47E6-9C4B-726E645C51D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BC7996D-8879-4519-9BBC-C71843A9D7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02AE8C0-F1F5-4B4F-8BE4-6A2708ED0A6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E183D07-ACCA-4C63-9FED-A418506757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6E8C8E3-8E88-4C2A-871E-19FDBC2B143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AB5F379-BAEF-4ACB-B165-1493CB72F90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C0E9B1A-29E8-47CD-B4BB-05CC4CD9ADA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996667C-FE96-4A03-82AA-EEAC961BA7E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B2954-1284-4182-BB26-75AF3BB15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25598CC-03E0-4341-AFB2-27745A881CA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BC62DEA-90C4-4216-B5B0-1847F87FD49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06ED5B1-F898-48F5-890A-9899CBE9ABF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EAE3FC5-69CE-44ED-8399-B9ECBEB4145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84256BA-F2DC-45FC-90DC-DFD7CE5193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4ADD59-B6AB-41F3-91BC-6431C3836CA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F2A873-A9E2-40C3-A702-027405F70BD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28CCDF6-1436-41D6-BF5B-B4C03002849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55F19D2-8AC2-4982-A9EF-80830F63D0D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3BFDFBA-9CAB-4E63-B786-E8046EAAC42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76DF3-6173-4B4B-88E3-8E39DECA4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AC99320-326C-4631-A5D7-8115EA7EBB7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603D24B-3662-4D89-9C67-1D0929DF246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AC0A831-D7AD-4836-AE38-24BF2ED7B05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EAF11AD-B4AE-49AF-AE57-4BA3BA3CD9F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4B0043B-1837-46BF-91DE-06598FC8293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467DE08-3EA9-478A-AFE7-9BBC64E53A7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8E8FBC3-E553-432D-BACD-D66EF2EA846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7C8C3EC-0033-4FA0-9931-32498F0AC14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5B0403-4A3C-4573-88A8-CC2E23A7300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12A58AD-D692-4897-82BF-082180A2A46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B11AF9-BB28-47B5-81EF-D898978B635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CB469A1-C76C-4E35-99F1-447E60D018D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63F4BE0-918E-4796-97DF-BDE109DB122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536F75F-A207-4713-81C2-4DC9224F9C0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275661B-6B0A-41EE-AB7F-C45C8050D5C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40DFADD-9AE8-4403-A7EC-45FAF6B69FF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C73E4D2-AF4B-4B0E-A0F5-64B974C4526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553EABD-2D69-4879-A4DA-5BB1E746C0C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1FA3EE5-29A9-43E1-B0AC-34C021D7114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A0B08DA-A9CF-45A6-A926-439E121F3DC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DFC078-45BB-4BFE-B121-C530BB2EA2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E4F9A6-459C-49B7-902F-2BBA7FB0D7A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DB11ECA-AF97-4C28-85B9-06F3CAFC2E5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EEC32DA-1444-474C-A4E0-092A287CE13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8F1109F-79BB-4ACF-BB0E-4D771B48DD5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E0F4C62-B33B-4661-9974-18574408929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DDE084C-6835-495E-AB5B-E4F86079D38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6A6D040-EEB1-4C33-A455-22E3DBC3E40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3AE3460-51FC-41D3-96E5-3580608D867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28D015B-D5C8-42E5-B98A-2E172F1629F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5378407-4732-4814-87AB-24D737DBB03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8C88800-9C02-4CEA-BA9C-A8B3E3611EB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FE2EF3-7497-443A-99C9-9AC8418DB38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CF01375-F09F-4750-8658-7B64BE9DECC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F1C0F44-45B4-482A-B21A-53C6C56186E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D8EF5AB-30A0-431E-8ABF-BE1BDCF36A9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9887838-69EA-4B57-B20E-245EE1FF952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149DAB6-C79A-4923-9305-8A0FC7146EF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5B6673D-4BF7-4709-9C90-DBBA59E65A1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96C382B-61EA-4A3E-862F-F49E07E48ED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8197ADA-8303-4302-BE08-32F9E51A045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63E74D5-F1FE-4B5A-88A3-5AF0CA2CD9A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67F6C6C-B453-4749-94FD-A258587154A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E0EABC-5C99-492A-ACA6-48D1068AA23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6ABCF4A-76A8-4178-BE00-4082E95B45E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83774D5-8F38-4935-9E54-AA4507BBEF8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2BE3E37-1C2B-40FB-A2CD-866B9DA1703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F765091-4849-4106-9B0B-5363C417B01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4CCAF77-933D-4599-B972-CC0E2AFF4AB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16A6B61-D07E-4277-8D01-B58273958E4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3231FFC-3A26-401B-8400-6D624B51D65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650FD67-CD4A-4DC2-BE85-834F12D46A8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131F578-C55C-4C0A-8D8D-A4EAE99E980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F8F335-81A4-4D98-9504-5AE151BFD11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E26AF1-97EA-4691-865A-8CC9A0D756D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A6D9E0-DFA6-4EB0-8A11-E604D0610F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8D00B-7351-412F-A096-B23A6F938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89390-D629-4DD8-B83E-E5E729E229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701528-A4A9-4588-9669-4FBDED30FC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008240-1414-4BE1-87EA-5EDF2834ED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6A59A0-FAF6-4A9C-A85D-07E708C98C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9F8D28-5FB2-4619-8341-EABA5CD4605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79EF8-6CEB-43FF-9003-99EFEAB7E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D15B4-FF64-4AE9-84ED-7E6CBFEBE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9E8A799-DAED-46AF-B41F-F7E6707C15C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9CCD9-D88D-4E47-AAAD-FC36DDACC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CFBAF5-156F-4AE9-A990-9654C97C3C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F4B8BC-9BC7-410B-8574-582C0EF6A1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0AF16E-E034-4BD6-B8EE-5B8BE10313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872BAF-2A05-4F1F-B74F-4CDABC255C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844803-BA48-462B-A26A-CBED6B9B96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93D8E5-2127-4E88-9257-0D2E7192F3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4CE12A-D6CC-44E6-B0B8-42DE20EA77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D66575-788D-4E7E-B9B7-268DC30AC2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8C875B-BEF6-4AE3-BB4B-D51F59F046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A2C17B-04F6-4268-865C-8F88B070CDB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4F85-96EF-49E2-B7D3-55BB20607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DAFA811-8FEB-489D-A080-2265B099DB5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A2B5FF0-CC65-4F03-84AC-66D4DA6039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138732-6025-416B-AACE-DAB01D8716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4264A9-6E00-46DE-B919-D16689DC43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24439F5-E54A-4716-8375-0FDF35DF9A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7B33B7-37F2-49B0-8C01-B0C01A162A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39F7C4-84E9-4657-8923-97E7C0B820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7A4955-B9C1-44FD-A14A-4074979B83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478F37-7CEF-4459-9055-973E557CF4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C84A65-BC69-42BC-880A-9C38476D46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FACB8-3A7F-4A3A-BF40-89DF24636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5C190A-6C27-4EFC-907A-985D7544CF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E41A8C5-0FF0-4764-A423-8A2F77E6F3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22029D1-37B5-428F-9836-4A9E62EF7A5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34A19D5-D350-4A26-B6FB-FC6A4B43CF9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FB88277-0A0B-4975-BEFA-ED48CED0ECD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956D7A-F550-4EFC-8EAA-6A8E3099497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B0EA83B-630E-4F95-B6D1-D6673F2ABB7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6915E18-0576-4B35-A012-A635893A9D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A32ADF-C562-42A6-B19E-619000ACCF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03ACB4-5219-4E25-A5E0-CC3A1EDA12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30B5F-9F8C-484A-8767-EF737EAD5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0888BA3-A4F6-4E8D-8B44-F148BDAAB2C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496F6A7-9252-4269-B568-7BE3CD18EA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A329D59-05F2-4FFC-A60E-7C27C41E792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8921399-FBBC-4655-B0A4-3262A842DC7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E868284-BCB4-4F8D-9C6F-5B427D13188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5F72B32-0DED-43F6-B152-C829B9D5447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3A46145-3E18-47A1-942F-BE4CA0AA7E9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C980063-1C81-45F2-8BBD-5D4D5B91243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08A239B-9BAB-48A8-BD37-4E68379F2EB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B0708E8-6566-4E5B-B15B-AB9E698A98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9E21-BEEE-45F7-8F33-45F369459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900103B-8DA6-4C67-AF1C-3F68957295F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F84ABE-E8A3-4732-8DB5-792F8E6045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F683294-1032-41EF-8968-4FBA1EFA317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3F75FC-DA9D-4DFA-A57C-1A57469D869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F6503F3-085A-477E-B727-D457C844614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B685D9F-4468-4541-AD4A-52554B5E63C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9F5641C-B4E9-4223-BB30-FBC13FD274D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D8C2AD1-20B4-425C-B2CF-3E9F710C86E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87DD9AB-0BBC-4BD0-AFF4-2BB34459377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AAE46DD-0CD5-44AA-9E2E-42C622918886}"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902B-1321-478A-AF1E-8966F6E19E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E088-1D18-4199-A88D-BDBF8725976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D8A9-8A2A-4143-8E01-05BE77BB790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BFED-1E61-43B6-B440-0D637DB854B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2CC3-968B-44E7-9161-C0A7F56858B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26BA-FB1C-4D3F-8C87-93A316CDF77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7B1D-A819-4F75-9EA2-0A189C54D35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03A5-3662-4458-A868-6422C3E50D3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200D-145A-4100-82B2-E09214475C6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17F6-B81C-4DF5-A8ED-39127FD88C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5210-57E1-4EDA-88B4-F0AA96A4F6B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21A0-4D3E-48F5-B246-E3F87FAA17C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News Gothic MT"/>
              </a:rPr>
              <a:t>The Product Differentiation Strategy</a:t>
            </a:r>
            <a:endParaRPr b="1" lang="en-US" sz="34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6F4D0AEA-27C0-428F-B61A-8DD19411DBB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0D6F267A-EDED-4D7A-B99F-2C3D1024947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7:11Z</dcterms:modified>
  <cp:revision>325</cp:revision>
  <dc:subject/>
  <dc:title>Slide 1</dc:title>
</cp:coreProperties>
</file>