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8F89-14B2-40ED-874E-E0B38A80BD29}"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BECE-ADE1-4B6B-8AED-07C21AFCBF29}"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FF599-F7A7-4274-A4A9-87E3790F4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0BA07-23A7-40DF-9C42-323105F64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616E1AD-6D4C-4CF7-945B-623FDBEDCD4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FC638D5-1102-4835-B860-95D5D0A3A38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CA41D9A-59F9-4FDC-94A7-70CB318D702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EB24084-0F15-45E2-8617-677D546C673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99FF7BD-026B-4666-9321-65118A06C75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9D1D302-7120-4350-854E-517FCABC7B6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550001B-19C5-4C7F-8169-867D9C33F5C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F34DD15-3D5E-4A0B-AD2E-BA100FE5EB5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8105F0A-B391-4C30-861C-80B7063119B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7518904-D7D3-4B07-9CA7-D00E5B7F539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6C89C-DDD8-4ABE-80C8-1EE01EBF7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E73CF09-9C64-405C-94F5-85E76FCFFC4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7B31F40-2CAA-45D3-ABE7-F54569EEF78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DD7CE39-E8CF-4F36-BCD6-B69D189C3FD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9927A67-C9EA-4DA2-9ABA-68B5A1546AC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AEAF300-0262-440E-999D-A886F066D2F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20BC989-1F39-49D4-A885-8A6503269BC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6148FC8-752D-44C4-90CE-36E1E41414A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4152014-2C22-46F6-96E0-5B6704FABFC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3BF1F2F-C4AB-4D9B-8E35-CF6DF3699CE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9882890-2C70-4B8F-80BA-3AFDEE69A5C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9778F-E545-4975-A981-01AE4FD81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F648EFE-DEFA-41FA-9E48-2CF562BE272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7AA9D49-4139-49E1-A138-87004E5E6D5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30AA34F-F3C7-4C70-9834-CA5DF678B0D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55D252F-FD73-4F85-8265-4622052778C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E7567E8-58B6-40A9-9A1D-51CE25198B6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229A2F8-2A88-495F-A08E-B51632EAE5A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11BD5EB-AE6F-4ACD-8C3C-BFDD327A7ED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8383A74-ADDE-45D2-9CAE-029FE900F73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C6D912B-673C-4499-94F9-E5039A14F82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EC91B27-C57C-40FB-9AF5-C7B782544CC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649DDC-BE2A-43EB-B9FD-24DA2BFD96F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EF1781B-63BB-4692-A3F2-4A73E2C9A5A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490BC1A-841F-4E9E-926C-7D871BB48B9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B406DD9-AFD8-419A-B77F-A5F47248124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B5F7EA1-1F26-4D76-9198-02730F15A05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09795D8-CDA5-4099-B43A-EF46A0CA90B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24C7E36-C7EF-4E8B-AB65-249822D1A20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93A8912-6758-4508-9274-C53061600B5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6494CE3-8508-4EE5-8038-3D1235605AA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C60778C-4FBC-4C25-8FEE-E997CF5C60F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F75F489-DDBB-48E5-B06C-A2008983487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BB355A-E363-4A4C-A85F-8549535F970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D9EFA17-BC60-490A-92A7-BECC13400AB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A2553C1-24DC-4EA0-8238-0E7C235F222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9DB7E69-46DA-42DE-902A-FB2972B8BF9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2976C45-0F86-44AF-88CC-87936BB5B90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6568DF1-D836-46D5-A6F9-4D1AD6A5A75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F023178-96AF-45A8-ACF0-2E59496825E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C125055-695E-4DB2-840C-E9DF5DB734E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D7C87F8-396F-4932-B9B1-2821891D72C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BEB8F9B-9F79-426A-BC9A-72ED97372E1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9E97A32-E719-4B4D-BC69-18824AB9E14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A8F71F-8518-493F-B98A-4C1AA6EBEC4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EB56896-E3F9-4F37-BE60-FD2DF4A049C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11D20EE-1F1F-44C4-871A-3DA9261438B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F2B6ECB-0727-4A36-81C4-68FBC2F5A8C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F987498-5C00-44BE-97E2-997309B2E6F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CFCE177-8490-451C-AFDE-7C59787D2D7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E2CDB54-167A-4721-9580-1A7523EA53B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C17FB71-C0EE-4491-8358-B851286D20C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49BF0E7-A943-4491-BC20-2F48745EDAB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10DFFBD-A662-4F0A-8019-F2DC1891B1C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053E0FE-018A-47C9-80AE-CF406BDAD91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903FEC-8F7E-4288-A0CF-6E4E39D672D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4C68C86-1589-40CC-A6AD-12CB4C8239E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827AB96-91D0-45F0-A6F3-163022144EE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889B1E7-4642-48B0-BE6E-C31ACD0D7EE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FAD073B-CF15-479B-9094-ADF90CF3662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8325891-D9B8-4145-81D4-A1641A05327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EFB6342-F272-4B43-8132-6F8E3F2BC4F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77D057F-01AC-411F-AAFF-872D6099FDA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5018562-85BF-4467-AC32-FDEA88A7AB8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D6B7FC6-B781-4221-9A29-83DE1DB5F05E}"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94D1A-9A24-459B-8783-1B6B94135EA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A1456C-4F65-40D7-A370-CEDF7B9FBAA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D3CF7A-5730-4848-A4B4-F763C3A0B5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3DB91-21CF-4014-9F68-A33FC3084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14453B-B9E9-43FD-951E-B5D19619D0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CEC3D4-FEE6-4793-8CD5-92081BB0D7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83BBB8-651D-4AF0-A69D-45C54D43C3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DC6769-DEC8-4D92-8BBF-F4F0F63D29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C3D100-FFFF-447A-AA88-479C3310AE9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18B30-25FB-4469-9AA1-FCDD65A1C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A46B7-ED80-4E77-B88B-AF3D36F08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E1A9E8F-E315-4791-BBC7-AC226B750D1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A56A3-B50A-4E94-A568-1D2B4F7F6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5230E2-9515-4ACC-AF6F-87185BC976F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A73318-74FD-4A28-85A0-F9DC5A2880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A2C99A-A791-4C04-A108-C3EEBD49D51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2CFF0D-82DE-481D-8824-38C162BB7D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96800BF-7A8F-461D-BC5B-B3839C6C449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3091E5-5192-41C2-9960-4E0D2A4C55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198054-F206-4750-832B-690EC75F44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4A24DC-7CE1-4CE4-A5AF-8F05392372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B31192-BA71-4B93-A0D6-3FA4D71AA8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A1E7522-7B89-4849-B45A-1279ED913AF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037A2-E90C-428D-B992-1F90F27BF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5E55112-75B6-48F7-89D8-7A03111C27B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75C7002-7407-4E08-8F66-EA443B822B0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5581F1B-FD12-4B8F-85ED-4658D5D5D8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001F1B-CC7A-4DF8-926A-C74BFB0A10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239D57-FF55-48E9-8E20-1A3181E7A5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03B0EC-D605-4B7B-9906-4ED801B19F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24A8D8B-F7D8-4BBA-91A4-A11C415E83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4965DF5-7093-471A-8C75-3DC05C9432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5C48E6-D551-45CD-A419-A795496C86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BFB415-7132-4367-B935-2B6343AB27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0950F-4710-47A8-94F3-0730F9544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419C559-4FA3-4FC8-BF31-AB1F61276F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96568B2-6180-43D2-95D9-1EA0AA4B3AC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EB9E80D-15E0-4F76-A7EE-7C4F7E5B0A3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7F52E10-4E53-4AE5-80E5-BE7D2C832F4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53A868B-FC66-4425-8974-95FC34ED2EC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092C216-C3EF-47D4-9E42-749D5269AE6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4340AB8-5B64-4DDC-B92A-0040B69603D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50581F5-7449-4B6D-A482-C9DF92D4E47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0DD94D8-DC8B-4956-A3D2-B570844B450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286D873-34C8-48B3-B663-0B020F78723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32DDE-0761-46F8-BF44-6F0ACC85C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F986DD1-5404-4F0F-9A44-2B2A28E5FD3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FE99F2F-DCA5-4FF4-AEE5-917BE12AA8C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1E7616B-397F-4DB9-8784-8A1383896A4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59E7211-3770-4E80-AA76-7D5B9211868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9314768-14AC-4979-B414-FE52CDBDA8B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BF36AFD-5DE9-433F-9060-9400C8D48B6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572E6DF-582F-4006-AF95-AB32B513588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277F0D5-3AFB-41CD-B29E-DA11A6ACF3C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E85E2BA-ADBB-4222-9392-9EE114261BD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99AD604-C134-4C9C-9D1C-F5F45F584F7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E720E-0AA7-471B-9B26-C40F43BC9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AEEBEAA-A12B-46F2-AD1A-227A1DD7B45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97786B2-E7DE-43C2-BE22-C3564CAA93C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B372BD8-518F-47CD-9C35-DB85F55DCC7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A09ADFB-C684-43DA-AEF8-77708D55511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094CDF6-6F7E-45E1-97B8-81C8327AC1E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5C0A7E1-C6AC-432C-86E9-0CB35B4F87F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1E6D44C-82B6-44C8-8C44-F036DCDFA07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7E66011-1110-4886-8C61-43FE5E2BDB6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F2B6C7C-A5C5-403C-9A67-5405B057DAD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36CFD0A-73C1-4CA6-882C-847176A87E59}"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6BE2-3D14-446A-B980-396C2BFD99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1E63-304F-4D31-848D-CC08E885F61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0E69-68BE-4358-A0DC-6EA969D4DC3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BA85-B0DC-419F-9655-79863A4CC97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F6EF-3CD9-471E-8485-A0FCE8B7E1A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CF9D-1914-48C2-9FA2-83EF97918B5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DF497-A6A9-40BC-B424-CB5D2C70D98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AFE4-A774-42E2-8981-0E9D4322009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4F5F-57AD-4F71-BA5E-040F0F176FF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F5D5-EEB4-4111-AAF9-58E4C4C6A47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2095-2A97-42CD-87BB-D4CB3E42E21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ADEF-2465-442E-B310-1BE68B17EC9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353D2C94-E0DA-468E-9C2A-F5A89D849BA3}"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EC070E4E-BFE6-4844-9D04-AE2DA357D2A8}"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59:48Z</dcterms:modified>
  <cp:revision>319</cp:revision>
  <dc:subject/>
  <dc:title>Slide 1</dc:title>
</cp:coreProperties>
</file>