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586A-581F-4BEF-9D83-E733B840307D}"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00EF-1817-47D8-8FB3-1D5554EF1CE2}"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CB519-67C0-410A-BF2F-3D0E361F5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94D1B-5CC0-4659-819D-1E08F8E5F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26D3C3-7F9E-4640-B9A7-D1D290C06C3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D585BDC-3804-4C3F-AD21-E5E1EF580F3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3B44A3-85AC-4529-A1A6-164784820A4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CB2F49-DCB0-4F02-9CDB-9F858B4593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3F0BE7-1591-4743-B21C-CD3E0B284AC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00CF756-5D07-4373-9590-E1443F29FC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85FBE6-CD71-4DFF-82F5-EFACD09ED4A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C96BAF7-6693-4E2E-9AFA-12818AD1B7C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34326EF-E943-4B17-A557-84D1BEDDC7E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87165EF-EC6F-4EB2-BFAF-EF25D1FA37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52FA2-BEF0-47F4-B860-25C626949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075D9FD-0697-444E-96CE-3186AADC4DE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1E5B39-4D98-4542-A1D3-138B0D7877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24D80A-6F77-4C76-B255-2032394E46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4BCA49-C921-4E80-A1EC-9E036DD6D4A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D83FD1-9523-4D5B-A127-7B46CB55B8D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3C5D55-6D25-4544-8B49-F76E6DEECF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A0266A-E19E-4462-BD5E-62BF94EADC3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3DE09D-24C6-4299-A034-33EEB25FA5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2F52FB-897C-4E4D-B05A-1EC9C6CFC1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645A81B-4E83-433D-8F76-8CBA484B745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BD42E-AE7F-4F1F-942F-9F0997E21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D9D4EB1-FE88-41FB-B554-EE1282704BB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B4599DD-8E3D-4FB7-8640-2208E64004F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484E00F-37CB-4E72-8850-D4C38F16CB5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2A0411D-8F39-4FEA-8A47-805E0E2391F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9CA694E-5BAE-43FD-8D37-5276B06A502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ECBAE9-2A65-4320-8036-A1CDD4B02E9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399D34F-A9E4-4885-8F73-3BE1F8569E3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40BB50-5661-46D7-B010-9B682E42FC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445D11-3FA7-45DB-8015-558415F99B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AA71268-8F93-46F2-BBB1-945830D3DA6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A9DC9E-7E33-4ECA-9FEF-D41D8FF15CA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577D632-1746-444A-A814-FDD7D8DCBD0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7872A5F-E3BB-4A84-9F96-283A853A804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100904A-76D9-4BC0-9E34-1A90915533B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39B9329-B5C7-4886-BE57-3B117438F1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669656E-1E33-49DB-A2D9-67EAC55AC9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45901D6-6975-4A4E-82FB-181E901BBDC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82CA4F5-29DB-4787-AD04-6F7995719E4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9ACC4D-7F04-4CAA-AD5B-37F4A2C5747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EAA0B3-4C7B-402C-A853-5053E8F6439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0730CB0-2935-4244-B0AA-094AAAB45B5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C98F49-0B9E-4B05-B11D-F233325CD11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36935B-286C-4E2F-9F48-EB281C0F8F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7B2931C-7BE3-4285-9C2B-5EA4DA9476F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9B35517-C0D9-41B9-86B9-6E33C7104A5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D259151-E875-4883-8AAD-9602B6EE1E5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7B91DD2-B1CE-4940-B61D-D0C80E4871F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507B746-4B3C-4FAE-A719-526CC958A93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2E481D0-D042-44A0-9295-9F52B87E0A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CC684A9-FAAF-46CA-975F-D2697A26599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B9DBF8B-6DFD-4606-9218-78C2577FE64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78D5A7B-82A9-40FC-A6FA-32075E120E6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61AD0-7905-4F21-8CC2-01DC352A401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992B981-3DFF-4632-9F9B-D4432F888EB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DF69C2E-C303-4F82-8353-7B755F4F72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21375E9-2B5C-4A10-A108-B4D138B605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EB233C7-712B-4277-A5BE-DE452A3AEB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6564004-E6AA-49F9-9404-C6E2F7329C3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EC47DD7-E2BD-4FEB-B1F0-6B1CCC9E1EE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1A162A5-FBF7-444B-9A10-932D0183699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8A66D5A-FA56-4282-A36C-5C3B6C26190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5FDB64C-8802-4D4B-A100-923EF2D6A25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5207C36-E118-4593-BA24-CF6ED52C656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453DB1-0D4A-4899-A925-480776D646B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FE5F70F-4E2E-41FC-BFC8-78FA742A462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4BE5226-DDCF-4145-9685-30E8C39365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B1D760F-4BD4-49A1-9AC1-888B654265C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4117732-FC58-41FA-84D1-1AB419336A0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E92558B-9027-4537-9820-FCC587DA7DF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0BF7430-2EAA-4445-8630-D61602DC236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D8E46D7-762E-4353-8562-CF57847419E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C1720D5-26DF-44E0-9396-5980706F5AA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7E5344D-7BE2-449E-A332-7740228A8A6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3304E-9B89-4096-A210-25E68F4ED5C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4989C-8396-4000-9A93-9C9719643F7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33F71-603D-4515-89CF-C719D65819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B882B-DA6E-46C5-AA57-32FD99539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F905D5-6227-496C-A3FF-54DEABC344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0563D-5937-4BE7-A2F1-71CC498E8D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7C6A68-3B2F-44EA-A71D-34015FCD57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60A1CD-827D-4575-BB27-85C45893A7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0C315C-4047-42E5-9865-62281D6032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0B72C-F67B-451E-BA5B-CE1D976E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C001E-EC0E-4C17-9BF5-F0D40F82A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327F6F-0DC4-4905-90C5-BDB99444A56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75E48-48AB-4217-8735-4C1C6C11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535184F-8E51-4B25-8986-2D1C943F39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759434-26C7-4D6C-A759-C11947ACC9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AB899F-8BE2-4A0D-868C-ACF49BCE56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9ADD6A-9025-4F3C-802E-E5636AE687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FEE31A-73E6-4F4C-B5C7-EAC9A7E14C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5F71F0-B97B-4F4B-A906-2C40DEE1A6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DDD78A-0D65-48CA-9922-ED0DD521C4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D00CBE-4D37-4727-A884-2EFB540073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14D4B2-F92D-4018-BB51-1952D365B5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FF19779-C914-4C15-A207-7A714A7829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3C30F-7CCB-421E-A37C-0D3ED36E1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2E68BE-0357-45F9-968D-AEBF5860F4C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AEFE4C-FACF-4398-A263-88AF4ECCFE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6D1DA6-19E0-45BB-88D8-B4606A507D1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DFF142-69DF-4901-9C95-7604640BF7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1B1A23-6357-44F3-A3C9-D0BCA9EC70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C45811-3D29-4F69-B01B-4AD46B844A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0DBED7-ED86-416C-8C35-41E92CDBD0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C726A8-3A89-4FD5-B0EA-257CDA5681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D3D234-C6EB-49FE-B0E6-780A95E85F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6DCAF0-E36D-4B43-B393-351BCB35FF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7186E-865B-4AC3-AFD0-790CECD2C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D54999-E4E6-4709-86CD-3FBCA0B90C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470B598-EBEE-4057-A073-5B861682D3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A601C03-E512-4110-A4A5-7C764FD7F85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FE105B9-A485-48B5-A4C9-3B3EF73AA16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9FA5CF-1C14-44DC-ADB4-34E7B8BB35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292D51-DA4C-4E47-818A-20D0E97E6D0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6554EE0-1D89-4120-B454-23DBFD714B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45003C-33E2-4FBE-97AE-F1DFB342C0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925782-3DDC-40AF-804F-4666F9DBBD4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6D57A7-22E6-4348-965F-AE4FC24DA5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E5E24-FFFC-4794-94C5-93492D8A3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3641D4-6A47-48A6-A77E-0715798B6A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249FD5-F75D-4627-B248-86DE64AC47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49C66B7-33B9-43E4-BC0A-C46AF57807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8C75143-2B0F-4896-AC66-AD39112B560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0129C9-8360-4892-80EC-67EE6A4F15B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0D8CD9D-72D7-490C-90B1-815DE56A9D7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1B2750-621E-475D-9DB6-2800F7692D1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C907232-2BD5-4DA3-8960-42266281E3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E310FD6-F412-4FA9-B59A-77779E97018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A0CA4FC-6CA5-4A51-9A61-3CE74FAECE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48E7-D66D-4BF6-B640-B49601AA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46141E-ECA6-4E04-B43E-ED814F1BF4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6C6756-DC55-4E98-994F-71F1666612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E51FC4-5200-4E40-A404-4F3F5D3428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281C39-1EAE-41FC-8057-5CFE404D051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9B1BA47-6475-42B1-8211-6437438D35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6ADEFFF-895F-437A-B7CF-08F03E1469E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D41FF56-D386-49AC-BEAB-EDDA5E440B4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5041CD5-2460-4479-9889-8CC99D4A38F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A98FE4-D1A2-4307-9E84-9336316788C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38E906B-B078-49DA-97A7-1A8F26B7F95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5511-8DD2-40E4-922E-1D85A563AC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82AD-2719-4165-962C-253EBE2D78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5107-2126-48C9-A87A-BFC4521A12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C0B66-E91C-4C94-839C-AB0295BFFE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E16F-4378-4577-B58C-DB41DB7452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F5E8-86FF-4774-82F9-5791BFF6A9E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1708-0A48-4E69-B3D7-20A550DA11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D41A-2853-4FDC-BEF6-FDF86536E20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8074-A4A0-4AA0-BD72-CD01F71619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EB99-A390-4172-8F89-A3EEC0EA377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3B4C-854D-416D-A310-834BC11374F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8C4B-07C4-4872-9AC5-E068D55B8BE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53282BC-B14F-4DF4-ACCD-96BE05407A3B}"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3ADD54A0-9CB7-4A5C-AA5E-C7B58AAB621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9:48Z</dcterms:modified>
  <cp:revision>319</cp:revision>
  <dc:subject/>
  <dc:title>Slide 1</dc:title>
</cp:coreProperties>
</file>