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1907-D80C-49F7-9155-16E165EFE7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0476-3E7F-4658-8A17-EB7F55A574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EEE-CD1B-4DD5-88E2-BFB5915D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5A6-0764-4ED4-AAE5-500D3A10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D2A70C-C831-4F3B-876A-11C29EC2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B307A1-DC28-4C2F-8B29-32F7E752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DC4D21-8813-4082-AC04-93740AB5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48083E-531F-4957-8C37-3E4DAC1F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9A7C81-4124-4F88-A0C2-47060C9D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4ADBE6-2D59-4D3B-989C-1FCE081A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DADDC-8B9E-4047-A49D-7FA5D3E5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CBA974-895A-4437-9A7D-2D3BDD0E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A3F48-B796-4799-AC91-A3EECA70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A33406-D78D-49E3-AE7A-51E66C89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D89-90DC-49F0-9C94-77FEE6AB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A54C84-F381-43F0-80E5-FC4F8DC0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337EB1-B394-42B7-8EBC-02BA49BE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C14DCA-15B8-4952-9560-8C79D9AF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CEFDB7-EAB5-441D-8D34-CDA151EB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0E867E-9747-4C1E-BC61-709A16FD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C9EA1E-7CAE-482F-B352-3E37BE5F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D6323B-FBE4-4A76-9FC8-B791CECA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F97A99-6F3A-418F-B436-C6984C86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290E04-50EE-4EB4-840A-8A9E784F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7D2228-591E-49E0-B873-C249A09C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6FE-5106-4688-85AA-0D48BD89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F6D7EB-D17D-43FD-9B81-87961E21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5B93E8-82E1-43CA-9929-1E8D0141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DC9BDD-66EE-4F93-87F9-C43641BF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4590E8-DDD4-48BA-B8E8-2A4E5609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880D7C-2B10-4B35-AAA9-E63A90E0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99E7EF-55AA-4DA2-A31E-34BA7772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D6219D-651A-40EE-98FF-D187A583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A4DB25-13AB-4CD1-BA31-C96D497F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62E730-084B-4BA9-A8F3-F40DE470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ADD4A9-1D88-47F9-86B0-E6DD19DD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961E9-E046-4A4E-B359-828805308E8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5B4E8B-9E32-4F86-A460-A89B1AEC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DAD0BD-FE35-4CA1-BD85-7DE3C4A4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825C04-8C72-4309-837D-22EA0791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3757B8-DB74-4966-9F5C-514240AD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BBB082-9D61-4C2B-A528-B52D4AAC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3D08CE-B58E-42F9-AC41-99FB8547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580A8B-87E2-4FAD-B56D-E1C96452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A01D2A-8D56-43E4-B522-1B4C9C2F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7AB498-CA59-4651-82B6-E4EA3966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1E1E47-6B3A-4EDD-955F-F9A250F4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7E0B5-31AF-45EC-ADC7-6B630B7035D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89C2A1-671A-41FF-9CDC-6E5C069B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B886C4-20D2-4D5A-B727-8E24D5E3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BF030F-B106-4E09-941F-461410FF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346A42-79F5-4CFE-A3BF-B43592B0E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6EBF16-C7E0-4B50-82F4-20A3A6E0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A0A9C5-E498-463E-8078-AFF96B78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9FC41E-4542-4FDC-A7F2-FC5A942A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EE077C-7DB0-4457-AFD8-682050A3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8C57B5-18C3-4C92-B45B-BD39F1AE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BEA4FA-421F-422D-831F-2D0263C3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6C827-4CF2-49B3-A1A5-C98467D8A64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0C5769-6197-4A5A-AE0D-040FEF6E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4F5838-DD80-4479-9840-DE3BADCF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604236-B81A-4299-8AD5-FAA3974A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38FEFE-C41B-4555-9699-DAF19224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FF419B-322E-4E52-B084-6C74AB0C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61C8C4-F093-4B79-8158-289DAE46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C87A24-FB39-49DC-AC26-AE02830D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EBE2E6-A9F2-4D67-9950-693A1651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072C7B-150D-44E2-97FE-096F1410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BC28C1-12BF-44F2-B7EB-1A0F9BC0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FF97C-CF4D-4C9E-93FB-E4118A6A844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3C79CD-D9E8-4B86-8E31-4010C8D2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A595D6-6CA1-40AC-AD58-CA60F36F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4FB039-7B68-4A50-B438-1E4C24F4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2609B9-C79D-4275-971F-792C2F9D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0D8FFF-923E-4332-BD0F-23A967BC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736295-558F-4A27-9230-8ECA7B13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ACA0DF-AD05-489F-A975-0716DC27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67B64D-1D37-4C3A-8FB3-AF6369D3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65B30F-1A03-49C2-BB26-0BC48C73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815B9-BE1D-456E-BC61-3F9933E849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16059-2537-49F9-B07C-97ABB31E50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28A39-7B72-4F0B-81B5-A6C7998876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AF51-98C1-49CF-AD1C-A19F59C2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3DE6C-A7CC-477C-876A-1981E68653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4BAF6-470B-4484-90D6-089B3CB905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D6D18-2998-4FAE-A0D4-8FC7A5ECFD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23449-D07F-407D-9C09-6DF71E7B4A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37DAC-2AC9-4183-932B-FE98AA7E41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92D-1387-41B8-958A-9270A0C9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A54-38ED-483D-8D8E-422C6A0D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BFD59C-89BF-4E0E-AEAA-37A06898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667-F300-4D08-99CC-8C5AEC08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501D8-FCA6-48A2-97C3-5C7FEB4A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49C50-3538-4331-AEBE-F5D65D2A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46D9B4-DC6B-43E7-9964-75A6AD59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65DD9-FD5B-4D54-B0F0-1B328496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A0D85-5E8B-4687-A547-F39FE093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05C84-5557-4457-92A5-F9744880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276B6-D66E-49B5-87CF-B9A7AE7A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3368C-5110-4F61-AEC5-1C46D68C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54CCDA-5280-4EF0-95D6-6345CDE8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5826B-7493-44D8-9FF0-1BA5CFCB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191-91C3-4475-9ABB-FA8E9BF7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CE247-79C9-45D5-9F80-4DE9C413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2194F-163D-4D8D-A54A-D55EE26E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E18F9-2D15-4F55-81B8-FF10A74A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8DC09A-0B22-4D48-ABF7-8F40F140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3FBB63-7879-4DA1-8469-28B5737E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043A4-29F2-490E-88E8-B3465650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95C31-BC3B-414E-AB3B-933B0175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5371E-6761-4FD6-89DF-8BD34372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A36B6-725F-42FC-B702-51C10C36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C4943E-2BA0-44F6-A37F-B03E1BBE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38F-1414-4970-84FF-9D62B8D5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90691E-D749-4747-92E7-072AC606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4E5524-ED36-4786-922E-D0974D9A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32B9C1-9E60-4216-95D3-33441EF0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B1764-E058-4AA2-BF0E-EB6D2A31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9511D-CDC1-40DB-8FCC-93B5C9B7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B9815-9549-4D63-B42B-B0589310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47388-CF58-4DF3-977E-11AE2BBA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887E8-A6EA-4F85-9477-3989D3DD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395B78-AEEB-4C15-B4DA-9FBA5147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AE21F-5E31-4141-9DE7-023B3465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41D-E781-4884-9158-DA25A179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D9E60-DF34-4E16-B257-1AEDEA08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D9B2E-2F95-439E-B1D7-DE87A03F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12E97-0770-4D8E-9F98-9C23C140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F7ADB-A4BC-4464-A251-91E447E1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1F7A0-12CB-4349-87A9-13BD147AC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DA7E4-B9AA-40B6-A2C1-1E2050DC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1DF2E-9EA6-4170-8DA8-D01466E4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363419-FA22-4253-B572-1DB2128E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CF0CE9-1835-4814-BB74-10A31632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41B785-D30C-4183-BFF6-BA65F6C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5DE-DBC8-447E-A239-0A72C8ED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DEE1FE-37F4-4222-B674-22D83B88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7E9E0-4571-4340-9135-C307AEF9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33EC3-2DF5-412D-B392-32F3725D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1571C7-4AA4-4204-BD9D-3148483E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7FE8F7-511E-4850-9B3B-5634F3DC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89F558-F2BA-4967-B437-E5117DED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2861CA-5E00-49BA-BF6A-39E6AE5D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AD400E-16E3-4944-98AB-5144E620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EE99EB-7E6F-4C33-94B0-1B98FD45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CB1346-AEDA-407E-880B-C2025FC9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6A37-D60C-45AA-A7D7-81ADA5DA6F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49B7-F392-4CDC-9002-FBC6B28AEA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8750-B5A2-4E88-ABBF-AE4E49D022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C668-A2CE-437F-AC5F-A3089621CD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607F-2294-4880-9B48-9A5326E671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A781-E6CE-42E2-9C7A-7E55385DD9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7E40-2689-4BE2-A8BA-A5ED3936A2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6C18-E66A-4EAA-B55C-0D7FA8C339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2B0F-5345-466F-A9B6-E6BBB1BF12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E269-0411-49CB-B7D7-AAAF413993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3DBB-A94E-4798-AD4D-420140E155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24E9-0CAD-44F4-A5FB-19147FE944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58:24Z</dcterms:modified>
  <cp:revision>318</cp:revision>
  <dc:subject/>
  <dc:title>Slide 1</dc:title>
</cp:coreProperties>
</file>