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803B-32EE-41A5-BDAA-849B69BD7F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CB4F-993D-4AEE-80FC-8159931DB7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20D-9100-4C9C-B629-FD66B078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FB6-5722-41E1-81C6-05442849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762F06-3CD4-4164-8921-1B3AF97E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5BE7D-B427-452C-820D-03787FA9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E85FB5-7923-49DF-80E3-B26226C6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96418-5FB0-453B-9037-1EF8F227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E5177-BDAD-4E48-A19A-0A6E8F19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8625AA-77FC-4F09-8B5F-187F5D88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E9AD5E-95C8-4042-88E8-2240BD1E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719FC2-11DC-4943-978F-60F261AE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43C76-1A60-4905-9473-4308E641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D4EF93-EC9D-485D-A006-1C466A4E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093-2454-4AB5-BC4E-BC60E5C4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5AEA8-E4BC-45BC-A047-8E0429C9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8079DC-702D-47C3-B4E6-7D87EE80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D6E41C-EC27-4BDD-A40B-44CE3299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701C74-FBB8-440F-AAA9-62AE7543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3387F5-5C31-4E81-BF5B-897274A7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DF8846-BD9F-4D26-B672-6F6646B8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E95B86-6E74-47EB-B249-51C5E5C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96EE42-232E-4462-B4FC-4294618E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6A2A9-410D-4B5A-B04E-DF00F568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370788-7371-4853-8930-8ABD79B8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99F-08AB-40CE-A5D6-E36E325B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261BA8-44E8-400F-931A-E5F79510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CD7167-FB9F-4E4B-AB3F-650C07EB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71C625-63C7-4682-87D7-1909E70F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E5A21C-22B7-496B-9CBF-87DE5103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BCB45E-3BB9-4E62-8DED-826A225A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7B6A60-96D5-4B65-93C7-CE861733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77AE9C-F57C-4396-BFF1-C96F85F3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E66E39-F8D7-42A7-8706-E71942FF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DA1390-C129-4FE1-950B-AC562383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E504D9-8982-491E-82C1-0C773EDF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470EB-E0D5-4A34-AD8F-5BFB3AF981F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A56CF4-90ED-4204-9128-FCB66478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838387-492D-42BC-B8DF-E1A783EA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747098-7DE8-4443-A5BA-64724E71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3B794E-F654-4399-ABF5-72193821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4FDB9D-06D6-4BCF-806A-746356E7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5DC56C-4CB9-42DC-A3F0-171B7ADD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99D684-C06A-49AE-82EC-43CED171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7FDC20-22EF-4D63-8971-5372C025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EC8149-85A5-4B8A-91B6-8235A8EC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EA2B91-1515-493E-BDFF-737AC78C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779A7-15DB-4788-A883-1AD062BC8B1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8B3E5A-BD51-48A9-827A-77037A44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271E9F-0756-4AC7-B4FC-59B3B0FF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C4A395-4477-4FFA-851E-ED8C236F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3A260A-A95D-40E3-9748-4A441ABC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67D955-A685-4DA1-8539-9D134749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7E83EB-F8A3-4107-BE53-D3CBCFF7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814AB2-6002-4AED-B0C6-16677387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211928-077D-4357-9015-8F240A93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24DAF3-69DA-468D-88CE-0CAC3DD8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F1BF6E-E872-4923-B06E-4C57FA41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5B4AA-DA41-42DC-81B8-59569F2476A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367272-3533-407F-B5EA-A2366039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D37F5E-C6EC-47F2-9863-D1E7ECE3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7643EB-C47F-46CD-8333-9E6A88F2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0616AD-E3F0-4E57-9A13-86A412C0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83827A-AE18-4859-AC5E-4A7D13E3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06CFAE-E123-4388-9D40-7F9BE65F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2A2360-0014-4204-B760-A179FACD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065940-62A9-4A6B-B7D4-FAE278EA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F45B6F-91DF-4828-B62F-2F48C880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4802E7-6715-4141-A044-821A9630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D925D-6944-4A90-9412-5874C39849C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9195E7-F243-486C-BF2D-3713267A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994C2D-4AA1-4E4F-8BBE-0B1A1FBC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83968B-8CBB-4069-B0E1-D101F626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4BA9D3-0108-40FB-B344-9BC4FD53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8BDF45-3C3C-4DEC-9702-47963D88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4FD762-DEC4-42B9-AE54-4C70939E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EFCD60-D711-4367-AA92-7B34BBCC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F618F2-A692-4E85-9A05-46AEC110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555D72-A10C-49A5-9E77-688850F3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3B075-2CC8-4D2E-A0B5-DF38FB83EF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B0B71-A75D-47B5-9FB2-4A4B67C955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72B0E-9DE6-42A1-A919-9298D883D1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EA6-12CB-4CA3-BE72-7ED3FBA1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694C3-5ED5-47FC-8184-BA2ECB5829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D38AB-5D2A-41C8-B63B-BF8B91DE25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246A3-2A73-4EE8-AD3B-C2C767B785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F2281-7448-49A6-961A-879FF6DE20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0D3E9-7940-41D0-B223-E61A2A2906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6C0-48FA-4D22-8FAD-F305E231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23F-EEF9-4952-BC88-7D0F712D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59D86-6CC7-455C-87C1-05E4316A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FCE-B727-4F66-941F-65A5DD06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355E0-065D-411F-A617-140B9B5C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61197-F854-4F7B-8B0B-2A7C4A0C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C1DCD-A648-4B02-B80B-45EA595C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62974-6A84-4912-A9C8-B502C23C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49201-52CE-4F0F-A72C-062937BC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2A702-D986-45CE-A165-6A4ECCD7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08E3D-CB78-4EE4-89CF-7A6CFF2A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98F73-D807-43BD-8267-F7DBA616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C2248-E692-44E5-8719-19E549F2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116F8-08CE-45E4-BCBD-8A67057E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733-4A99-432C-AD28-02DDFDF1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1E683-86C9-4591-8D89-B72EFF1A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165D5-EB3B-4A89-B537-023017F4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E00D2-1091-4D86-898C-05FE5246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DFD54-8097-4C35-AC08-F887C08A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EDFF88-3C75-4346-BD14-6661656B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99E2A-728B-4BF9-8056-9ED88C78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3D6A0-1B75-41ED-AFB7-D704E7E7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41552C-11D5-4269-8BC1-44DBAD2A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705EF-0A1F-4D20-BCD8-B379093A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B758CB-2706-4F11-A8A5-81F7F08C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320-5791-40FA-BE69-E7C5C306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822B37-0222-44F9-B1D7-592D86AE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4D9C5-EDDC-4DAE-AB21-07C0B054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112A3-8B2D-47FD-A210-5B79989E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4FFC6-AE66-46B2-9250-DE108C7F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F36FF0-2763-4E20-ABE6-50697D9F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3E827-53B0-44D2-B258-8F512EFB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7DDD4-5C11-4431-8AFD-FA0C3EFC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74ED6B-1C7E-4A6D-B739-98F10BAE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41EA1-F321-4669-BBE7-6819B655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B5CE0-8E7C-4EA2-921C-A2B1F31F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DB9-23C6-448F-9D84-C764DDAC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AF169-0408-45E5-BE30-BB76F131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CE19C-2D19-47D9-BE6F-3E8ED4CD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06E2C-28DC-472A-9DF7-492A5E51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89DD9-D0A6-4E53-BECC-F6C298C0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A0CFB-F15B-48FE-BB13-7DFDEAD9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0C832-CED9-4AE1-A2F7-050620CC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659EC-34F2-417A-B529-5EDD9742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82D03-DA84-4102-A4BF-8451A105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B8E826-E0F0-45A3-94B5-BE060ECC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74D41C-74A6-4753-8DF5-1816A9F1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1CB-2318-4F4F-A7FD-40A6213F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554C8-064E-480B-B978-ECE3A345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3A12B-ECF6-442B-9A05-2DBBB8F8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B31B4-35B9-4E89-8961-85F104F4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913A7-39FF-4ABD-9B60-AE8B9D9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A9815-6115-4283-B6B7-FC66F24A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003C3-F7D5-4734-BD33-8FF1472F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F2E8E2-497D-46DF-8D17-F07D6E74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36084-5978-4F70-B98F-93090DF1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6C116-4A01-4DED-9641-68C3B2A8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2FB9CE-76A0-47F7-BB97-AFBDB264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F36A-69B2-4AE3-8696-34F11D88C9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018F-F5AF-47D5-82CA-2CD925C294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E7C1-36A2-4F76-83B2-936C59F269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0B6B-6D76-4C76-B5E3-898B1C9563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78CA-5142-4A42-AF9A-718A7270D7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CBA7-484C-49BC-924E-B87D07B98E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424D-A742-4896-A8CA-6804573515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9811-FF53-49B8-930D-755BECDD3E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9460-65A6-404B-8090-6D37F65B6E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E084-19C7-4216-9FB7-4D8DDB9DA7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019F-8702-49CA-AA70-07CB60B0EC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9FE9-DC21-4298-9BE4-6250D6FF2C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58:24Z</dcterms:modified>
  <cp:revision>318</cp:revision>
  <dc:subject/>
  <dc:title>Slide 1</dc:title>
</cp:coreProperties>
</file>