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4F795-46B3-430D-8859-C4349E74EA2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94FE0-01F9-4101-9148-01D4A909B9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I discusses the roles, skills and practices of a company’s human resource management (HRM)  function, implications of the economy, the makeup of the labor force, and ethics for company sustainability. It discusses how HRM affects a company’s balanced scorecard, what companies should do to compete in the global marketplace, how technology such as social networking is influencing HRM and what HRM practices support high-performance work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C3F0-6DE1-4744-B896-76534D1BD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ED92-378A-408D-8DFD-7313A243B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92E5F4-0FC6-4E54-9EB5-CE729CD56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AAC880-2FA7-401C-A80C-1F4233D15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5055D6-1502-4DDB-ABE6-8FC0A95B0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ADE885-B95C-444E-B50F-ACB84E0D1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F15B5E-BE23-40A9-B4A2-B5DAF204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A035BB-0773-424D-922F-6D3D3FC5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CAE65C-16EB-4953-AF83-199975A5F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4378C6-3F07-4016-84EF-6182170DE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9BFF27-2FE3-4A76-8884-ADA21E7F6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66ECF3-91BC-4B84-A9D6-44E74C41C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FF8A-9E51-497D-B34D-E541147B0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F8B994-DAF1-4141-A627-3F3A931CE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6B62A6-BCDE-4455-AFAB-FFF66CB8A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69B52A-280F-40C2-9176-0A8E8E1DB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68770D-7C3F-4167-846D-345CF58B6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AC0994-8A3F-4703-B391-188E69077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EE0365-7CF1-4572-A163-26229B95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E91AB7-61EC-4C8F-9C27-BB90CE4E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EF4E2A-6BD1-4B84-83E0-AB12EB95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16CC3F-09DF-4F03-975D-461B87C76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23E8F1-0D80-4E3B-AE04-A7B555231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A2CD-280C-436A-AC56-718DABC5E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081470-FA36-4E47-B383-B966222BD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22CF5B-739C-4FD8-9CCF-04B2489B2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1C2101-05BB-4A2E-AB03-51A49B003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77EB56-2AFE-4F23-8C07-3B26186AE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60D269-E5D2-4CDF-A0E6-714750AE8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5FA2F2-31F6-4E08-A6B9-5077BDE18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24777A-6D27-4D29-B87E-FE33BA366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C7E881-4334-4F05-A41C-99E41135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81577F-B7A1-4B5D-A40A-3C421ABD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899756-D551-40F2-81DE-348994ED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54F2C9-CCD6-4EAD-892C-301519E148E7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54A92E-9B17-4C9F-9DCD-E40F2915B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891F93-4D30-4616-AE5B-D0873484C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FD453B-DB6B-4980-81BF-AC7C44424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DA15AD0-AD65-45E3-8759-60AB7B42E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06F3470-6AAC-42C5-8D6D-2EF21221F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08B8071-F7FE-40A8-8624-8DEAFDDD3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D8716D9-8669-496E-8033-1321CC377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D17B6A7-8DB8-4583-9689-70EA72997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443FE56-7F8A-41F2-A79F-724068652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C1961E9-9506-4AA6-B5C3-3899EDD1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929237-0D55-41D7-BC7F-0BCAAC8FF76A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A326901-4BC3-447F-B948-32F831CF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4261141-D8E8-411B-96D3-00100C71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698C7B3-7B9E-47A7-9496-ABA63158D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C561FCB-2D60-4B79-B4F9-38813314B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F151C34-2169-4E8E-98CB-979E48DFF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974048E-039A-47D7-AA6A-C651A2D1F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CA9CB00-834A-482C-9FBC-7C30403E5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45D14C8-E5F3-4537-BB99-E09C3E0FD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C84F00C-DFE5-4733-A648-EF1D85D2A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6C0A910-7D71-4C19-A312-CCCC17AF0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DB0109-3BA1-4A08-A8EB-E024A228D229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348508C-B7A0-4A91-9D66-A2E10415E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2C376B7-352C-4D44-BF90-79DDF821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0A70DE5-825F-4414-913B-4A820D8A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D06AB44-8A4B-4B26-86E4-68C87F97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50203C9-3B67-413E-AF9F-4A22232E6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B30D597-9905-4CC2-AF10-287E0BB1F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0E9EF48-1E7B-4C9F-A74E-9B612AF31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06C1B17-EA40-4598-A4DB-C9DACAA39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75ACFE3-F804-4640-9358-2296A465C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37744D9-C96A-41F4-917D-A16FF8C48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2789AD-74DC-40C4-95BA-619811AED3F7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6F8CB20-205B-40FF-88C4-277269257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FD0F943-017E-4EE5-A50D-A0714E21B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385DBB0-BA52-4177-BB21-B6E3003CD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41A0947-8A6B-4C07-AEEB-A84D02AE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20DD13A-8629-4DD7-B93F-D1DF0E44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5A01B52-D015-479B-A5BE-6DBEC8EB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951B0F6-8508-4852-A2CD-11767C52E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5E659DE-7AC6-497C-AB37-557EEE4BD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3334189-A0DE-4978-A8AD-F5914421E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5EF52A-C78D-46E8-8953-9B7F5593B50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A7C642-B7EA-407A-B37C-59D43AC2366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694328-6B59-49EE-9DCD-5E38D7E31B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D572-35C7-4103-B3C9-244A7AF28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0A8625-4CB0-45F8-B265-04081347D74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72040B-5273-4D46-A801-8C7FB308183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4142D6-BA9A-4C81-9F9D-866F49A437F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7C489D-8B18-4578-B570-BC57B5929AB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B44E28-2A6B-45A2-8585-C263F109A96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CEA4-0BAA-4160-8F5C-6CD6060DC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8141-DDB5-436B-8112-9E48E290D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2B7CC5-790B-40C4-8D70-C548D2E84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0ADA-B03D-47BD-A7FF-2F3038A9F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9AB259-F1DF-426B-BB3A-7A16BACFC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DB2A7A-619C-41E2-80C6-5247FAC59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F09157-8A7B-469C-AFF0-D67A5F432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19BCAC-2574-418C-82EF-6B7709EB2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35BC94-6306-4FB7-8F55-14CF0E81A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8566B3-89ED-4394-9F55-9CBB4589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3202B4-607A-49A6-9BD5-6FDBD14B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7FE590-7EBE-49A5-A329-3C6FDB42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A21AB1-509E-40B2-B085-3D5F95B19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01CEF4-10FB-46C0-931C-C3E9997A1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D182-32BF-4B36-ACE9-77848B986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AC5272-EB62-4FB8-9E07-D42F9D2A1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870F69-DF75-425A-A2BE-C5E21EAA6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38288A-3B52-4170-A3BA-EB8704870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40A8E0-4556-4F8A-B0EA-2499D0DB4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1E6C41-2EE3-4967-800A-C3AAA8642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FFEEC0-5F7F-4EDB-896E-C7A514986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EFC924-7FF7-4964-990E-A454C7766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6DFCFF-E0CF-4FCA-AB89-25E7986B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D7E9AB-B0A0-4B27-B8ED-35E4C691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09E8EC-41FC-4884-AFC6-BDA30C13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B2FC-A0A8-4679-B365-154BAF1F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C74DD0-3105-43D4-897D-D51A3D00C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57D7CC-2884-405E-A11E-A79B5C8F0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E2E3C5-9947-464F-BCAB-3B2C648C6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EDC7C3-81E7-40EB-8CE1-008BE6BDA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15121D-AF31-492F-A998-B26A817C9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79CEF9-74C6-40AE-ADA1-A19A0A0EC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8D22E5-453B-4371-AA81-8B21295A9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E49D42-7FE4-419D-8EBD-6F9F9BE29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1BA72C-100E-4BD0-9322-37B387877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ED48A7-AC36-44AB-907A-DEFF29D6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B465-2B0B-45B3-BF75-05435C57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F46A98-F5EE-4F9F-B718-E8B6445A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73D3BB-E50C-44D2-A842-8CFCBE43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1F3062-63D1-4E31-BF1E-015F4F89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1C65DC-B0E1-42B2-9D04-A9C9DCD5B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8EB9EE-A45D-4430-9750-57953B185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413DE8-12E1-493C-A4C9-03C7DD995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01D803-57D7-4A7F-9109-77695A7A8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63D0D2-E720-478D-A289-6E209594E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1EDC59-8EB7-4042-AC70-81F659F7B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C5ED27-571E-44D4-AFEB-9AEBA30CF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D15F-D1AA-4D7B-B685-D719CCA6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987F5B-2F94-4E74-9CA6-E523135B7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23FD00-A0C5-4EB8-90FD-122CC855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21AFD9-BB8F-420C-A02B-59D5636C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8A136E-C5D4-4309-ADDB-15487C02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22B5C3-EE7C-4C72-A42F-66C6E70CF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A5D666-F920-4F78-8BE1-0744BB9E1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A1054C-6ED2-4C98-86C7-C980856D0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9F1697-8215-428D-A256-6C28F1924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8CB7D5-2505-4A40-B57D-FB48DB0D4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97A8FD-2F8E-45D4-8975-8090DFD32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E4A53-F13B-44B3-A1D7-648AD81EEE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2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92C66-78A1-4B13-96E0-666226876C5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5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B8A94-47FC-4292-8282-A55076984CE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8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A7DA3-C840-4B4F-BDF2-674906C8ABD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1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4D16F-6D30-4360-A3DA-AFD842D52A6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66623-9689-47E7-B1E3-53AD422BAAE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296B0-0576-476A-8981-013B192CCFC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47" name="Oval 12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50" name="Oval 16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53" name="Oval 19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0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5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95" name="Oval 16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7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98" name="Oval 19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0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101" name="Oval 22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3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7772400" y="6248520"/>
            <a:ext cx="457200" cy="457200"/>
            <a:chOff x="7772400" y="6248520"/>
            <a:chExt cx="457200" cy="457200"/>
          </a:xfrm>
        </p:grpSpPr>
        <p:sp>
          <p:nvSpPr>
            <p:cNvPr id="104" name="Oval 25"/>
            <p:cNvSpPr/>
            <p:nvPr/>
          </p:nvSpPr>
          <p:spPr>
            <a:xfrm>
              <a:off x="7772400" y="6248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6"/>
            <p:cNvSpPr/>
            <p:nvPr/>
          </p:nvSpPr>
          <p:spPr>
            <a:xfrm>
              <a:off x="7837560" y="63136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8305920" y="5638680"/>
            <a:ext cx="838080" cy="838440"/>
            <a:chOff x="8305920" y="5638680"/>
            <a:chExt cx="838080" cy="838440"/>
          </a:xfrm>
        </p:grpSpPr>
        <p:sp>
          <p:nvSpPr>
            <p:cNvPr id="107" name="Oval 28"/>
            <p:cNvSpPr/>
            <p:nvPr/>
          </p:nvSpPr>
          <p:spPr>
            <a:xfrm>
              <a:off x="8305920" y="5638680"/>
              <a:ext cx="83808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8425440" y="5757840"/>
              <a:ext cx="60120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7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4A3BC-03C0-4052-A0CF-5D66E7AF884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0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FBC49-3602-4D65-B3F1-9C4AB65F048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8C4BC-1F17-4053-A5D5-C1DCAF75BB0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6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5D92A-C46A-4406-8E46-FDE91686808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9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394B4-E88A-45E9-9C7A-39EA71622C8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9000" y="762120"/>
            <a:ext cx="8042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  <a:ea typeface="Geneva"/>
              </a:rPr>
              <a:t>Chapter 10 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Corporate Governanc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External Governance Mechanism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95959"/>
                </a:solidFill>
                <a:latin typeface="News Gothic MT"/>
              </a:rPr>
              <a:t>The market for corporate control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95959"/>
                </a:solidFill>
                <a:latin typeface="News Gothic MT"/>
              </a:rPr>
              <a:t>Managers often adopt defensive mechanism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28600" y="108000"/>
            <a:ext cx="861048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eparation of Ownership and Control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549000" y="1371600"/>
            <a:ext cx="8042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n agency relationship exists when one party (the </a:t>
            </a: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principal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) delegates decision-making authority to another person (the </a:t>
            </a: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agent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)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What are agency problems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Times New Roman"/>
              </a:rPr>
              <a:t>Agency problems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ccur when the actions of the agent are not aligned with the wishes of the principal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Times New Roman"/>
              </a:rPr>
              <a:t>We assume that managers will act to serve their self-interests (managerial opportunism), rather than the interests of stockholders. 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  <a:ea typeface="Times New Roman"/>
              </a:rPr>
              <a:t>What are agency costs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4560" y="15998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gency costs are the costs of actions taken to solve agency problems (governance mechanisms) plus the cost of any unsolved agency problems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Examples of Agency Problem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549000" y="1142640"/>
            <a:ext cx="8042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Diversification can create two benefits for managers that stockholders do not shar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creased salary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Reduction of employment risk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95959"/>
                </a:solidFill>
                <a:latin typeface="News Gothic MT"/>
              </a:rPr>
              <a:t>Free cash flow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ay lead to over-diversification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he level of diversification that stockholders prefer is less than that preferred by managers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568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News Gothic MT"/>
              </a:rPr>
              <a:t>Governance Mechanisms: Actions Taken to Align the Actions of the Agent with the Wishes of the Principal</a:t>
            </a:r>
            <a:endParaRPr b="1" lang="en-US" sz="30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49000" y="2209680"/>
            <a:ext cx="80420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wnership Structur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Diffuse v. concentrated ownership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Large block owners (5%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stitutional investors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Governance Mechanism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News Gothic MT"/>
              </a:rPr>
              <a:t>What is the relationship between management and the board of directors?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itiation (management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Ratification (board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mplementation (management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onitoring (board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228600" y="108000"/>
            <a:ext cx="8610480" cy="126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How can the composition of the board serve as a governance mechanism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siders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utsiders (related and unrelated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11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How can managerial compensation serve as a governance device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Cash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Bonu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tock option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11:20Z</dcterms:created>
  <dc:creator>sara_hunter</dc:creator>
  <dc:description/>
  <dc:language>en-US</dc:language>
  <cp:lastModifiedBy>Morrow, Bert</cp:lastModifiedBy>
  <dcterms:modified xsi:type="dcterms:W3CDTF">2021-03-08T14:04:59Z</dcterms:modified>
  <cp:revision>320</cp:revision>
  <dc:subject/>
  <dc:title>Slide 1</dc:title>
</cp:coreProperties>
</file>