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A52B-6E4B-4C40-82DC-AF048711FB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CD10-A824-4D9A-BD54-D3E3731B42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436-DD60-4E86-8690-8AD2AB97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5A90-2709-4D26-BCA4-AEFEC70B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789719-E121-4003-A114-A617C3D3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7D7173-4F86-48FC-8360-8EBDAD05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1D5353-7C45-45B3-AEA8-E7CC6C74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1A6B7C-9B78-4ADE-8C33-9AF4034E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2055B-2995-40D6-9F1F-0E70AB87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FE1839-5FA2-4271-81F1-3CC19849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4D1F6E-9AC0-4459-B652-CA05DB47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E69EFE-858B-4E87-A3A8-F5AB4A43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DBBF36-2AC4-4042-9A65-F7D6D29A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D04BA7-1C20-41AA-BC34-783882E5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E45-0657-4A4C-A167-3CD280F8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21D728-7423-4B24-AA98-AB47DE40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5993E0-CCAF-4688-9AB5-E15406F2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13D9BF-0AAB-412F-ACC8-E4B337C0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1FE57D-6736-43D1-BE06-9D92FE46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93A1C1-7852-487A-9FEF-F3475B1C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296D04-3190-4205-BF45-8DBC5B85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B10698-48BC-4E8D-8CAC-63270806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F63C74-12AB-42AA-8747-A409D312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AF4C0E-0716-4420-9E8D-62194990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028522-C91E-46C4-BBD5-F6E2B3E0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B9A-8023-4C10-9ADF-CB3E6705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523EF8-EB4E-455F-874E-79834E29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371ACB-8379-41C4-8DF6-F689AFAB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06FEC4-0289-4685-A185-0FC292DA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3A8DE9-9D80-4D99-BC94-AE62A9B6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945540-41F0-4375-BAEB-8721AEDB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9F147A-221D-4A6A-A0EB-6124BBDB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8F3A2C-E260-4509-9F9F-08AC0712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375BFA-421D-42D1-8328-A28A2FEF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49658A-6A98-4EC5-BB3D-150C9852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CB447D-6BDE-4931-8188-988B492A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4A00D-0282-48AB-B031-3B159B293D8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CBB415-DD69-47E6-B884-29192412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B4343E-4B21-4120-BE5F-056DFE1F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88952F-7E3C-461A-879C-77AE9DFE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D91726-AB71-4623-AE5F-22942EA2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0B60E8-7BF3-4CB5-A62C-696001B0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E94390-CDD6-42B7-9378-ED326953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D2DF9C-5561-49E6-A503-B4FD6094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8B96B5-ACA6-4DEB-97BF-FCDA87FC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84CB80-783C-4DE2-9780-EA342C20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EFC77F-FE4A-472B-9357-E6CBD81A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230FF-A12B-492D-8240-0AA1146E31D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C6D63B-124B-4E63-869E-F553A4F8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6CDEC3-F886-43DA-9C1D-5EA59C6D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A2A9C4-389F-41EE-AC00-AFDF9D99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46E635-BA50-48DA-A8A3-21A90CF2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EB0C18-EA61-401F-9561-DDBA85B3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9A9B48-C95A-480B-9315-0136114B4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A34E49-D470-4971-A7A7-DCBA4015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7665C7-BF20-434F-9C09-069501A6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4720C6-B641-43EE-8A6D-0163D7F1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664665-2C85-4D3D-851A-82B07F95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ACEB5-EE37-4B99-8884-99172580218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9ADBB6-90B8-4A92-AFFD-0F88C331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B22054-85BE-42AC-8763-D110D7AC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F8C26B-644A-4AB0-B4B4-2BECBC44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06901A-0D0B-4609-8BF9-CDBEBDF2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D63014-CE68-405B-9AE4-AFAACCB8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ED247F-4C9F-4DCE-9CE0-1A25F297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FAD831-2B36-4263-A0DE-C8822BFD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FE26E9-AF08-4B72-9D9C-40B76BF3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153487-5A5D-466F-8D74-4475079A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6E5029-0415-44EA-AA68-C0446199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851B6-29BD-4E78-BEC9-8C64FAC6504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9C7AB2-ACD2-450C-98EE-9B8FECE5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E0C775-1793-480E-B3FC-B9A59669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D3DB3A-EEFE-4642-B188-920B2BD3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2D0B43-8EEC-4692-B06D-10EE44A5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176D6C-0071-483D-BC98-5986B554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4C8832-1E17-434F-A3B9-B22CA6CB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ABB777-A728-43A3-89C4-08B604D8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A7D2D7-4C78-42AE-983E-F7AA7FF7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C73B5D-6D25-4C78-89F8-FED60B30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7D46C-AAA7-4020-A5F7-6E04E953A4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002D1-1D00-455B-8B1D-7DAD0D1D1A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D316E-A48B-4E52-BC70-DAB7C85877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DA27-2CBC-4CCB-A136-EF922D22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C7F0C-3A2F-43B8-A26A-D072619A03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470C3-C893-4517-B5A0-82678B18ED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E3966-8935-40C7-8D2C-626DA83AF9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C9EF6-3974-477E-80A8-EAF7507186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33F70-7639-4C1A-A9A8-7C7DE403029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7F1-6CBC-4DBE-9C4A-541CF782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149-100D-4640-956E-6BD0ADA8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B8DED-3727-419A-9DCF-492EBC53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F0B7-7202-4E86-BC73-7C7072E2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4EB14-5B74-473F-88C9-F08B8A51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74CE7-BE95-4327-85C2-56BF9DF6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F26E8-E53B-44A7-8554-4352DA8C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92C71-B845-48AB-9D91-DC272B69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B1210-5E1F-4B35-A3F9-DFD1D46D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CFF00-6E90-4C1F-A6AD-36DF98F0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A8F54-4A15-4CD6-8B97-4FC4AF0A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58186-08A0-4101-9C62-797E2AA2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34F6A-1DBA-4E57-B93A-F4A10EA8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16189C-3F4D-47E5-B6D6-C968C875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05A-1C5E-44A2-BEDE-13934BB3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A85AF8-F202-46F7-89FD-46B20536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27635C-1683-4B23-B925-495A0A22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9B2608-14A3-4BBE-BF2A-B16F6735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83206F-560D-43DC-8CBF-86882CFE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052DB1-F7DB-466E-8873-B2714ED0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77069-3954-4B67-A836-543BED50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FE2BE-71B3-4FBB-AA23-E07B2B2A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C76159-4CAD-4767-AA99-5C92B68C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1C27E8-2021-41CF-854A-E6A01FCD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42BA4-79F9-4293-BA67-58979FD3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46C3-89B0-4026-BD93-4A7ACA26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E559AE-81DD-464A-83F5-F6D6859F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1709B5-A435-4FB4-B793-E90577F2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00BDB7-E3CD-4B79-B638-80D231E5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650FDF-A960-427F-A535-CDA42538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F10DA-27AD-408D-BBAE-ED7DB707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58EA0-713E-47D2-9822-14FEDA92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2710F-0B52-4C74-8AD2-76ED4E2E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0DA6B8-EEFA-45CD-A584-647FCABC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A1BEB6-0A58-4216-97E3-35527507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1F813-87D0-4E62-91F5-134DE12A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3F02-C0C9-48A5-843F-479B9A4E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73C9E-C557-4358-8842-5031F5C5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2705C3-EA9A-4E01-9A2E-426F1041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D952C-F8B4-49B8-98C0-BD05A29B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08198-FE38-4A88-8FF8-083B754D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72148-F866-436C-BF97-711D24A5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C489BA-15AE-49C6-84A0-F6498BF9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E03276-AD96-4191-AAF2-18E3D748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9ADE0-A17C-40A8-A4AC-95657192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CC550-D101-4264-92EA-EC4D2263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CA4842-B339-4307-86BE-4707CA2D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7E4-9C70-4C69-8E5B-D25E4598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1D3751-81E9-4DCB-970A-0056B1E9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17673-DF90-44CD-958B-D912AB7E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732FF-6FB3-43B3-A230-96F34364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17C917-8E85-4D7F-8C98-152C945D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DE5AA-6B1B-4610-BBA1-03EB878C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9BCDA2-F9AA-4808-939A-E52453A8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B0D9E-2AC3-40D9-BAD5-010BCF40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29558E-51BA-456D-B9AA-B6757715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FD9A6-3625-44E3-8957-1845A6E6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EBD70E-FBC9-485B-A50F-A57113AD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9335-1C65-4CC4-927F-A2B331536C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CD0A-EA1A-4FF1-ABA1-B1D961A65C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4307-6D2D-4A7F-98C5-35FC4988CF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CC7B-8C8D-45C0-948C-3549DA2076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796E-63E0-4B93-9A2E-60AB1D7B0C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75DA-03C0-4809-ABD2-915F208B12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987C-C544-46E1-ACC6-D5710D7A0A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15A9-3B24-421C-87B6-DC3FADE861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1546-3878-457C-B8C7-AC54D35138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09E6-851A-465A-99A3-BDEAC4DF9D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3683-AE99-438C-B5A9-35519FED43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B146-9FD5-49C8-8C93-7C41E5DA18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0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Corporate Gover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ternal Governance Mechanis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e market for corporate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Managers often adopt defensive mechanism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eparation of Ownership and Contro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agency relationship exists when one party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princip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 delegates decision-making authority to another person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gen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are agency problem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Agency problem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r when the actions of the agent are not aligned with the wishes of the principa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We assume that managers will act to serve their self-interests (managerial opportunism), rather than the interests of stockholders. 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  <a:ea typeface="Times New Roman"/>
              </a:rPr>
              <a:t>What are agency cost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gency costs are the costs of actions taken to solve agency problems (governance mechanisms) plus the cost of any unsolved agency problem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amples of Agency Proble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versification can create two benefits for managers that stockholders do not sh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sala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duction of employment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95959"/>
                </a:solidFill>
                <a:latin typeface="News Gothic MT"/>
              </a:rPr>
              <a:t>Free cash flow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y lead to over-diversificat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level of diversification that stockholders prefer is less than that preferred by manager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56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News Gothic MT"/>
              </a:rPr>
              <a:t>Governance Mechanisms: Actions Taken to Align the Actions of the Agent with the Wishes of the Principal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wnership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ffuse v. concentrated ownership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rge block owners (5%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titutional investo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What is the relationship between management and the board of director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iti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atification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mplement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nitoring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the composition of the board serve as a governance mechanism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ide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tsiders (related and unrelate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managerial compensation serve as a governance device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ash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onu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ock op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4:04:59Z</dcterms:modified>
  <cp:revision>320</cp:revision>
  <dc:subject/>
  <dc:title>Slide 1</dc:title>
</cp:coreProperties>
</file>