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5937-EC69-49AB-99CE-5E8EEC0CEA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1620-DAC5-4847-AC2B-607FCF8438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A4B-5F64-4BA1-AFD8-4A4C5FC7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8A2-0E81-49CB-983F-ADA9A8E0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A5D5C4-6848-4CE0-A625-C3C9F05A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31FA5E-423C-4AEA-A0BE-E631D70B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5785B5-7442-4F01-8B32-E8EDAEC2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686CE0-FB49-415B-8C77-88FD47F3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44899F-1563-4D49-A22D-F4B2D60F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D0A298-C0C2-499A-A4C6-D28A903E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E61CB3-1896-4D14-8E2B-66B26D53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6D0988-67C1-4EF9-9A5A-D0E9936F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396475-5270-4CD5-A204-3DB42891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E79AD5-18AD-4293-BBD0-F9021F7A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222-86EE-4FCA-A4F7-63363CF4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A4D399-63CA-45C2-88DC-F55EA49E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AA3284-C226-42DE-B340-18749A07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3B68C8-7471-423A-A165-4F7D4457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47F501-47FF-45AC-A8FD-B0BE8D8E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899F06-F7FE-4C3B-A048-625BD59C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E0A757-FC2C-41D6-B355-39067617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907D99-E962-4A50-92D7-D1B8CFAB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225FC5-D936-4B6A-BC5D-3C97F71C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230446-2585-4C35-9D40-6FBC8554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717635-2035-41B3-9754-18DF419C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2D8-B7D9-41A8-B0F2-351A78FF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BBBBF9-F095-4B40-99BA-71301BA9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1BC78C-8D99-4B3D-B337-21345028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A3FDE6-25AB-4AC4-ABFA-586E5E71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9C19DA-5D67-4DEA-B27B-2020A493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FE04F3-518D-4657-BB92-2D3A25AF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4409AC-9C92-46FD-976A-9ED67C7B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60D133-C093-4241-99CB-A146B1DC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D28F6E-E728-4C45-B0BD-36BCA617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4F6180-579D-44EC-A1CC-83E3600B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8D853A-BF8F-4D4C-A471-2BDD7910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7FC1E-500F-42D1-A0D4-6747E067818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B6C65C-B2EC-4B78-BD7A-82B3BD4B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718D1A-2848-4B67-88B9-534DB990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3B6AA7-FD1B-4C1C-A1A4-50DB00A1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B600EC-F69C-4E86-AD9F-9EC625A6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464C25-2E81-484F-89F9-9D0A4A6C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FD6E7B-FD56-4A3C-946D-8EA95BFA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88999A-E999-4608-A5C2-3D03F485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62691C-E763-48DD-8AF5-A4D331D4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F6BF4F-5226-4AD4-ACB9-5852E97E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3F76A4-834D-43AC-BFCC-0B4747A7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4F595-F37F-499B-B265-B7311079E7F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0FEEE8-B921-4A3B-BF99-C0EF4C9E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D6446C-30A5-45F9-BA15-B7074AC0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6F441D-2348-4739-BC82-34CC5856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D8501C-ED00-4A3C-9AF1-8ADDAB67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DA7ECD-8570-4B16-A986-D1EAE632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05AA17-7EF0-477C-B364-3E95F42E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9A915E-168A-4D47-8058-979B38CA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479597-0AD6-4F11-8F62-C6375315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337FB7-EF6A-4B8F-8719-29BB2D1D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AC0A7E-B649-4AEE-8604-BFAB72C0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BAE6D-C835-4317-99F8-B068932E65C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814491-C0D1-48A0-A049-CC2DFFDE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45F853-1F27-42FE-AF30-27B09B0A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B3AAA2-0ABE-40DE-928E-347F5A8B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7CBDF9-74C1-45F8-B29C-1EE85EDB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19B8B1-FE6F-4FB9-9FE4-E3F10B88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71419F-FDF7-438B-8F3E-60D62B4D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C3E5CD-6DD0-414B-B0D8-FBB45AE7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F32AC5-850E-4A36-9A0F-94E94659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C69488-D474-4FA6-8F55-DFAA5FD7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47A96A-53E5-45F5-BC11-0C31CD5A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E5DED-DC1A-48C2-9550-304F5EC62A4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EE89DF-6633-4402-BA11-65691C4A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04CBAF-2996-46A5-81B9-3647445E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B7D9D7-2C82-4C95-B207-8EF8F862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C2070F-3497-47D8-A8B2-A21098DD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045594-DC57-4C1F-A9DE-E16087AE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A8D139-8B1B-465B-ACD8-AD260CB7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1E3E5D-1407-4E74-9283-B3234A6B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B0CE3C-65C2-4FAD-A28D-5606CA04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3BBE70-5B15-4A2D-A82C-56B3C676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512D4-C5C9-4F5E-851A-FE4683592B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FE7ED-C2F2-4EA7-8865-90A8E526D9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0D337-B98B-4B26-9997-F3AE3C439E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68AF-64A0-4857-B50F-36A06C80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5034C-9749-494D-B0E1-E508C05009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6A829-45BD-4FB1-B206-5C38AF7300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47771-5867-4387-AE9A-39049F1E6F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F0FAC-3A13-4536-ADAC-81FC78BF8A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02A0E-D3FC-42E7-BB39-A31919C0CF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19B-F565-4C1E-9706-3FA446DD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BD6-654C-4D9A-B404-04608C1A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AF42B-536F-4DCE-B60E-926FC107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A33-48A3-48DF-8D60-C9540ACB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AA69B-147F-4271-866A-A09B9377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FBE49-E76F-441D-AB63-BE9CC4F3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BF9AF-DF76-439C-B227-F23A58E2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DA55D-A7EA-42DC-B8BB-9FCF9B84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87565-FEF2-4C3B-A64B-944EA226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4A801-9263-4453-9C8F-33BA1C21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0B544-4B0E-4D44-96F6-EE1E1C1A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B52FC-4C51-44D0-ADF7-9048989A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CC5F42-715E-4CB7-B390-6514FB94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A04AF-A206-4E44-B3C7-6DF13F31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792-9C73-4A3F-8674-6DB11F2E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B5008-6D6C-488A-BD34-B4E29892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696257-AF9B-461B-977D-0BA77C01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BEF145-8BDF-44CA-9984-F998A737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386180-6EEB-4A52-A3CB-481992EB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AB5403-99F4-492E-8371-F3987005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5289ED-044B-453C-ADF8-5EF18E9D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B6B8A5-C978-4BEF-B678-7950470A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4E6F72-BA7E-4092-BBA1-ACFDA173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F5957C-0D9A-4B4E-8EE5-80DEB058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52D623-710E-4FA4-8520-B6BD7135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7C6-8D39-4953-A257-7CBD4239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560C11-0745-472C-8F3D-FEBD5700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46A4AA-0166-4B18-BBEE-73B43E83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09386C-08A4-4746-B001-2DCC1060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A377FF-B196-464E-BF8E-B05B3240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46F03B-309F-4322-AF91-F2770D90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85F4B-4780-4658-8A88-A0706719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EE12D7-3634-4988-B0E6-ADBF2DBF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C0DC1C-7ECA-43CC-8FF2-4B556A1D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50EF2B-6979-44EF-98D4-E5BCB737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9B9465-87D3-405D-9946-84D599E6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518-5E4C-4841-B501-F67117FE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59F09-ADC4-4CB4-BE3C-F957A90E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916DCA-58F4-42EC-9A30-D9612308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113E2-1FB0-4A91-8CBA-8A8385F6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6AB768-9B50-4EE1-9B4A-AD58613E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3707E2-6DA2-4C5B-9146-74233C06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22E31D-6D8A-43E3-A9F0-F9DAE815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1009BA-8621-4DB7-AFD8-0C0603BE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DB0E23-6BC7-4040-A8DF-75F4BCE8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634768-DE79-4366-A1D2-9D8B2DA6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E9FF0B-1F1D-44B3-9BA0-ADB073D8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3E3-8EE1-4F48-B0E3-35A2D4B4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84BBC8-F763-4DBE-BAD0-1CA12F0E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8ECDE2-8EE0-4BF0-9E14-E37F06C1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433016-CA40-47F6-B0D7-4771D0F5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60968-78A7-4734-97B7-3BD08380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F4A906-3DC3-4181-BA7D-BC67A1C0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F55EF-B7D4-407E-90AC-1D415144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0A3E71-B12A-41D5-8534-87761644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61F2FA-B74C-4106-B260-C008E636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5AB937-D125-4DC0-9A7A-2DB91C2E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33A356-D155-4FD3-AD4B-6E6F52A2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A38D-C8B3-4E01-A743-04A3BDE019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3BCB-DD42-4625-9F9F-23A52A0EC3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47DA-701F-4B42-842A-4B817D7265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0754-949B-4B67-8C27-000DA0A1B9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5CF4-8195-4FBB-B4A6-A3B2A9FB3F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F167-9C45-42C3-B3FD-3099D22166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D29A-29B2-4FDB-B748-48C1A102BF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4126-BAFF-4CA0-A444-37BA800D18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9086-DA9E-4835-8769-551A5E6615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A0DE-E46E-41AC-B9AF-745978025F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F992-6DBA-459E-B548-4A203D4D8B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988A-28D7-4810-BE1C-822BD209DB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0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Corporate Gover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ternal Governance Mechanis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The market for corporate contro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Managers often adopt defensive mechanism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eparation of Ownership and Contro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agency relationship exists when one party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princip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 delegates decision-making authority to another person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gen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are agency problem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Agency problem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ccur when the actions of the agent are not aligned with the wishes of the principal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We assume that managers will act to serve their self-interests (managerial opportunism), rather than the interests of stockholders. 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  <a:ea typeface="Times New Roman"/>
              </a:rPr>
              <a:t>What are agency cost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56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gency costs are the costs of actions taken to solve agency problems (governance mechanisms) plus the cost of any unsolved agency problem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amples of Agency Proble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versification can create two benefits for managers that stockholders do not sha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creased salar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duction of employment risk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95959"/>
                </a:solidFill>
                <a:latin typeface="News Gothic MT"/>
              </a:rPr>
              <a:t>Free cash flow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y lead to over-diversificat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level of diversification that stockholders prefer is less than that preferred by manager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56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News Gothic MT"/>
              </a:rPr>
              <a:t>Governance Mechanisms: Actions Taken to Align the Actions of the Agent with the Wishes of the Principal</a:t>
            </a:r>
            <a:endParaRPr b="1" lang="en-US" sz="3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wnership 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ffuse v. concentrated ownership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arge block owners (5%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titutional investo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What is the relationship between management and the board of director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iti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atification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mplement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nitoring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the composition of the board serve as a governance mechanism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ide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utsiders (related and unrelate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managerial compensation serve as a governance device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ash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onu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ock op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4:04:59Z</dcterms:modified>
  <cp:revision>320</cp:revision>
  <dc:subject/>
  <dc:title>Slide 1</dc:title>
</cp:coreProperties>
</file>