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111-948B-4F7F-8842-8510C7280C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51E8-3AA1-43F6-BD20-A66EAD077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678-2A0E-4EC9-940A-59B655E7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659-E206-4439-82EB-2BF4027B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A3519-CA27-4B48-AB7E-3260DC1F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20067-4D03-40E9-B98A-8B5E75FD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B877C-A8CA-4CD2-B2D5-E1B1627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EAEB1-3991-4060-833B-802E70D4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63766-0BD4-4152-BE39-B0D1CC70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FC61E-16F1-4894-921F-C783903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6D5AA-23B6-4570-9C19-EAA48C19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E364C-6339-42D2-B74B-6575CB00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A9767-5E3D-40AF-BF1C-26D17FCC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219AD5-342A-4323-9E29-AF8BF38D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290-4376-424C-8146-91B7E9BD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79084-E0EB-4F65-9BEC-AC2FD678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D3442-00A4-43B7-8C15-CF9E52A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2DECF-FCC1-4DEC-BD93-AF0BBB44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91A1F-6B15-4F1D-8B72-B64D236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EE490-0B62-4C5E-9F50-3A815E54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A460E-5B4B-4E9B-AF0B-103E79F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73B6BC-8E2C-4E94-9DF2-9C24A16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AAD99-B22C-4270-B1E1-FB8EA8C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1A0F5D-9BAD-4689-ACD0-1AE4D2EC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F809B1-7D09-4B09-919E-5A8C7078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160-DE0E-4C25-8B25-F3D65357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8D9154-AFA7-4D26-99A6-7AB5673A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6E7BA-C9AA-47C5-BF94-A8F6EA80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D79EF-EC69-4B7C-A6D7-0AA5225B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B9423A-34A6-40B9-9057-65A950A9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1DB93A-435C-400D-A70C-3A8A3A1E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27CBE2-C5DC-405F-BE7E-5C0C27A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3F242D-4EAE-4FA8-88AD-12CCFDF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E27F7C-B3D5-4E26-9920-0FB4D66A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276EA0-F4A2-4367-9788-130A578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3F0F5-B35F-4719-A372-25B0F998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66B53-EF25-45AB-9F29-E888CFB07A2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0EBE9-6299-4431-A6AD-991FAC0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CB208-068D-40BA-942A-DB19EB8E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2AD2E4-390C-4253-97C4-6959DF9E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33C444-87E2-4C61-9B80-4D1DD0AB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727E64-5FD5-4069-9314-5BC02D8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1A94C7-ED36-4522-810B-BCCF801F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A8825-1DC3-4F10-AFDD-BD28068C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491832-4567-4AE5-9AEE-261E5793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4267B-1E9B-4593-89AA-B4930EDA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E72F3-CBF9-47EE-8464-17026F3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82576-A6FA-40D4-AD47-EC09C5BD055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26F2AD-5372-483E-8AE8-DF24336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ECDE01-3E21-443F-8CB6-46EEB5A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902709-2CF0-45D9-B8E7-8444616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145F78-E88B-4D96-9041-50E15BA9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1D9259-A7EF-4F8E-AE6E-42A52E45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27741E-9EAC-4E70-B7E2-D2F499FF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30A1BE-19E2-45F1-AEFF-5E9B6447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F489CF-51BF-4B52-8811-D9DF8C62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AF51CE-3106-4F81-9B9D-90652B35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7D8F71-BF48-43A8-A6A3-075CF9CE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02E2E-5E43-4C2D-A145-12B5A3B8A01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B4E755-D884-4F8F-806D-65C708DA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D9B7BE-28A1-4C5A-832B-D99C1464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D6590C-DADD-4706-AB2A-FA60284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E49C1C-B47D-4807-B954-9B517DE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E0E150-D3CB-4F76-AA77-A28E283A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9774C4-AA31-4D8E-BEBE-98F1E478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0AF1BC-11EB-4909-8731-905D7494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6C2F86-B64B-417F-B832-60AC98CB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03A9A3-302F-466C-BA1F-022FA132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30FB68-30D7-40E1-BA37-AB500B18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2E082-E280-4EEA-B9BC-8549AC7BF72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32F922-3BFD-4DA3-B1CA-7470E2A4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30DAAD-7AF9-42F7-9076-DF93FED6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80F37-1E2F-4239-A8D2-7B3F3C22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89B190-0CAC-4EBE-B7BB-699685C3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419B4C-24A8-436E-B8E7-7C0F862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5B3D1F-38BA-47C9-8D54-F4F376A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C589E9-314B-4CFF-A367-22F89425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59E960-BD0F-4950-9538-57A69BC7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451CC3-AC5B-48EA-90C7-9B16BD65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10765-7CF5-44D2-8B4F-A9BC83FBDF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1056-95E2-4EBF-A1F8-48428132BB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B60F1-D525-4DA8-88E0-E099FC9D8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D9E-1023-41BB-B3A5-59EBDDD0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81A6B-3B29-464E-BD35-B5E59CFEE0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C2229-49B4-4BBD-B3B0-10B2E66BBF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D900-9884-4A2B-8558-62B0BF13B7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9F90-B3B7-4CA9-ADCD-CA70D662BD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1D307-72E2-4357-B87E-746B0607F3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6E3-C2F3-47E2-9A70-D99358E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56A-17DD-46F9-A76A-B7CC8E3D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F2D7C-9878-4517-9B40-CF632FE5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357-18CF-47A6-9C6E-230C52A8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BC959-53E0-44A6-87D3-BE775CA3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B8BD1-00F5-4378-958F-6461FD1A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AB2D0-DD50-42C1-9850-D1ACCE7E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65167-C4C7-4274-8DAE-DC7DDC55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E01E7-9359-41A6-B273-BCA519C3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A621B-2D5E-409E-B5E0-4CEA119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10441-AB2B-41A4-952A-BD8AE012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0C849-F072-4759-9CD3-58E8AF7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3B8A7-7F6A-45CE-8EEA-CDDE94A0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7D415-8325-4DC7-8810-096BAF7F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D26-707B-4422-AEDC-7F1D4CBB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1DE44-386E-4B36-A5B2-6B732635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CEFDF-E325-4DC2-BE83-EBA80C74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CF100-1DC0-4BBC-B8F1-53FF441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AB67C-7E4A-4372-95F1-320CC27B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D91FC-B298-41F2-85E7-E7B1CE30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4A985-5647-4A50-BC6C-08FB2674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5C2A7-6F5F-4C6E-B690-D13DA686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854DD-BC6D-4621-A365-CFA9CD5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6BFB2-49E9-444E-A121-D60E22B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7A4D4-41FB-4751-A879-872A4BD8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E0E-D046-4A43-ABE6-CE452EBD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58E0E-139C-417A-87EF-F6C377CB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0831D-6A2F-46FC-844B-100C88EA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0E5D5-6DAF-40DD-AD45-71BDCA1E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BF17E-D2B5-439A-A532-CBACCAD2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68F38-2D74-4863-B96C-50A5664C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955D8-D436-436E-85CE-E7B85E9C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FDED0-12C7-4207-8249-116DCF65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CEE95-E145-427C-AD5C-99F6AA3A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FFA52-4FF4-42D7-8911-F5C3E753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BB9DB-BA7D-4BBF-BFB1-696E9C3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A46-0FA0-47A2-87E5-F66C952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96183-DA16-4E19-A80C-127F0F2B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9A784-0FF3-4BE8-8143-91C9FC2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27309-07D8-42B7-BADE-1866DB44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0E410-3111-4DB2-ADBA-CD8765ED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E8C50-6915-4827-952F-08584B94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0DCB4-6EAE-4095-A078-DBD2FB4C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00A13-3112-438F-8D86-00FDB8DC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F28BB-E6BF-40FE-9755-3DBFF5B7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0BF7E-92C6-4415-9ADE-66249C15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70E9F-2064-4CFD-BFAF-C746D0D2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295-7796-4DCB-ACE8-9884E99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A112D-B8D9-4A9D-9398-01129EF9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EB9CE-D339-4B50-B20D-7778E410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80507-F0A3-4926-950D-A77162B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E72C8-38E8-42D6-B1D2-F7C3260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B927C-FF5E-40EC-8508-B0501F6F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4BD2A-D06E-43BD-9C11-92F799F2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CAEF8-2E8A-4350-92F1-F3F0E20D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C106B-EAA7-4085-829A-0F0F8ABA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AE5CF-9544-4DE2-99BB-A70A776D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AA4C8-BD6C-4276-B0B8-0C3C3DAD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E8E-BEBF-4E57-9F4C-8F362E0A5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F2CE-D99E-4C1D-9058-2B7F0FDEBA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7327-8208-4E9A-B71F-F77A655875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2D5A-0D6C-4EA6-ABC9-808BF3689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95FA-EEF6-4EE6-BC26-AFE2DD15FB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3C6D-B1B8-4237-B9DB-7A17D231AC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7253-E345-4C15-9FBE-06BB23621C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7C5B-D2C0-40DF-BFAC-F0EE7FD08C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FAD1-3A1F-4824-A029-BABDA06F9D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C6DF-0180-4169-9188-A5C5A36D1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3B86-4390-4B41-9ABB-8C6F5A68BA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A8D3-EB25-493A-A937-B58079AA6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Characteristic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peci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3628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Using the Functional Structure to Implement: 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Low Cost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Production Differentiation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5:34Z</dcterms:modified>
  <cp:revision>317</cp:revision>
  <dc:subject/>
  <dc:title>Slide 1</dc:title>
</cp:coreProperties>
</file>