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D3B2-DA6F-4B4C-B44E-C4F122B1D2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499C-1394-4536-9EDF-22489BC61A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66B7-E045-4813-A4FB-1DD8A027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4391-A6FE-46C4-8176-458F6122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3297D6-7B06-478F-B2A5-69811214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6724B7-D39F-4C20-B9E9-1E31CED3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AC3CB5-9EC9-431F-922B-DFDD744B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91B8B3-7D1E-42B7-904F-2A592E37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F68CE8-AB66-40AF-A088-B1477BA3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51D7A9-B089-4221-BC18-52F7856C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EC0A54-F5AF-4440-AF6E-27D8EE0B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32D1F5-F0AF-4CFA-BE8B-B8F883FB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9F888C-2222-48F9-B2A4-B268FACC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0D6AB4-09CC-4C3D-9911-35FFE4E1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A21C-2431-47E3-8FEF-A69648BE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DDD934-834D-4BCC-89A2-1E3803BA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22B99A-87DA-47B4-A8CA-40F6B418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C27EE5-67D0-47D0-B84D-209F2243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33F637-C9BA-4A67-A072-C3C46C02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0E2E28-C8ED-441A-9BA8-F06625C6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585CBB-2940-43A7-9371-6A0E1251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F8B312-FE96-4178-BCC4-B39C0E2F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236ACF-113B-4926-A142-18D801E7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A462E5-C21E-4964-815C-54413164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429A2F-6E96-441C-A1FF-4C15C956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89D2-1F77-431B-9F50-51C3835A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D79E05-E14F-44FA-AFA2-8B35474F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109C95-5763-455E-B6EE-A5882EC8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373CAA-9B7B-4795-B71B-FA740DF5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E3AD9E-87DD-45A2-A5B5-DA163E62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BE408E-D3D3-455C-958F-D33C22A4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28C392-6E67-4EBD-92E3-0BDB8A33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F5D6B0-559F-4E1B-A8C2-04C01A52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97F87D-CB48-441B-B02F-FC8BF796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C06A88-C0C5-4628-B05E-C69BED00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5C0934-254D-4B1F-B9D2-1851A608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C6C20-DFE6-4682-9711-44A5DDE81EC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476B42-1B13-41D9-9B8A-D434AB9B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65501D-052D-42A4-BE5B-1570AB3F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4C9B1F-6E39-40E3-B885-F73827BB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E136E9-2527-4EC9-AEC2-E6B4391C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CE0E70-711B-4ED5-B579-159D0339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9C2BC4-1E4A-4CFD-A82B-E55C4227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22D2C3-4FDC-4BA0-95A5-B3C5B377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A9E228-0FDC-47E6-B4E7-902167DB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22F67F-6A57-43B0-8AE1-58D2B635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3A250F-8489-4068-A429-EAE8B610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63C61-C9FA-4433-B441-B4CA0722E3C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383113-32DB-491E-B677-97B593A9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B7B35B-3144-4330-B6A9-76562D99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706AB7-6B49-4245-8EA3-014B7164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F1B2DD-D979-47CF-A058-2DE5643E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7DC947-B2F9-44A9-AE21-AB63CFB2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BA900E-84C0-445C-A64A-4F7E3073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886E99-4C43-45E1-BD0C-0E8BB950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91BED1-F2FD-498F-938A-866776DE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9F320A-5389-4ADA-9243-252C205F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48842B-C16B-4A8B-A88E-BA42C69D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E1399-DDED-4C35-9418-73DED80C153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3AA65C-965C-4159-81CF-EC42A9C5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9DDFA7-3912-4161-BE94-04D28EDD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3BECD2-79B3-448D-A2A4-095C7827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E8922F-2B3D-4236-AA0A-27A37055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C553B8-BD4A-44D0-997E-E3E7CE1A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CD60FD-5CDA-4F12-8F77-DA447516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EFDA98-0103-4AE0-861E-C6285CF9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5A2B58-D2DD-4228-A1AB-4552166C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605AA2-2C64-444C-87A2-F573D415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D657A5-9B79-4664-AD4C-4595ED1C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D6DE5-6C4F-47A5-9399-48C785BE287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B090DD-E325-40E1-A84E-1874495A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FBA5C3-1381-4912-B5E2-E9E0B0F7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C2DF72-E2BE-4D50-9CDA-5F0D2294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DBA603-7198-41FD-969F-D13D6714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115EF2-5A83-4A12-B59F-7B990755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39CCD3-F9FB-4278-9175-AC799B95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24CFCA-4931-4358-80AD-EEC3DE0F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7A3B74D-F970-4892-9261-9C4E2CE9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143D53-8200-4896-BDBB-17C62E1F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18893-6D46-4874-9519-698019E828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8C8F5-9EA3-4237-9F92-FECDD64C0D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E2274-65DB-4584-A415-603DC7D04D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F15-93FB-4327-BD24-3237FB4D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B6D40-7428-474F-BDF7-FB477E65B4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BD74C-1296-44C5-8C25-4F130122DC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1D93C-7447-4109-832B-68407641F6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81D03-5B88-4815-929B-54402015B2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989F0-B091-4925-9DF6-C77C16A7051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14A-5410-48BB-8B41-81A73A68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C47E-B377-409C-94E8-D2E6A6F1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C4822-7803-4110-8852-1E191AA7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E19C-9CD2-4639-B4B4-E80BC58F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03D952-E41C-4DD1-B1F2-D36C258F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1CB16-38D3-4F2B-9B2F-488E1975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C93E69-CEA8-4B98-A183-B955DCE8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A1138-A7A5-437B-8685-8C08442B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5C0702-B6DA-45ED-8D1D-FCE0DCD7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2A40D-4C1D-4E3A-8304-0105585F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A13D87-D1AB-4048-B8DA-5C7BE35A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A2984-952D-4E37-B80A-7B2DF8DC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4DE60B-9ACD-45EE-80D9-3610289A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9FB6E4-DC52-4503-9550-0079D724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E19-B3A1-4DB7-925F-285F88CC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1A7EF7-F31C-4F97-8A8F-1AA2631C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36A558-EF6E-42B6-A7A0-4F2808A3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D04C41-2851-4B8E-8E21-09AAC224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1A8DC3-3E9E-4E80-92FB-F1D1F11E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8A358E-58B2-4DA5-ADC4-24F428FA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57AAD8-4C2C-4AEE-8BF8-8A108945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778603-9EF4-47EB-BCB7-B1C48266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103E78-BCF1-444A-8F7F-109068AC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0F35DC-CF4D-4B16-A4B4-EC4C117D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52D3F6-3BC0-414D-98EA-12256793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B608-6922-4513-95D5-20BF178C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94E433-3975-4C79-8D1F-EC243A28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48FCF8-B96E-4E87-BF19-ECB0A696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79E37C-1890-47B0-9F19-80B6EB25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803748-7A14-4F5D-9FC9-D10CE303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7D43C7-BB3A-49E6-91B1-A35A0C13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FA96D8-ABB4-4FED-BE9A-B059D74E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015759-E8B7-4B33-A275-A2AEE29C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6FA600-30B0-41C4-A3F4-5A8B40DC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989BC0-4E5C-459E-A977-8C925411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C530A7-1901-4961-AEDD-9C69B4B3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5C3C-DD85-46D0-A75D-BB937FEB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91D438-E51C-4475-9539-40E6CFE8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6DCF06-F795-4E22-8317-9E327EAA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384A2E-057D-4B3D-918C-6156D5D3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CD9750-4B2D-4782-8D26-7BAEBCFA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51F089-C8B3-4043-966E-CA69006B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9778F9-E8CF-4F9C-B9AB-E658EA42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51EF42-0336-490C-A6B8-0A2D94EC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F0B03F-92A4-452D-AF76-29C73F30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65DCC9-01FA-41A1-ABEE-D35507F3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925D19-BE8C-4AA8-875F-01E7D449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4AA0-5AE4-4812-8CCE-FFBBF456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F5158A-E5C7-4BB8-8A41-7987C7D9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D837DE-E0BF-4ABF-8FA1-611074B6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F3786D-3467-42BE-86D3-07E57E92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ECEC78-3AB2-468F-8B0B-D064EE21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4ED67A-03BF-4619-B425-CA9BC757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B39C14-230A-45C2-A509-76581FAD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D2BC2B-4906-4300-BC7B-C1C5D995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524B02-FDA0-43C0-AB02-E3193EDA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5F92ED-0B97-49AC-AB87-370282EE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0037F9-F702-40F4-B3B0-DE1D5114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2E23-0798-48E1-92CB-AC3F405474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3484-BA78-474C-BE44-834898493A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1737-3AF6-480B-8FE9-15FC975609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E54C-2446-48B3-A420-FBF0097817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F259-5A1F-44F3-B363-D20D8A6F01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D942-6F0F-4DED-ABEE-2EAC2AB5C8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A640-2CAD-4D6B-9924-F094AAD3AE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58F2-8180-4C67-9CC2-EC6D4A16C2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5BE0-A69D-4A38-B4F9-5DE3AA2311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AAE7-8A01-4C40-AB02-68EE800235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E1F3-A1F9-464A-9699-97E2C27556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E9C8-EFC3-459C-8BE5-564D8659B2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1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Organizational Structure and Control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structure specifies the firm’s formal reporting relationships, procedures, controls, authority and decision-making process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organization’s control systems are developed to guide the implementation of the firm’s strategy, compare actual results to expected results and take corrective action where necessar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v. Financi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92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Financial control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re largely objective criteria used to asses the firm’s performance relative to previously established quantitative standard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controls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are largely subjective criteria and examine the fit between what a company says it will do and what it actually does. There is much less emphasis on the importance of outcom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Evolution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imple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nct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ultidivis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ree Characteristics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peci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entr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orm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3628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News Gothic MT"/>
              </a:rPr>
              <a:t>Using the Functional Structure to Implement: </a:t>
            </a:r>
            <a:endParaRPr b="1" lang="en-US" sz="3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Low Cost Strateg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Production Differentiation Strateg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8T14:05:34Z</dcterms:modified>
  <cp:revision>317</cp:revision>
  <dc:subject/>
  <dc:title>Slide 1</dc:title>
</cp:coreProperties>
</file>