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F372-8687-48DF-9BA2-CA19C928B0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77CD-0C3A-4734-A644-7E8C4901FF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EF1-3A3C-48DC-A9C6-9586D69F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CFD-D323-4D2E-8C23-79651CC3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164BE-B99F-4E76-AFC8-11A052B2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B9675-2FBE-46A6-A09E-8299A732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8F1F72-96AE-4F0C-81AF-BF5E5DC1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770524-06B5-4F84-8F32-39966036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50A6C-6A89-409B-B59C-69FC443C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E8310-33EC-455D-BF46-C4BFA35C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1C2973-3B4F-4EDA-86D6-CD0EE485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B97FC-C9CD-44C6-BE87-B724EDCF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3A304-234B-4B38-BB5E-3D8F37965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8B3AF8-ED14-447C-AA03-3B1DB7ED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BAE-2FA2-488E-A302-C22EF4CD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3F5913-4D3C-4F02-93A8-C9DFAA17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3F6190-C7E3-481A-84D5-03711519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DFAA0E-AB8D-45F7-839C-2D857EA2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8B3DC4-63A6-409B-B66A-AF1E1AB3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A4845E-1E30-4BF5-9341-3877741B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DF8A25-DC39-4487-A024-ACC3392E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3FCAD4-1A5B-4479-AA9B-75DA075D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74148C-DDF3-4F87-8251-97A4F4B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52D4A3-A529-488E-AD6F-ED2C3707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491E6B-A7E7-47F4-9FF1-DCA0D337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A3B-5999-4067-9908-AD862BCC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17E4DC-483C-49FC-BAC0-ED2F5BF2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3D3DE4-C4F1-4A39-BC04-87552CB5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1C293A-2411-4CEF-BDC0-0D3C4F76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B573CF-53DE-430A-91F7-0027EF6A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3CA114-1A70-4655-B410-29BC7FDC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D2819F-22BE-4445-8ED5-88F6649F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F88B35-FAA7-4FA5-BFC2-F27DB9C2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A6AD84-6662-46C4-8017-3B30364C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363054-0421-413C-B0D1-DBF90946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056434-9725-4B49-B323-676C93C2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E717A-0E0A-4128-98EF-CC5EA54C36D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89DE75-87E8-4E53-BF0C-B63E742B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27E330-B9AB-45E0-9378-6F1116F7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DA6A40-A8B5-4931-94C1-00EDEBDF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B3411C-F1BA-4584-9BDC-FB660245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7E2D32-5CAC-42FC-A9F2-1D872902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59D381-EE67-4100-9BA0-F6F4C8DB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774697-8656-49E2-B1FC-3E4BA61A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8E91B7-353A-4EFB-AC9B-95AF01A2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EAF2C2-A0FE-41C2-8911-3A706269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0CDF8A-47B7-4B7A-AE83-3AC4E85C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7FA21-6B4B-4248-B946-527F0D5D919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BF6219-EECF-4D4A-BE7C-97F96C9B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8FB4A0-C755-41E3-A914-03FFFA9F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A27BC7-D6B4-442B-9270-9AE9D85F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D1B9FE-D588-4A06-95A6-9FBCC4E5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0F8E13-8C55-4553-830D-C8F13FD8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3C3B4D-F45B-4D2A-A1FB-C7AE0C85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45AE44-12E7-4D5F-A017-EB4A2615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4A2D3C-A84F-4722-8F7C-9BAB114E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B8AB69-F8A1-48CF-8E70-629C8379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D94254-1097-439D-8D8F-E52DAD11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24723-7638-4AA0-AB5A-3BEF58C1D82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12C421-0232-47C2-8200-52CE3D26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70E4B6-0E52-480A-AF29-15320013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014C6B-B9DD-4307-9A9E-A5630652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A1ECC9-7B14-4A6D-9CD8-D8C78FE4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5C1B14-8F9A-4C8A-98F7-E7550832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C8AD7B-8898-4930-9247-3FD2CE8A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E5EF82-B475-4B8E-962E-C12A4286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8858D1-B390-4B1E-B546-0764A388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34D331-4D5C-47A4-AD39-BB2C2FA8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91ECAF-2C19-40E9-98C4-51860529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B8266-4F92-41AC-87E7-24379F70967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D57889-8BED-4C5C-87D4-0A8BFCE3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AAA9F7-08D0-4BEE-B4CE-9EA83AA8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BF3725-8EC6-44D2-B524-8999E84C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E10677-2774-4A30-A288-C55B37F0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275915-169A-4CC8-8A6B-A82179F7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5B4E23-67DF-436D-AA4B-2AF7E8E3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EFE68F-F443-45FB-886B-6E1A179B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3EA1E6-320A-4790-A116-10108363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15E4C4-C6E9-4C9B-910A-C217E103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30E1D-6580-48B1-8362-200D9CABD9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E65E3-A6ED-4B6D-A672-D2772397A9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D8291-75AA-4C29-BC49-94AB17D9F4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A29-E3B8-4AB2-ADD0-43A6CCF6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8A436-76C0-4FC8-8571-F9BA4E9F1F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356E7-4937-4647-A8FA-6583AB602E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10EBC-80A3-42A8-AC5C-7AAFDA7EB0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C4484-68FE-4FFC-93F7-3E82BB4D37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48C8A-0ABC-47DD-B39F-2DBCA1B3757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467-A3DB-4037-A75F-9567692C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3BC-2CF2-47AC-8B5C-4052BA1C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CE7F6-E000-4053-8BEF-5137E90F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8F2-CD97-42F8-B864-DEC247DE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47F83-A2B2-40DE-B887-401FF3C1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448CB-5485-486B-BF30-01DAABDE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2EC43-3FF6-433B-A1D0-66927CF7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D7C54-4104-4088-94E4-ADBE0D30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A6D6E-D043-403F-A8B3-616994E4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34C39-ACD9-4ED7-A2B1-3D507022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F2994-C58A-49B3-B5A5-3D044ADF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7E6E5-DEC7-4511-A134-7B6E5475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E9417-9326-4B8A-856D-EF7F3178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8A8421-4518-4CCA-A750-DBD08B29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C0F-D5C9-41CD-A861-4D569335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598CB-D991-47BF-B9EE-76B866F5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F6DCB-2077-4F1E-8047-2110CA4A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72CC1-BB8F-4507-B88D-2D655D68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D7D836-ADD3-4C7B-A647-5E8D65CE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4AF41-B309-4DBB-826F-0FCAAA52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AE387-1AD5-4869-91C5-F0D67A4E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AEF1DA-B650-498F-876C-2881EBFF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1E08E6-70E7-44F1-B625-42BFD375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90D6C-CEDA-4B7E-951A-F045B350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49FA9-8923-4786-AE61-84B564BE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AD3-4122-4D8B-8E38-855F94A5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7407C-0ADC-4D82-90B5-AED7A43F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78524D-D4A4-4D69-AE9E-95A57236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19B861-6A40-4197-8B7F-F1B8D773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47808-AE3D-44E0-AFA3-65ED32A9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964B9-D349-4411-A580-76C60CC6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A3AEF-6AED-4789-9E3B-1D5E77B8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E8397-CD10-48F5-AB21-D4A38BFA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D94F6-5984-42D9-816B-C5F48731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FD56C-B470-4770-B736-D2B64314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28BAB-7E5C-4BE4-AF49-FF11BE62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8FF-EAFE-483D-8A07-058769FA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8C0E2-1514-4EE2-876B-50D94CBF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75CB8-C664-451C-AE07-CFD57418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43EA27-E2A5-4765-A1F6-B29CE3F8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0A3A3-D048-497D-9CFB-E10C29079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B49D0-FD5D-4F0B-9DFD-7D50B257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53B46-0281-4645-BF00-4C3B90E8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8F3B1-7EF4-4881-A8ED-9FAFB3D3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FBBB9F-CF64-4C1E-B073-6182668E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17D99-5EE0-4AFA-BF1D-B2670C08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75EE7-3E4D-4953-BBCA-729FA9A2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16F-5EF4-4961-83FD-DA8BF060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CC2AE-5A88-4820-8468-B32B41F2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6EB9E-56A7-42D3-8FA8-6A6F17E1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31D07F-52F5-435F-873A-72F7D98F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451AF9-CEA2-4C6B-9B9E-2073BAC3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93B8D-4D17-45C3-A859-15956FD9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2EC4A-95ED-4455-AFCF-BE12FB1A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A31707-7B00-4387-A4B5-03DF218F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0CCCED-4A5A-47CE-BF34-0EB2714D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2985C-4CC3-495B-BA4B-F86CD0D2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0F718-8DEB-42F7-9967-C13EC7CA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54B3-DA00-4E4B-85A7-37AB6AFAB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FA08-AF47-4DA6-98E9-B288286091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E693-3CFC-4850-AD64-9C5F4233C6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F4A7-638C-4318-85DA-9632E27BC0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9061-2D51-435C-8311-5DE36E8242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1EC4-50B6-4BB4-BCD5-58100581B1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743B-C700-43BD-97A5-B5E0609A24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09DF-54BE-4260-86B3-936322A6AE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D2E1-0FF5-4C7A-8B77-74F9FDC694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C0A3-5F8E-41F9-9667-F2E48AAAFC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2768-A87A-4558-9E99-00B866B0EF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D444-2465-43FB-A223-C377520BAC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ree Characteristic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peci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3628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News Gothic MT"/>
              </a:rPr>
              <a:t>Using the Functional Structure to Implement: </a:t>
            </a:r>
            <a:endParaRPr b="1" lang="en-US" sz="30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Low Cost Strate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Production Differentiation Strateg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4:05:34Z</dcterms:modified>
  <cp:revision>317</cp:revision>
  <dc:subject/>
  <dc:title>Slide 1</dc:title>
</cp:coreProperties>
</file>