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EBBA-310B-426A-ABED-39B856FA7CD6}"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59A7-7D5F-4DAD-8005-4705DB1D5BF9}"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3FE61-FA00-431E-9015-A52364027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755AE-DCE1-42D8-A814-68633EACA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BBDF414-1048-4AC9-9C79-5E4EB8D9CB6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93AD73F-BC9E-4AE3-AEAD-DDF49A02E5D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42EEB5D-2075-41AE-A42D-156CB00B254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65F322F-F167-4591-B55B-6A54D541A56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6BCBCF0-2583-4505-BC1D-F6549AA93E9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36B963C-E143-4ED4-9DA3-B7AACB27CD3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0EC0B00-F059-4653-813C-EDAD65D21C4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D55466C-A3BD-48C0-8B28-83555588F00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31FF526-DDAC-40D4-9AE8-26EBD41F356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DCB8BA0-BEC5-432A-9449-AD3A0D73A49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014F0-ED33-4DAC-92B7-0F71E0014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771A025-7751-4FF0-A3C1-F98A124AA15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E981FE3-FBAC-4F03-B7A2-653D619413A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F529AC2-165F-40EB-BC71-63289109272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F0ACE7E-EFC6-46A9-ADF3-6A5A7C606DF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6E8E5E7-917B-46E3-A75E-A40260CD8C4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7648DFA-894C-428D-A6A6-BC4369CFDB0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988EFDC-0470-4882-AA86-67C867F0C4D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F08ED82-4CA9-4AF8-BEC8-4518A9636A7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C5841D7-05E1-4CAD-A255-3F40BCB591C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0B8AF53-7BC0-42D8-A63E-AA359DF0B1F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EFBC4-3AA1-4CB7-860A-524AEF745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EC3A140-58D3-442A-B4BB-8C6CB139423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2B7834E-582B-4B6B-993C-D026F579954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9941BB2-857E-42A8-8A1B-E0770FD72E1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DC56962-8422-4C2B-AB4A-7CBB6102705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9E13639-2A90-42AF-A893-26153803DC4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04DCBE6-5F85-42F7-A31D-2B71BA81007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4FCCE8B-D8D5-4167-8937-DB9C4B9FD7B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C66BA66-412A-49A4-A76F-9FB5A019E70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DA665A4-7274-4238-B71A-F75280AB40A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64A6CB5-A1C6-406F-8263-301FF5C4975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F388BD-B06D-4018-8D61-CE59393EA50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8880C3F-5269-415B-81E4-2325C318380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5FA48AE-09B1-44C7-AABF-DFC0F0C83F5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DB058E5-772B-4B5D-B925-083E7BCEEA2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CD826F8-76A8-4158-8E2D-CE9D08FFF62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2C5F2CF-0651-4691-8539-51B0F43046F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55D254F-F8EA-46D6-939F-3B3736B82E7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7799B6E-CA55-4EE9-87CD-1C1961EC05F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DA1365C-879E-4DFE-965C-3C7E2197229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ACEE98D-F59E-479F-8792-5FD44342070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0594ECD-EBBA-4F42-980B-1FE8B90A667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F857AA-9348-4AAB-A828-2E302806D26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5638AE1-17BD-4127-9B08-550B3C104A8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E017B6F-0205-4887-A63E-4AB476E9565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C8AF0D2-F748-448F-B599-2E4F55CE27D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2BCB88E-BA42-4461-9C45-C0794F76584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58E3467-A749-4F27-9796-6535FD7194A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CCD13C5-14F8-4E8A-9685-8EC30358A36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BCDF6FD-1977-47E6-8AE8-42A47508446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68B20C4-2BD4-4A9C-A846-D148A422627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56D508A-ACDB-45AD-A75B-8D1CB99CA5B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E0A771A-D01F-4809-98AB-EAF1E7242D1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54BE89-5A6A-4725-B96F-4E0295CB808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BF83097-981B-44A0-9162-D4FE30C3046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6F30759-8A5F-445B-8A81-B0BCBD3D65E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A325BA5-542A-423E-949A-51D333FF472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7A36EFD-A07B-47E9-9CC8-236896BBA4E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77D3C1D-35BC-45A7-AFE8-DFED32287A7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955CC20-5673-4F52-A761-23911D53B55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767DAC1-87A5-42C7-906F-5F155A83366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0D809BD-D16E-42EE-8066-948D57903B4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AE42351-AD98-4F87-AEF4-AF0B5286B53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6471B38-A1DB-40A5-B968-BCD804945E8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3ACBEE-6F42-4D78-AE93-25CA4F35593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5860B41-EFF0-415D-8B8C-3E5DB2BD897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9F6C610-D587-4252-9C1A-7071873ACC0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9D8C1F9-10E4-49C0-9ECD-4904DB4659E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4F57996-5056-44A5-A3CF-70C505F0A13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12E8D28-629E-4DDF-ACA1-5801FEDBC49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5BF566C-49FA-420E-A06A-87D6286739E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FF5EA7B-1B6B-4859-8B3D-A7F42FB707A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5BE22ADF-A72C-4157-B04E-CCBFB196EB6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0C002461-1686-4CBF-AB6B-3E7834CF7DDA}"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770F26-F897-4B95-8475-FB454521CE15}"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344709-1B1C-43F9-8030-98B77A33194D}"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EF1A40-D874-4D40-BD47-80987F7B35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2814F-A191-404D-85B9-D4198FC83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69B625-4C0F-45EC-8751-73D8653B79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2BF196-B537-49AF-8997-6AD6ECC656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E5F4A4-409A-4FE6-904B-2977DEA191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DDC47D-0F09-4AD3-B6C1-967E4343B5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778F02-0103-4883-BC88-7C95CCEB666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5EB42-D11C-45E2-AC7F-46F228AD0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5D596-5D69-4216-85F3-1C290261B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7388298-BBC9-4DA4-88A3-8A9FFFAFCC5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6B4E5-1C39-4EA0-B739-7C54A5D19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CF844A5-7C0B-4322-B1ED-EAE1FD6D304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980B0F6-7DE1-4AA6-9F43-4A363BCE7E2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4C4CB75-7BFD-4E07-AEFD-850C9B61345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73EA732-0527-4EAE-87BC-8BD1D5B01CB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C3391D4-066A-4B86-A103-71EF7616CD3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E8F098A-2D85-4E58-80FD-02611C3C93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12485D0-445D-48C2-B9CC-52687BBD28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22AC57-18C2-46D7-8867-4330A78048B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046CD2F-B07E-414C-A553-67D61452BF4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86E83D1-E9A5-4072-9B15-3BB8C667F71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B9629-69C5-41BC-9451-5D5C0FE8C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4C93FBD-BD8D-4E8D-A057-1B8237070F9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73EFCE7-E6A4-4803-BE7A-EF74D7E03F6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77D40A6-6EBC-457D-A8AF-83425DD85F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D69CD06-4843-4542-90C0-B78228A748C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23CD186-9FE3-4169-BAEB-9A2AA6D781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AC55119-161A-40A5-BAF5-56EF5E08713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445D0AA-6610-468E-9568-B909722D98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8A2C1BE-E86B-47EB-B98E-FB8E825EF3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EF37D7-584A-46F4-AE61-435A7C8F509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E142C1D-E864-4530-B4DF-C9B091D307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7ED07-17FB-4DFC-8ABE-27CED53D9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53D26F0-A102-477F-85A3-38C0B2B71C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EF6DB98-3473-49B2-B87E-D0022BCACBD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2B21A6B-CF23-44D2-BC63-0C92BE84CFE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0CC2945-1534-4B74-910C-4CEBBD19062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AA8E7C9-C4A7-49EB-82C7-7FDD35E265C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3C838A0-9C36-4A46-AEF7-790467BFBF6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7999BA1-F43D-46AC-B47D-6E1F9E5C50B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9659D7E-C8FD-44AA-B72B-D47C4CE8095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4310560-74DC-4BAC-AF53-1318BF92370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6CF5597-F391-4E00-A9DD-3811C5587C5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91E86-3C15-4F0D-A37B-C6D4BDDC1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EC53C20-7133-4B41-9322-002433936D5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7876986-73BB-4D96-AAD8-2F0677D2CD3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0746D26-A830-463A-888B-AE1180DF131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94A2EF1-81E6-443A-97CA-0C7646184E6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D362F18-EB15-48AA-AA9B-D488B140558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0C404E3-5129-4CFB-89FA-C95900559A1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ED92C03-D5D8-435C-93B5-95B4EEBC7C7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1ACD530-4173-462A-BE5D-BC80BBC902C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9D9083B-0108-4326-AE8B-3CD7B7E7EDE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64BD1DE-8047-4856-B79F-FC0094EC685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61ED6-A10D-4EF3-9C09-1DAE9C7AA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F7804A1-62B0-408E-AA60-93B1357610C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8EDBA05-D0E0-43E5-A62C-4712B13B2E4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D052C41-CA5C-4BF9-8D2E-7E01C8B9F5C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D5D3878-C467-434F-A89A-F9D91351E54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732D8EE-675C-4F1A-9B95-3C58405EA59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CB5DA58-4612-482F-911D-B090D6E4C4C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8CA71A1-3ED9-4C56-B17C-3F187956FDA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19B0DB6-FC1D-48F3-BD72-4FADAD303D1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896235E-D8C7-4FC7-BA59-E9AB030EC93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AA5423C-F3D1-4C4C-B5DA-E4F4A2170DD9}"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19CC2-D8C2-457A-A1FC-0714475CDF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281A9-392C-4C3B-9A79-462E98AA5B4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13C6E-D877-4FE0-9EE1-E3979FFC514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D9A5-F31F-4CE6-AB6D-1945A0B6A83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03F68-37E6-46A2-82F3-3F6346BCAE8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7907-22ED-4D51-9BC8-9AFF0BB40E5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9D26-AD3D-48F4-9079-AC09D169A93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CD69-D6DF-4564-BC5C-62D118B1416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80B8A-52B3-41D9-A504-8E27A518F1F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5D551-9F22-4179-9B20-90B6D41EA94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D5AB-9D6F-447F-B165-6BB64F05E7D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72DD-95BE-45BA-A67F-DE778BB2AA0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Vertical Integration </a:t>
            </a:r>
            <a:endParaRPr b="0" lang="en-US" sz="32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within Diversifi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irms may use one of three “forms” of organization to manage economic exchanges.</a:t>
            </a:r>
            <a:endParaRPr b="1" lang="en-US" sz="3200" spc="-1" strike="noStrike">
              <a:solidFill>
                <a:srgbClr val="ff0000"/>
              </a:solidFill>
              <a:latin typeface="News Gothic MT"/>
            </a:endParaRPr>
          </a:p>
        </p:txBody>
      </p:sp>
      <p:sp>
        <p:nvSpPr>
          <p:cNvPr id="662" name=""/>
          <p:cNvSpPr txBox="1"/>
          <p:nvPr/>
        </p:nvSpPr>
        <p:spPr>
          <a:xfrm>
            <a:off x="549000" y="19051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Market (e.g. trad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Intermediate (strategic allian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Hierarchical (acquisition or internal develop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What is a strategic alliance?</a:t>
            </a:r>
            <a:endParaRPr b="1" lang="en-US" sz="3200" spc="-1" strike="noStrike">
              <a:solidFill>
                <a:srgbClr val="ff0000"/>
              </a:solidFill>
              <a:latin typeface="News Gothic MT"/>
            </a:endParaRPr>
          </a:p>
        </p:txBody>
      </p:sp>
      <p:sp>
        <p:nvSpPr>
          <p:cNvPr id="66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 strategic alliance exists when two or more organizations cooperate in the development, manufacture or sale of products or servi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Strategic alliances can be used for either business or corporate level reason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107640"/>
            <a:ext cx="83822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0000"/>
                </a:solidFill>
                <a:latin typeface="News Gothic MT"/>
              </a:rPr>
              <a:t>What are some types of strategic alliances?</a:t>
            </a:r>
            <a:endParaRPr b="1" lang="en-US" sz="31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supply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distribution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joint ventures (cooperativ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ea typeface="Times New Roman"/>
              </a:rPr>
              <a:t>What is corporate diversification?</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Bringing more than one business within the boundaries of the fir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Remember, diversification  may be horizontal or vertical.</a:t>
            </a:r>
            <a:endParaRPr b="0" lang="en-US" sz="28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9BC2869A-29DE-4D48-9DAF-2A51C3997A50}"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rPr>
              <a:t>What is trading?</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Dealing with customers and suppliers.</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lthough trading creates value, it is also costly. </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se costs are called transaction costs.</a:t>
            </a:r>
            <a:endParaRPr b="0" lang="en-US" sz="2800" spc="-1" strike="noStrike">
              <a:solidFill>
                <a:srgbClr val="595959"/>
              </a:solidFill>
              <a:latin typeface="News Gothic MT"/>
            </a:endParaRPr>
          </a:p>
          <a:p>
            <a:pPr marL="345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ea typeface="Geneva"/>
              </a:rPr>
              <a:t>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BE9F74E8-9D91-4C9F-94C7-2655411203A0}"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19" dur="500"/>
                                        <p:tgtEl>
                                          <p:spTgt spid="647">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647">
                                            <p:txEl>
                                              <p:pRg st="2" end="2"/>
                                            </p:txEl>
                                          </p:spTgt>
                                        </p:tgtEl>
                                        <p:attrNameLst>
                                          <p:attrName>style.visibility</p:attrName>
                                        </p:attrNameLst>
                                      </p:cBhvr>
                                      <p:to>
                                        <p:strVal val="visible"/>
                                      </p:to>
                                    </p:set>
                                    <p:animEffect filter="barn(inHorizontal)" transition="in">
                                      <p:cBhvr additive="repl">
                                        <p:cTn id="24" dur="500"/>
                                        <p:tgtEl>
                                          <p:spTgt spid="647">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4" end="4"/>
                                            </p:txEl>
                                          </p:spTgt>
                                        </p:tgtEl>
                                        <p:attrNameLst>
                                          <p:attrName>style.visibility</p:attrName>
                                        </p:attrNameLst>
                                      </p:cBhvr>
                                      <p:to>
                                        <p:strVal val="visible"/>
                                      </p:to>
                                    </p:set>
                                    <p:animEffect filter="barn(inHorizontal)" transition="in">
                                      <p:cBhvr additive="repl">
                                        <p:cTn id="29" dur="500"/>
                                        <p:tgtEl>
                                          <p:spTgt spid="647">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5" end="5"/>
                                            </p:txEl>
                                          </p:spTgt>
                                        </p:tgtEl>
                                        <p:attrNameLst>
                                          <p:attrName>style.visibility</p:attrName>
                                        </p:attrNameLst>
                                      </p:cBhvr>
                                      <p:to>
                                        <p:strVal val="visible"/>
                                      </p:to>
                                    </p:set>
                                    <p:animEffect filter="barn(inHorizontal)" transition="in">
                                      <p:cBhvr additive="repl">
                                        <p:cTn id="34" dur="500"/>
                                        <p:tgtEl>
                                          <p:spTgt spid="6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ransaction costs?</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are the costs of time, effort and other resources necessary to search out, negotiate, and conclude an exchang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reduce our ability to gain from trades.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Despite strong incentives to cooperate in order to gain from trading, there may also be strong incentives to cheat. </a:t>
            </a:r>
            <a:endParaRPr b="1" lang="en-US" sz="3200" spc="-1" strike="noStrike">
              <a:solidFill>
                <a:srgbClr val="ff0000"/>
              </a:solidFill>
              <a:latin typeface="News Gothic MT"/>
            </a:endParaRPr>
          </a:p>
        </p:txBody>
      </p:sp>
      <p:sp>
        <p:nvSpPr>
          <p:cNvPr id="652" name=""/>
          <p:cNvSpPr txBox="1"/>
          <p:nvPr/>
        </p:nvSpPr>
        <p:spPr>
          <a:xfrm>
            <a:off x="549000" y="1828440"/>
            <a:ext cx="8042040" cy="4419720"/>
          </a:xfrm>
          <a:prstGeom prst="rect">
            <a:avLst/>
          </a:prstGeom>
          <a:noFill/>
          <a:ln w="0">
            <a:noFill/>
          </a:ln>
        </p:spPr>
        <p:txBody>
          <a:bodyPr anchor="t">
            <a:normAutofit/>
          </a:bodyPr>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Opportunism</a:t>
            </a:r>
            <a:r>
              <a:rPr b="0" lang="en-US" sz="2800" spc="-1" strike="noStrike">
                <a:solidFill>
                  <a:srgbClr val="ff0000"/>
                </a:solidFill>
                <a:latin typeface="News Gothic MT"/>
              </a:rPr>
              <a:t> exists whenever there is an occasion to cheat.</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Governance mechanisms</a:t>
            </a:r>
            <a:r>
              <a:rPr b="0" lang="en-US" sz="2800" spc="-1" strike="noStrike">
                <a:solidFill>
                  <a:srgbClr val="ff0000"/>
                </a:solidFill>
                <a:latin typeface="News Gothic MT"/>
              </a:rPr>
              <a:t> (which are also costly) are put in place to minimize the threat of opportunism. </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us, firms must seek to simultaneously minimize the costs of governance and the threat of opportunis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two primary characteristics of an exchange determine the threat of opportunism?</a:t>
            </a:r>
            <a:endParaRPr b="1" lang="en-US" sz="32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transaction specific invest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uncertainty and complexity in the exchange.</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80880" y="108000"/>
            <a:ext cx="8382240" cy="1339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wo types or forms of vertical integration?</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Forward Vertical Integration</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Backward Vertical Integration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form” will a transaction take?</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form of a transaction will be one that minimizes transaction cos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Consider the need to trade for housing and food.</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Why do most people own their homes but do not own a grocery stor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4-05T13:45:34Z</dcterms:modified>
  <cp:revision>324</cp:revision>
  <dc:subject/>
  <dc:title>Slide 1</dc:title>
</cp:coreProperties>
</file>