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FEF1-0117-433A-BF17-0733E6060D0A}"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0139-7FF6-43E2-AA87-6CC2C2E13E0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7B289-8BB1-434B-AB31-18AE3417B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BE0D9-C77C-4DCA-A57A-6D3303AE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B42A9DD-02E3-4584-B5CA-2613CCD786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8B0E8B9-F4BA-4D7C-B00C-DAC84D029EA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B19EEB2-DCE4-4382-BEDF-B92A38530DB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C89EA32-E653-47A0-9197-91FEC540E4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DE04B6-DE16-4DBB-955F-0A86606666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F19C87-18B5-4D7B-85F1-01BE7F04ED6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9B8F5F1-E37D-4A0F-9297-DB76A5701D6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CC09DF8-A235-4263-802C-B5DB0B4478B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37BF3B7-4174-4BDB-9E65-53ECEF12E36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68CB0E0-3C6C-4786-AE8B-C0E3BCAAE5A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5FCF2-0A77-4203-B8FE-2642024EF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99A6A6-D5D1-499C-B20C-3B53C595D1F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5B70AA-4221-449A-940A-D3EAA519A5B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81F9CFE-6A7C-49E8-ACCC-D1327EC81E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CCF02C1-EECC-4094-92B0-36D12697D1E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0512B4-7A9D-49C6-B2E0-FD343E44AB6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4A9181-EEAE-4CFE-9F78-6A81968C470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3D753C1-CB7B-4256-B9F4-5CDDE68BF1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7AA535-B718-4F47-AC41-3169D287E2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7BD4C5-45B0-486D-8A0D-2ECA5DE01D3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CD9C9B7-E9B8-4D6B-BF8A-499CBB8C34D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B325D-E7DF-42AF-9626-CC5F8382F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D9F28B1-B207-46A9-8CF8-E546B16EBAB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8FDC1D4-AC7C-4AF4-AA9A-DD9E0DFA306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517B28-D50D-4B4C-9C74-7E5550AF7FD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06D662-77EE-4B08-BB86-EF17496B3FF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564F674-CDD6-4495-A9C6-030273F1DDC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38FFF9B-3B68-4E26-8E28-9C4256C89DC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EEBD79-0573-442F-83F5-9730B5F2F0F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7E2226-421A-45C6-B284-A9276508AE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D18DA0F-3C95-45C5-A1C1-B826252D8C8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6B70A7-4A59-4F82-9CE9-E1DD3A27FD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33458-DAEC-4B14-98CA-080473B1157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F3EE422-186B-45BF-941A-33F22C13C39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446C0BE-3023-41DA-98D6-C28619AB26C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B9B4F4B-B459-485C-A88E-0DB5FA36BAC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1BE2A88-A091-418D-9A8B-4259F7C7AC3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AD690D1-D8F4-421F-9BDE-8BC1BBA8AE2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9D5E83B-E058-4954-9688-2B778EF2F0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C5268AE-B92D-4E4E-9C19-75A8B70B9E8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4985424-529B-4160-99E2-BBEBD9E7CAF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235BDB-6AC8-4AD4-8C47-1B7F81A8AF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BE1C84-6AF1-4BAF-B897-D605D7C8F0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411251-D354-493D-82C5-49307246245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3DB2077-5AFE-4953-9A0F-44B23CAF22B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1320DB1-059A-42C1-B35E-C14C33B4C8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CAE2BED-34C5-453F-9E76-26C10E4D20D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EA077CF-36D6-44EE-AB3D-DDEDA84AB04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692DBE0-5395-47F4-B8F9-158C787DBE2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0E596F2-7073-488F-9A2F-C36C6CDA48B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4A6A161-3020-4B4E-B917-7B85481A953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345EA65-2A2F-45B7-856E-DD09F30DD98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5B32410-043C-4514-B31E-F5CE2D69BBD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3D96BFC-9085-462D-B91F-8E089D058A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C9435-BC0A-4CFA-AB75-7A2FD1BA396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7D41638-8EB7-4123-833E-865D72ECD58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1D7AEAF-0F66-4C21-9183-127B8AABC33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371AD36-930C-436B-A539-5E3F1636AD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3FB79D-319D-49B1-B5C7-8FE368C3394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555E40E-7E5E-4EFB-9DCC-CDEB0C331E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E92B03E-CBD8-485D-8051-252B2A4DC87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3A73CBA-481E-4126-99B5-7464F50F659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C5900CB-127D-4B87-8020-F7A2CDC43DC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B5B32F6-5963-4D60-8217-4F844836E2A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691888D-CC88-4425-A7C2-561D1A17A3D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8AFFD4-C7FA-42E6-8025-61D96D3152E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BAE4227-697E-4C67-8C63-B65243F8B96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828CDA6-0EB8-47B2-A328-812B9C1498A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8C9CEE8-D43A-4FB8-AE93-3EDD3E80B45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C98981E-9556-48CE-956D-4B64C639EBE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4CFC8F7-46DF-4415-A491-A3167CB5381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3A72EF6-062A-418F-8384-9D35FF384C4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F6D75BE-9209-4E29-AF93-E47B578EDB3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295CBFE-7114-4A3A-A13F-1C0D4C1E66E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07E63C1-5F06-4D65-A91A-5A1EA0D3D12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C3E2F-60F8-4328-98B1-B498BA8DF30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DCEF88-9217-43BC-BB49-B8F951A180B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46C9C3-0EE8-4644-B8AF-D004221941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E855C-53D4-40C9-8987-F188F73E8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6078C-6FE5-4BA9-9DB4-CD698FD215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05E41-2C42-4AC1-967E-AD010998E1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7B1B7-2D15-4DAF-87CB-E2CC66D561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3AA3F2-C80C-4EBD-A9A2-01B990E7D9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511F78-14C3-4F28-A429-7E6E259AD1D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EE8E2-CB2E-4433-93E8-9C6313DC6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21FC8-882E-4EB3-B498-79E5D8912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3BBE0B3-2FE4-44C1-950A-16C92B927E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878DA-9BB8-4831-861A-58A739F9B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C7B717-71E2-401C-8F1E-7994D1C9FA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71E3EF-5E78-406B-8ACE-B7D0410BF5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2BB710-2D36-4886-934C-BDFAF69F41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F3BB1D-E76B-4473-AF9E-BC05812596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67EC0F-AD18-4E07-B270-37B91DB9A2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B1F31C-FB2D-404D-A80F-E411EA701E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AA04FA-7C25-48E5-B1AB-15E9D91AA8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D4F2EC-82E8-4D5D-A3D0-9FA9B58E21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A6F920-11DA-4A85-B46F-0A8883D27A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0ACC56-17E6-4CCB-A3A1-8B34530036A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D8D2E-2BEE-43E3-ABD0-D96218662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7298A3-6F66-4E78-A12C-6D9D4099292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A14225D-99F9-45C5-B649-7E7C78BCC8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E8AB26-0CE7-4AFB-A201-6AAD9D8DB9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11A19C-5DCB-4C68-B949-9FCA7818BE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B9CD9F-31BB-402B-AA1E-721738F7D1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72906C-33E0-4F5D-99F9-12749DEBB1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BC536A-17A1-4701-A303-7E0B2B73DC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CC144B-2D78-4A57-869C-F5A004793F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D42DA1-C94B-4630-AADD-CF6CF5CCC4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ECB890-B2E8-4F85-B7A7-8D79312B76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BF4C9-461D-4187-B95A-8B533AE3F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D8565D-262F-42A7-82B6-04ABB8D6CB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65CCCF2-40C8-4923-864F-CA7255E39D5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CD1DC3-816B-4614-8B6B-A99CAD2924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F669258-04C2-43F3-A981-C7F3FCECD50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D0A738B-0277-46E7-9141-33BE7D4FF3B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3F4080-21D4-4617-B33B-B6A75C0FC77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59F2FC-9C66-4C0A-9DA9-B25E515580E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AF5699C-3D42-4724-A11A-023F136BDE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022260-5412-4E8F-A65F-36ECCDD79A3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9E20C5E-98C6-4A94-B0E0-F20A5523AB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3F93-7AB9-4B67-8841-10AF072D1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8F10F0-4031-42F4-A671-AF8448A2B2A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4F2A45-03B8-4DA0-9AEB-E2FB52723F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320246-72F0-4DBF-B0B6-C9ABCBA60B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AC60A46-0C31-4A59-A8CE-F1D4BAD4348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D44A37D-C949-4513-BF92-358EFA052DA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F12BFBC-A6A0-4937-ABF4-9E88908C4B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8DE2C15-7D2B-402E-928D-0DEBF803A1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849B752-3528-4520-8920-1364F0A865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2E0C43B-4970-458B-A3F1-6923616EB9B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474037B-8221-4F2B-B2DC-713EA5B527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E8CB-7192-4991-A00C-B3E923CFB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D773882-11BA-457F-9F79-27047D2DC44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C93888D-32F5-415F-B5F1-5F2FB221FD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D2691C-5280-4D3B-8C5B-33BE5553D09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62AF4D-5C06-4155-87D1-C58A1124BB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B59BB0-2BF6-458D-AE77-0764FC736C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8E21536-278C-4604-803F-3288129F63B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F12F87-7B7F-49D2-84D9-8E964C57064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976A094-5217-44D9-9654-C6BB2D507AA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65AF69-7072-4766-8D09-FAAE6B03F3E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B264E7B-CBD9-4906-A69D-D9EBB04F56DB}"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9AA4-4C75-48B2-B000-901CB4A7E3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CA26-8C09-42A3-9301-19D8BD7F64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72EF-F2EA-4466-BD4D-8947A98D7E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0364-853B-4D11-A42C-42048032B8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8C0E-FFCE-4D8B-BDC0-33D02322AF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AD86-4F17-440C-B761-82C13E6FE16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A5C4-AEA7-4B2E-9FC2-BD2676FD6D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65FE-A986-48E7-800C-31A3705B64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1EF3-BF6B-4662-BD2D-C12B8012CC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467E-4338-4A37-A2DD-7AF983EBAB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1C65-D77B-4EB2-BF41-050EC574AF4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A3F8-ABB7-4266-8B1F-86CA22E9E2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 or internal develop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DCBBF0F-B01C-4689-BFC3-53004D945D6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926B5911-EA8D-4E01-ABE8-0A69EA1C5F1F}"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05T13:45:34Z</dcterms:modified>
  <cp:revision>324</cp:revision>
  <dc:subject/>
  <dc:title>Slide 1</dc:title>
</cp:coreProperties>
</file>