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3A3F-B3BF-4579-96F6-D6F2D17E7850}"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CF03-10CC-430E-A5C9-35275445958D}"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183E2-F672-446A-8FDB-4499A3CF7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7E47E-6692-4E56-B29E-8C2B456D9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891598B-A6B1-470E-BB1C-927E646AF11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C65E590-9597-4355-8D16-37496A57DE7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578764C-4F66-43DE-98F5-50F1CC9B559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329BF38-D8D5-4E11-B620-2CCC79B19E8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5905BD1-6A4C-42E7-A5CF-66C3DD90D58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6095629-ABCB-48BB-AD13-36F12F1E721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1E2349D-3643-44AC-AC0F-1270B8B6E5F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22D1ADB-85C5-47DA-8877-0333932678C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28B065E-A784-468F-959C-CC3C9C4594E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F003DF7-F390-4245-84B7-381907B72A5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43D7B-7F2D-4E47-9415-380DD3E05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C7DB47D-5B9D-4954-8768-4C38EAE7FE0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4EC0BCD-4413-480F-9BBE-0E6D1F5224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288E1B0-3B57-4DBF-BEC2-E5AB001F0B9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ACAD8FC-5CC4-414B-88FF-F5CC3C6C58B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DE7F54C-A8E4-43AE-ADE3-110A30B89ED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B23C49E-D3B4-4218-80C6-460296C79E6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81245B2-6670-4CE0-809C-C279FC25E59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954195C-ED79-4007-97B7-468BD10CD0C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61D7E9C-EA6B-49D6-B7B3-9F6F6BC8791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385675C-41A8-4AAF-80BD-789BDB9DF1F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9E40D-B195-40B2-A9E6-18DD7294E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4B695C7-62F2-4712-B5DA-D9D96BF7536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2EABE45-A288-427D-B5A2-E2FB37BF51B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CF7C3C5-46AC-421A-8147-DB24386F96E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50619E8-DEC2-4E36-A64D-9DFFED6D619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5AEFA93-487A-4797-AFD5-DE7A53D6D5B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A27D3FA-AC4A-4FFC-99EF-7BEFB4AD0F8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2251386-872A-44E9-BC04-0A2258130D0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37BD910-B1DC-4739-A96C-B835F1F1976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BE085D-7FBB-4798-903B-D4855384AFD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47D5AB5-0702-4C5A-828E-10F38243D5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7D29A5-1718-42C1-BAAA-F98733E645E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F00AEB7-EF91-48A4-B975-5B99C4F97BB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BD911E5-61FC-42F6-AF8E-B6F2D3C04AF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852C188-D34B-4337-8864-5F6FA5F70E5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FF29E30-B159-4D04-A20C-0215EE1DF1F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4F91B5A-DD71-43AE-AD7A-1A225AC8DF9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7A55128-9757-49C0-A138-C6CE69CE32E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C31314D-350F-48F6-B620-9301225CA62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B7E4E5B-4E27-4DAF-9B9A-C0E2E8A921A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DA87312-8B42-4788-BF1F-881AF143D7F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702A41F-246F-4B32-898C-C76BEDB1FCB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976619-70D3-447A-B495-747EF755912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DE91CC1-A470-4EB5-A77D-CC256683E83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F1D13A5-5FBA-4D74-B97A-9726657CB9D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37E97E1-6725-4167-8E38-D011AB9992E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9ED2F75-3E0F-438F-9FF4-F2266C16A78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F451C7C-7178-4B70-867E-3D2DB9928A2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E6AE6CA-B34C-4D3F-A56C-E42CC503C7F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E2E720E-9118-41FD-8381-377D5BFE106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361AA34-2D8A-4F3D-95AE-CEFFA46E405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E13DBF0-F8EC-45DE-ABC1-8BB51067DA8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8362AF2-3C9D-4DCD-9477-92545422818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E38EA2-DBF1-4636-B38A-146401CFD93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75FC620-A81E-4F96-B302-4877541FAB5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292CC5C-2B33-4000-B7C7-EAD3CF25CC5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F6886AF-3813-432C-8D4F-E1373F6AD90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BBC95AB-6086-4605-96A8-5A7D2BB2640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3543231-1C9E-407B-9B7C-21A31A6949C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0B6F17E-ACA4-4512-895B-670754ACE2B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1645A0B-FEFC-428F-AB96-4931DC7B3CE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179E502-94D0-4118-9F50-BBD861507D4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B41C067-A9C6-45C8-8A77-238D0DBC99F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771D380-FA3E-4E25-8F2E-752F2FA103F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92026B-4F63-4534-B80A-97C6EC70993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62E64D4-73BC-46E6-BCD4-3216C47D26C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5813CE8-9A74-4A66-A602-508F9F53631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EAD46C9-E9CC-4ECE-B12F-54EEFAEF9B7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0B0200A-0465-4CFA-8AFF-399223BB566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093DC87-B8C0-4EC5-BC51-A67C913439B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5BE56BA-A54B-48A9-A1AE-9A95093D6D4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D8A71C8-FA33-48EE-B364-6C4677CADE5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75437771-2FDF-460E-B8F0-D5FAF103238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A1F41A4-3611-4EEF-9D73-B930DDD1233D}"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ED470D-0F35-4986-A31F-29363B50ECB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E9702C-890C-49A9-A3F0-739570B7BDD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74EEA-9ABD-4212-818B-D196D9B498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DB819-67D7-4273-BB05-16658760A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CF1EA4-406C-4FB5-9DFB-58BE9D8B3D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21ABCA-8444-4C8E-BA7F-8C20F9E22C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F7C19E-DE3D-47F1-9ED2-68CC88CF9C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7CEDA6-69DB-465B-BC7B-BF8236E10E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ECD94F-6C8A-43FA-8A49-042CE7E2535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F368F-A5FE-4149-BAE0-DAD347590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01C68-DFF0-42AB-BB5D-2195030FE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5F8B186-CAAA-490B-97C9-67030791B41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5A7B3-E552-43BC-8323-357A6E5F7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5E29AB6-0C59-4DF4-A341-0DE8C46D99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7AF87C-8A02-4379-AF6D-5EFAF5E3727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7B83E6-24E1-4F30-A4E3-F520B1E2031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CF49749-4BD0-46B3-8BE0-96A4CF0C0BD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7B51682-C573-48C4-9508-66AAE8FE52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097EE0-A255-4B10-A0EE-5481E965C3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8EDB96-8FD9-4A26-80BF-47E66B6D52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8206E3-9D00-4F0F-AE95-C46EF7BB45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D965C2-3D29-4548-AE45-927D967443B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64BA6C7-AD15-4C0A-AD7D-E8E965132FB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6FC20-322F-4DB0-9026-00FF64F46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685EEFA-B609-4582-8C57-F8971D5A5F7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06414B1-A624-4CD7-92CA-3B91A722E18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1F91AD-A01E-4AB0-8C2C-F30E83BD4C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B0DA384-2E56-4C6A-BEA5-7081BB233DB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EA0D22-9C9A-40C8-B230-D29CB00CDF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CFA061-AA48-4350-8581-A842A579EB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490F93-F8C3-4DE4-BCDB-4D28850CE1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63C4BA-2FD0-413A-81CC-35528D8F79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9185B1-BD1F-4F83-9DDA-F37240FBFF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C2768C-2EB4-41C7-B3D7-299442A15A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A1677-4B72-43BF-B6DD-02CCB1028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633EF5D-0E66-43AC-993C-E3C4C490DA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8889778-5A5F-4953-8291-D8636A9F477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9EF27C1-3259-46D6-9D10-95E17B59D54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F528DCE-6826-4B00-8E92-00D89CC6914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82E9FA2-6516-49BD-B7F0-DA0AEAC7782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C9D56CB-70D7-4195-9CE1-95D638B3B93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CEAA7F5-211C-41D7-85AF-CA3FD600E2B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A46FCCB-70C3-4211-96DE-97C11C8786F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0127ABC-9E52-4A37-958E-EA76C8E20A5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B651BF-1906-4837-9EAC-AE3B745C3B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7FD4C-C2FB-4130-88CF-BD357009D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4D881D8-EAED-4A76-A364-908A6925103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3F7E9D0-6E07-4E3F-A0D0-525BCF9C3A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6B202D4-2EF4-48DE-B6D0-3337E37ED7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F209981-B965-491E-8CE3-A8DD45006C5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C7724CF-46DF-4E2C-BAD4-CE8F706F65C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DE3AFCE-AC82-497F-BC5B-965DD1A7883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F4C24B6-53FF-43D7-AA78-6A410C8D515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549D755-4BDF-4634-B51E-8A8ADADA60F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205A1B8-92C5-451A-A04B-8008131B8C3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ADD51BA-C002-4CBA-B1DA-B6D8D94E893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49312-C98C-442A-9B9C-04C3C75D7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5E5B782-A7F3-4F72-8E71-92D019302E4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12D10B9-7A60-4115-B6F8-677D01318CD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2D0DFC6-7208-4088-A875-1FB31C3BBBC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CC0363-EEAC-42CF-BBC7-B5D2A514AC0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114C7BE-E907-4456-B360-4A2680D8B43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62C5ED9-4140-40AE-B5D1-A8C2E50260B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368404C-147E-4237-B136-82297063E66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2EE2238-301A-40AD-98FB-42AEAD3A0EB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A5412C7-B1A0-4C39-9077-BEA8FB01D56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E8087DD-0BFF-46B9-B7DB-F4E511820AE7}"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D311-0A2E-4A1E-BECE-284DF978ED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3DC1-20C5-4AA6-8508-CDD06E82147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A246-BC87-4EB2-9E2C-653BD94809E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44168-3D1B-4849-A47E-AA7A9334524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DEB5-49DA-4908-B6E9-96545C758DA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CA37-2A96-489D-99AC-05E15E46F89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E8E23-4276-49C6-A58D-CFD39E4364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2B1B-F124-4A6B-B78D-FEC8ACAFDB1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6BD8-0752-4A67-A7AD-81354B9E9D4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394A-98F0-4A73-BCCC-C6902CD06EF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D789-62E6-469E-BB21-5DF11F5C463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CAD4-8FD2-445A-B44F-CCAC5048B7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 or internal develop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786C24E0-18E5-44E1-BE4B-F2808B603B09}"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3B4BEA4-75BE-4864-BFC6-659BD631F91F}"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4-05T13:45:34Z</dcterms:modified>
  <cp:revision>324</cp:revision>
  <dc:subject/>
  <dc:title>Slide 1</dc:title>
</cp:coreProperties>
</file>